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gif" ContentType="image/gif"/>
  <Override PartName="/ppt/media/image9.gif" ContentType="image/gi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273-574C-449C-8E1C-6EFCA5E5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4B8-CA4E-4805-9EF3-C0F2A74A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E63-5721-47D6-86FC-806F9B31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212-8E36-4326-BA75-74C96EB3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2C6-5879-4094-A12E-800A2A17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FDB-B2BD-40D1-A44B-BEC9A8A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6B9-DAA1-4933-96CD-C61F322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B84-D43B-403C-A9F2-1292B4D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509-6D1B-478E-A16F-86F74D6C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4CA-53C8-48C1-A358-93A2CA4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BDB-5172-4C35-958B-8CF13EF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479-2243-4BD9-916C-3AD42BB7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27F4-D1E4-4143-921E-8383D8E2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3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0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ing is a cat with a big gr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og has to sing a so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Bat Learned to Fly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2544840"/>
            <a:ext cx="51814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i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a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ha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76688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24280" y="1523880"/>
            <a:ext cx="401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</a:t>
            </a:r>
            <a:r>
              <a:rPr b="1" lang="en-US" sz="3800" spc="-1" strike="noStrike">
                <a:solidFill>
                  <a:srgbClr val="bbe0e3"/>
                </a:solidFill>
                <a:latin typeface="Comic Sans MS"/>
              </a:rPr>
              <a:t>asha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bad about having done something wrong 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99cc00"/>
                </a:solidFill>
                <a:latin typeface="Comic Sans MS"/>
              </a:rPr>
              <a:t>How would you look if you felt asham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0" y="1593720"/>
            <a:ext cx="4286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used about something, you were thin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Comic Sans MS"/>
              </a:rPr>
              <a:t>How would you look if you were musing over some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43120" y="26820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u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47968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3920" y="1294920"/>
            <a:ext cx="441972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soared, you flew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y high into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air.  </a:t>
            </a:r>
            <a:br>
              <a:rPr sz="4800"/>
            </a:br>
            <a:r>
              <a:rPr b="0" lang="en-US" sz="4800" spc="-1" strike="noStrike">
                <a:solidFill>
                  <a:srgbClr val="99cc00"/>
                </a:solidFill>
                <a:latin typeface="Comic Sans MS"/>
              </a:rPr>
              <a:t>Pretend you are soar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496960"/>
            <a:ext cx="4038480" cy="2732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oa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nouns that name one or more than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he showed Mouse the way he liked to hold the ball, Raccoon style, under his bi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ead your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en you jump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rm = names one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Arms = names more than one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 and More Than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about a time when you were walking outside.  What interesting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d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w one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saw man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that many plurals end in -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9343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15200" y="1522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dialogue is a conversation that is written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tences have exact words people say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ation marks (“ ”) are used around th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 (,) is often used after the exact word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tences have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You and you partner choose a focus for this weeks writing. Draw a picture of you and your partner doing an activity.  Imagine that you are talking.  Practice what you would say to each oth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Counting on the Wood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-36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phthong /ng/ ng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phthong /ng/ 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0512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ends with the /ng/ sound, you hold up your thumb in front of your chest and say /ng/.  When I say a word that does not begin with /u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ng/ ng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83120" y="1752480"/>
            <a:ext cx="29829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286080" cy="492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34080" y="1295280"/>
            <a:ext cx="315576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ng/ ng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1447920"/>
            <a:ext cx="525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4:46Z</dcterms:modified>
  <cp:revision>74</cp:revision>
  <dc:subject/>
  <dc:title>Slide 1</dc:title>
</cp:coreProperties>
</file>