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012-D683-429E-8EBB-46FF5C51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7A53-EE3B-47DF-9753-404645B3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53E-C58F-4361-85E5-72A27732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28B-434E-470F-8C23-06D1B3B0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291-B2DB-4599-B4D6-921BDB5F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C21-7755-4E54-B932-B317801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C03-F870-4D0C-81B0-2F6D9B3B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06A-D9AE-4B1C-B92A-F8C5CE1C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707-ED2C-41A2-BF72-3FF02A98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CF5-EFBA-4DDE-8C32-1F80042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94B1-4B7E-46FB-AEB8-D75D2B4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AE3-348F-416C-AF2D-8FC9AB9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C23E-5548-478E-9A05-6BB0D97E7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acher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86764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990360"/>
            <a:ext cx="312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sson 10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66720" y="2666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vember 5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1828800"/>
            <a:ext cx="5867280" cy="3106800"/>
            <a:chOff x="1371600" y="1828800"/>
            <a:chExt cx="5867280" cy="31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586728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1371600" y="1828800"/>
              <a:ext cx="5867280" cy="3106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716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soccer ball to go to think centr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hlet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wkwa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per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19720" y="2057400"/>
            <a:ext cx="304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thletic person is active, strong, and able to play spor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228600"/>
            <a:ext cx="4724280" cy="15876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85800"/>
            <a:ext cx="403848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thletic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298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457200"/>
            <a:ext cx="4056120" cy="10666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53352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wk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1600200"/>
            <a:ext cx="41148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are awkward, you move in a clumsy, rough wa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880" y="2133720"/>
            <a:ext cx="329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876920" y="1828800"/>
            <a:ext cx="396216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something is superb, it is the best it can be, or excell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2640" y="266760"/>
            <a:ext cx="4780080" cy="1449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44578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superb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292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and More than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entences with plural nouns tha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–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yers, teams, sneakers, pads, helme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ippers, skateboards, shin gu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8080"/>
                </a:solidFill>
                <a:latin typeface="Times New Roman"/>
              </a:rPr>
              <a:t>You have strong arms and hands,” said Tom.  “You got Gus out of a tree.”  “You got my ball, too,” said Fr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Continue working on Dialog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quotation marks and com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*Remember to use the words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ai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asked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rds rhyme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 rhymes with _________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9880" y="152280"/>
            <a:ext cx="562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Al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g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*What other things can you do with a b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0554_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01000" y="152280"/>
            <a:ext cx="45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7840" y="152280"/>
            <a:ext cx="34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6782040" cy="3591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99"/>
                </a:solidFill>
                <a:uFillTx/>
                <a:latin typeface="Century Gothic"/>
              </a:rPr>
              <a:t>Phonemic Awarenes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entury Gothic"/>
              </a:rPr>
              <a:t>Phonem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entury Gothic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l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o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w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s t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th i 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phthong /ng/ 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sat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ong so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Buzz!Buz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is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th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?”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was a bug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wings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h, no!” sai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t is not good to ge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t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L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got of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wing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f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B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entury Gothic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Century Gothic"/>
              </a:rPr>
              <a:t>How Bat Learned to Fl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ich sentence best tells about the pl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The story is about how some animals invented a ball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2. The story is about how a mouse learns to fly so well that he becomes a b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3. The story is about how Mother Earth got her long green g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3:21:06Z</dcterms:created>
  <dc:creator>Federated Group</dc:creator>
  <dc:description/>
  <dc:language>en-US</dc:language>
  <cp:lastModifiedBy>Federated Group</cp:lastModifiedBy>
  <dcterms:modified xsi:type="dcterms:W3CDTF">2008-11-05T05:10:26Z</dcterms:modified>
  <cp:revision>6</cp:revision>
  <dc:subject/>
  <dc:title>Lesson 10  Day 3</dc:title>
</cp:coreProperties>
</file>