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AB8-D3DD-4DD2-8380-1F2EA9AE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8C6-BFC4-4D51-B7FF-8DC2E0A9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F30-FB8B-4C12-AA03-14A23A0D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2EC-2AE3-47CF-92EC-265DC210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4D3-17C0-42D7-8A62-6DECB175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24D-41F0-4300-8758-9362BFE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BCD-099C-4978-A443-0220FED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748-F329-4309-A248-D46F2EA0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DA1-D5D4-4BCC-A4CF-657AA338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223-5646-4714-A92F-B1F70F3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F0D-1830-46D0-A24B-4B6AF14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91E-0EF4-40F5-8D8F-56435C2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F2C5-D513-466C-A778-56FA52F49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3885490000%5B1%5D.wav" TargetMode="External"/><Relationship Id="rId2" Type="http://schemas.microsoft.com/office/2007/relationships/media" Target="file:///tmp/home/.config/libreoffice/4/user/gallery/MSj03885490000%5B1%5D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7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d lives in the Nor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likes all spo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ld Horse Winter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18184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57920" y="1625400"/>
            <a:ext cx="3044880" cy="48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f an animal nuzzled against you, it would be rubbing you with its face or no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41972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42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nuzz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554880" y="53640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8040" y="1339920"/>
            <a:ext cx="344160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62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84160" y="339840"/>
            <a:ext cx="378468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714680"/>
            <a:ext cx="25545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pranced around, you would be walking in a bouncy, springy way, like a hor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6040" y="1874880"/>
            <a:ext cx="5411880" cy="360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0040" y="0"/>
            <a:ext cx="77151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en something is raging, it is happening in a strong or out-of-control wa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54800" y="2209680"/>
            <a:ext cx="3589200" cy="127656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517840"/>
            <a:ext cx="610884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bug that you have se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color was i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part of its body helped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bug I looked at was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used its _________ 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s help you find out about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otations begin with words lik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end with a question mark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interview ques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phthong /ng/ ng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-Controlled Vowel -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749600"/>
            <a:ext cx="4343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say a word that has the /or/ sound, you hold up your thumb in front of your chest and say /or/.  When I say a word that does not begin with /or/, put your thumb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35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o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7621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08Z</dcterms:modified>
  <cp:revision>79</cp:revision>
  <dc:subject/>
  <dc:title>Slide 1</dc:title>
</cp:coreProperties>
</file>