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1DFF-2564-4A39-8FA4-64BB86FAB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A428-D825-47FE-A8FB-6385BBFC5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49A9-C76F-4482-B15D-AFDA5D664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C651-4712-444F-8AFC-C69682591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9716-B8BB-488D-992F-9F3BD832C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1323-BE64-4056-9C36-928FD501B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3CD5-6330-4DA0-B8F7-70D5FA1BA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CF7D-6CC6-4A01-9475-2DA085A56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5BFD-85BB-4D0B-A559-70A13EB53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C76A-5EB0-4D4D-93F3-DADF1D0D8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C3E3-F4DB-4742-A71A-D34B891D0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F53E-59C5-4B2D-81F3-E7A4985ED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B0A3-6DAE-489F-B133-1C30CF3AE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DB83-5A09-4364-BB44-4E01DBF22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425C-FF5A-4809-AF72-4FD28C28F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, every, their, from, does, use, way, under, here, m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0DDF-9E80-4DC2-91B5-1E6ECE909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3B7A-2331-4542-850B-9C85254E0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1AAE-2CC0-4C98-B1BC-D9CAB96C8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EA64-43FF-47F5-8BDC-BA556409E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, song, sing, ring, bring, thing, us, must, does,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3931-8FA5-4C33-8F02-CF96F5DF3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DEBC-C753-454C-8D1F-62F4B5516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993-7656-4B7E-B185-BA4BDB26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3DBB-5ABB-4C9C-8C70-9A4C3DD9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5DC-CFE5-4A7B-AA46-C92F8417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992-7683-4681-AFDC-1EAAB9E4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C26-4A07-436B-8592-A0683BA3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76A-F2C4-4009-82F7-562303B2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8885-081F-4487-9F13-D3F6BAA9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4E3D-2423-4A52-BA6A-67570102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7FF1-2173-468A-AB72-14E5E546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6FA-8B22-476F-B5FC-F5A06E5F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0915-1F40-416E-80EB-04375382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CB20-32C6-4975-A0B9-8A6D115C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9C89-C469-445E-BD93-B765CC32A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fes.tpc.edu.tw/board/abc-song/london.swf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10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1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honics Ski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Let’s click on the “or” word, “corn” </a:t>
            </a:r>
            <a:r>
              <a:rPr b="0" lang="en-US" sz="4800" spc="-1" strike="noStrike">
                <a:solidFill>
                  <a:srgbClr val="92d050"/>
                </a:solidFill>
                <a:latin typeface="Comic Sans MS"/>
              </a:rPr>
              <a:t>to go to thinkcentral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words containing  /or/ and /ore/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lost_dog_el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828800"/>
            <a:ext cx="3571920" cy="29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575d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575d1"/>
                </a:solidFill>
                <a:latin typeface="Comic Sans MS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6629400" y="57150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ad high-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IMGP3219-718608.jpg"/>
          <p:cNvPicPr/>
          <p:nvPr/>
        </p:nvPicPr>
        <p:blipFill>
          <a:blip r:embed="rId1"/>
          <a:stretch/>
        </p:blipFill>
        <p:spPr>
          <a:xfrm>
            <a:off x="3276720" y="9907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400" spc="-1" strike="noStrike">
                <a:solidFill>
                  <a:srgbClr val="7575d1"/>
                </a:solidFill>
                <a:latin typeface="Aharoni"/>
                <a:ea typeface="Aharoni"/>
              </a:rPr>
              <a:t>Land of 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Today’s story is about a very cold place called Antarctica.   Antarctica is a beautiful place which is covered in ice.  Some animals that live in or near Antarctica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octo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peng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sea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s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267080" y="3505320"/>
            <a:ext cx="4648320" cy="1752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haroni"/>
                <a:ea typeface="Aharoni"/>
              </a:rPr>
              <a:t>Some animals that live in cold places have fur to keep them warm.  The seal is an animal that has f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324480" y="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 To apply word knowledge to the reading of a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ontent Placeholder 4" descr="antarcz.gif"/>
          <p:cNvPicPr/>
          <p:nvPr/>
        </p:nvPicPr>
        <p:blipFill>
          <a:blip r:embed="rId1"/>
          <a:stretch/>
        </p:blipFill>
        <p:spPr>
          <a:xfrm>
            <a:off x="304920" y="838080"/>
            <a:ext cx="3676680" cy="3667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i="1" lang="en-US" sz="4400" spc="-1" strike="noStrike">
                <a:solidFill>
                  <a:srgbClr val="cc3300"/>
                </a:solidFill>
                <a:latin typeface="Comic Sans MS"/>
              </a:rPr>
              <a:t>Land of 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4571640"/>
            <a:ext cx="4724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and of Ic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 nonfiction story.  We can fill in a story web with information we learn from the 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182_20.gif"/>
          <p:cNvPicPr/>
          <p:nvPr/>
        </p:nvPicPr>
        <p:blipFill>
          <a:blip r:embed="rId2"/>
          <a:stretch/>
        </p:blipFill>
        <p:spPr>
          <a:xfrm>
            <a:off x="4267080" y="1295280"/>
            <a:ext cx="4388040" cy="4060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5562720" y="28954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cts from “Land of 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6477120" y="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use a story web as a strategy for comprehension of a non-fiction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Arial"/>
              </a:rPr>
              <a:t>Land of 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6705720" y="0"/>
            <a:ext cx="2438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se a story web as a strategy for comprehension of a non-fiction selec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75d1"/>
                </a:solidFill>
                <a:latin typeface="Arial"/>
              </a:rPr>
              <a:t>Now that we have all read Land of Ice, let’s flip back to the story web and fill in information we learned from the sto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haroni"/>
                <a:ea typeface="Aharoni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nuzz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pran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r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533520" y="304920"/>
            <a:ext cx="3590640" cy="127764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3200400" cy="70776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omic Sans MS"/>
              </a:rPr>
              <a:t>nuzzle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172200" y="838080"/>
            <a:ext cx="2554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an animal 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nuzzl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gainst you, it would be rubbing you with its face or no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MPj04331970000[1]"/>
          <p:cNvPicPr/>
          <p:nvPr/>
        </p:nvPicPr>
        <p:blipFill>
          <a:blip r:embed="rId1"/>
          <a:stretch/>
        </p:blipFill>
        <p:spPr>
          <a:xfrm>
            <a:off x="569880" y="1905120"/>
            <a:ext cx="5513400" cy="41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419720" y="304920"/>
            <a:ext cx="42321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pranced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around, you would be walking in a bouncy, springy way, like a hor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380880" y="380880"/>
            <a:ext cx="359100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28600" y="380880"/>
            <a:ext cx="39196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c00000"/>
                </a:solidFill>
                <a:latin typeface="Comic Sans MS"/>
              </a:rPr>
              <a:t>pranc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think.bmp"/>
          <p:cNvPicPr/>
          <p:nvPr/>
        </p:nvPicPr>
        <p:blipFill>
          <a:blip r:embed="rId1"/>
          <a:stretch/>
        </p:blipFill>
        <p:spPr>
          <a:xfrm>
            <a:off x="380880" y="2008080"/>
            <a:ext cx="4019760" cy="29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0" y="380520"/>
            <a:ext cx="3911760" cy="569772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something is </a:t>
            </a:r>
            <a:r>
              <a:rPr b="0" lang="en-US" sz="4400" spc="-1" strike="noStrike">
                <a:solidFill>
                  <a:srgbClr val="c00000"/>
                </a:solidFill>
                <a:latin typeface="Comic Sans MS"/>
              </a:rPr>
              <a:t>rag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it is happening in a strong or out-of-control 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304920" y="533520"/>
            <a:ext cx="359064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04920" y="533520"/>
            <a:ext cx="33829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c00000"/>
                </a:solidFill>
                <a:latin typeface="Comic Sans MS"/>
              </a:rPr>
              <a:t>rag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MPj01788450000[1]"/>
          <p:cNvPicPr/>
          <p:nvPr/>
        </p:nvPicPr>
        <p:blipFill>
          <a:blip r:embed="rId1"/>
          <a:stretch/>
        </p:blipFill>
        <p:spPr>
          <a:xfrm>
            <a:off x="309600" y="2133720"/>
            <a:ext cx="4830840" cy="33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do you think it is like deep in the ocean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________ lives in the ocean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It is 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Picture1.jpg"/>
          <p:cNvPicPr/>
          <p:nvPr/>
        </p:nvPicPr>
        <p:blipFill>
          <a:blip r:embed="rId1"/>
          <a:stretch/>
        </p:blipFill>
        <p:spPr>
          <a:xfrm>
            <a:off x="5105520" y="2743200"/>
            <a:ext cx="3595680" cy="3595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304920" y="685440"/>
            <a:ext cx="7162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Let’s learn how to write interview questions.  Thi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of someone who works here at Stemley.  It could b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teacher, the librarian, the custodian, the secretary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anyone who has a job here.  Decide which questions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would ask that person if you wanted to interview him/h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Here are some id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73"/>
                </a:solidFill>
                <a:latin typeface="Comic Sans MS"/>
              </a:rPr>
              <a:t>What is your jo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73"/>
                </a:solidFill>
                <a:latin typeface="Comic Sans MS"/>
              </a:rPr>
              <a:t>What do you like best about your jo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Think of one or two more questions and write them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553080" y="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6400800" y="0"/>
            <a:ext cx="2743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compose effective interview questions; to brainstorm before writing; to punctuate questions correc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4495680" y="1371600"/>
            <a:ext cx="3810240" cy="63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Arial"/>
              </a:rPr>
              <a:t>Read Aloud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62673"/>
                </a:solidFill>
                <a:latin typeface="Arial"/>
              </a:rPr>
              <a:t>W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62673"/>
                </a:solidFill>
                <a:latin typeface="Arial"/>
              </a:rPr>
              <a:t>Dow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62673"/>
                </a:solidFill>
                <a:latin typeface="Arial"/>
              </a:rPr>
              <a:t>D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457200" y="838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Week’s Sigh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858000" y="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C:\Users\Janice\AppData\Local\Microsoft\Windows\Temporary Internet Files\Content.IE5\CVW5V2AD\MPj04286580000[1]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447920"/>
            <a:ext cx="5329080" cy="35528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90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Phoneme Seg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066680" y="4952880"/>
            <a:ext cx="6553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London Bridge Was Falling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haroni"/>
                <a:ea typeface="Aharoni"/>
              </a:rPr>
              <a:t>Let’s click on the bridge to hear the so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:\Users\Janice\AppData\Local\Microsoft\Windows\Temporary Internet Files\Content.IE5\AETH7CGB\MCj03793990000[1].wmf"/>
          <p:cNvPicPr/>
          <p:nvPr/>
        </p:nvPicPr>
        <p:blipFill>
          <a:blip r:embed="rId3"/>
          <a:stretch/>
        </p:blipFill>
        <p:spPr>
          <a:xfrm>
            <a:off x="685800" y="4952880"/>
            <a:ext cx="957240" cy="1192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Janice\AppData\Local\Microsoft\Windows\Temporary Internet Files\Content.IE5\AETH7CGB\MCj03793990000[1].wmf"/>
          <p:cNvPicPr/>
          <p:nvPr/>
        </p:nvPicPr>
        <p:blipFill>
          <a:blip r:embed="rId4"/>
          <a:stretch/>
        </p:blipFill>
        <p:spPr>
          <a:xfrm>
            <a:off x="7315200" y="5029200"/>
            <a:ext cx="957240" cy="11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2" descr="C:\Users\Janice\AppData\Local\Microsoft\Windows\Temporary Internet Files\Content.IE5\CVW5V2AD\MCj03974940000[1].wmf"/>
          <p:cNvPicPr/>
          <p:nvPr/>
        </p:nvPicPr>
        <p:blipFill>
          <a:blip r:embed="rId1"/>
          <a:stretch/>
        </p:blipFill>
        <p:spPr>
          <a:xfrm>
            <a:off x="5257800" y="380880"/>
            <a:ext cx="2438280" cy="5943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words into phonemes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22860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Let’s 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0" y="1143000"/>
            <a:ext cx="56386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You will sing a song and say the sounds that make up each word.  Sing to the tune of “London Bridge is Falling Dow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an you say the sounds in bug,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n bug, sounds in bug?  Can you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the sounds in bug?  Yes,  we can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/b/ /u/ /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6400800" y="533520"/>
            <a:ext cx="2743200" cy="65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f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c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m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sn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sh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t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990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or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457200" y="1219320"/>
            <a:ext cx="457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914400" y="236232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685800" y="2362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04920" y="2362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990720" y="3429000"/>
            <a:ext cx="2209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80880" y="34290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304920" y="45720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457200" y="4572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228600" y="45720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4343400" y="1600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9"/>
          <p:cNvSpPr/>
          <p:nvPr/>
        </p:nvSpPr>
        <p:spPr>
          <a:xfrm>
            <a:off x="4800600" y="1600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5105520" y="1600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4191120" y="2514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4800600" y="2514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5029200" y="251460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8"/>
          <p:cNvSpPr/>
          <p:nvPr/>
        </p:nvSpPr>
        <p:spPr>
          <a:xfrm>
            <a:off x="5334120" y="1600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5"/>
          <p:cNvSpPr/>
          <p:nvPr/>
        </p:nvSpPr>
        <p:spPr>
          <a:xfrm>
            <a:off x="838080" y="12193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1600200" y="1219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0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r/ , /ore/,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Word Building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Building Spell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066680" y="1371600"/>
            <a:ext cx="3200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f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f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m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st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181480" y="1447920"/>
            <a:ext cx="243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l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b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y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Inside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838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Forget 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Forgive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Forest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Forgot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g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haroni"/>
                <a:ea typeface="Aharoni"/>
              </a:rPr>
              <a:t>When you see a long word that l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haroni"/>
                <a:ea typeface="Aharoni"/>
              </a:rPr>
              <a:t>hard to read, see if there are littl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haroni"/>
                <a:ea typeface="Aharoni"/>
              </a:rPr>
              <a:t>inside the big word that are easier to read.  Then put those words together and you’ve just read that LONG wo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7467480" y="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To use the “word within a word” technique to improve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Janice Wagnon</cp:lastModifiedBy>
  <dcterms:modified xsi:type="dcterms:W3CDTF">2008-11-09T23:02:10Z</dcterms:modified>
  <cp:revision>158</cp:revision>
  <dc:subject/>
  <dc:title>Slide 1</dc:title>
</cp:coreProperties>
</file>