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B31-6BD6-4E92-B8C0-5A8769E2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D6B-DFC8-4467-A312-5B82A537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DFB-E803-409B-B8C0-A9BD18EA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C02-4A4A-485C-AB5D-D3DF1A3A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D60-9520-4095-93E9-8CFCE737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3AA-0F71-43EA-8FDA-9D52C64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EAE-2AD5-4D34-AAD2-38F7794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EA7-6E98-4E0A-B119-1482FB2F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FAC-AFFF-4CD9-8FEF-816430D0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5AB-8CB3-447F-8E8C-335B6D3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B40-EFDA-4923-A4B9-B5D69E4A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9FE-7F64-4E2B-8147-DBBB176B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2CF-7618-49A6-9998-8A100DFC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hinkcentral.com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vie%20screen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205740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November 12,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Lesson 11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adap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trigu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Gothic"/>
              </a:rPr>
              <a:t>inhab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pecial Names and Titles for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ar mrs washingt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e read the story “Land of Ice.” It is by mr norbert wu.  We really liked the pengu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ncerel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__________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correctly capitalize and punctuate special names and titles for 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marks at the end of ques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question words such as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who, what, when, where, why, and 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capital letters that begin names and tit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periods at the end of tit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28600"/>
            <a:ext cx="4952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Think of something you found intrigu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Land of Ice.” Turn and talk with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artner and tell them questions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bout it.</a:t>
            </a: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Draw a picture from “Land of Ic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that you found intriguing. Then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questions you might have about i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52280"/>
            <a:ext cx="419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compose effective interview questions; to brainstorm before writing; to punctuate questions correc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Question of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at do you like to do in the wa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I like to __________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entury Gothic"/>
              </a:rPr>
              <a:t>because 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324480" y="15228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Read Alou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ay Down Deep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cean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98720" cy="361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7010280" y="304920"/>
            <a:ext cx="1905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29400" y="228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uffin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267080" cy="3210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2666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81680" y="3808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-Controlled Vowel /or/ or, 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Doris got a pot of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n Doris got a for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I will eat the corn in my fort,” Doris sai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But Spot wants corn, to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top, Spot!” yelled Dori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Spot eats the cor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Now Doris and Dad will go to the sto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omic Sans MS"/>
              </a:rPr>
              <a:t>They will get more corn.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y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h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0"/>
          <p:cNvSpPr/>
          <p:nvPr/>
        </p:nvSpPr>
        <p:spPr>
          <a:xfrm>
            <a:off x="6858000" y="30492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/ 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penguin for thinkcentral.c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enguin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743200"/>
            <a:ext cx="2394000" cy="333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22860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s- To listen and compare texts; review compare and contrast; understand features of poetry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2:41:39Z</dcterms:created>
  <dc:creator>Federated Group</dc:creator>
  <dc:description/>
  <dc:language>en-US</dc:language>
  <cp:lastModifiedBy>Federated Group</cp:lastModifiedBy>
  <dcterms:modified xsi:type="dcterms:W3CDTF">2008-11-12T03:30:35Z</dcterms:modified>
  <cp:revision>4</cp:revision>
  <dc:subject/>
  <dc:title> </dc:title>
</cp:coreProperties>
</file>