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6F1-4850-4637-A9A2-02536AFB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4E6-05A8-4E56-8437-4A666339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6E7-7A56-4F59-9F10-0208C4F9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68B-2751-4CD1-AAC8-FD249BC6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A29-ED81-4BC6-B97C-78791AFF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3FE-BBA3-4A09-9BF1-A25BCA1A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A3F-BEF1-4FFA-ABEA-8B530812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10C-6FAC-43A1-B079-F62178EE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F0E-8181-4E8D-A205-FA3DC1D6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00A-22EC-416B-9947-058E6483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5C2-EF4F-437A-BB9B-CC3B9A4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7CB-F6B6-4DF8-BB35-8C91F53D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944F-FA0B-4837-B222-5EB19BB74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3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1, Day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andbo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uns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orklif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ometh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ild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or, ore and other known letter-sounds to spell and wri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0574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20574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8954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8954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809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8098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3809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895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4956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53341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53341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ild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or, ore and other known letter-sounds to spell and wri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12193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0574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20574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2895480"/>
            <a:ext cx="1218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895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4956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809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809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8954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956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53341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53341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3809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53341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067520" y="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kind of pet do you have or want to hav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is it speci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pet _______ can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t is special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ab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181480" y="2286000"/>
            <a:ext cx="3657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imal adapts to a place, it had body parts or ways of acting that help it l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57200"/>
            <a:ext cx="4978440" cy="14670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609480"/>
            <a:ext cx="4876560" cy="123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934320" y="304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84582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What would you do to adapt to living on a bo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How would you adapt to living in a c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How would you adapt if you lived in a place that had lots of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8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533520"/>
            <a:ext cx="5181480" cy="990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609480"/>
            <a:ext cx="48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609480"/>
            <a:ext cx="3048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hink that something is intriguing, you are curious abou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384880" cy="3483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81480" y="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2280"/>
            <a:ext cx="85345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you think that bugs or penguins are more intriguing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Comic Sans MS"/>
              </a:rPr>
              <a:t>What would your face and body look like if you were looking at something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What movies have you seen that were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511960" y="1066680"/>
            <a:ext cx="34797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inhabit a place, you live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33520"/>
            <a:ext cx="3962520" cy="15238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762120"/>
            <a:ext cx="4826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inhabi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029200" cy="3749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Would you like to inhabit a house with no roof? 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Would you like to inhabit a world made out of food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Comic Sans MS"/>
              </a:rPr>
              <a:t>What would it be like to inhabit the m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 Smith likes hor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. Hill has a hor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orse’s name is Mu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. Chin is a v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52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pecial Names and Ti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924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Can an animal nuzzle you while it is prancing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If a place always had raging storms, would it be a good place to inhabit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Comic Sans MS"/>
              </a:rPr>
              <a:t>Name an intriguing animal you have seen.  Why is it so interes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If an animal adapted to life in a snowy place, would it be able to liv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19810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mm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04920"/>
            <a:ext cx="761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To us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capitalize and punctuat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15192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tinguish between real and make-belie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2133720"/>
            <a:ext cx="38102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My Fish Can Ride a Bicyc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8720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special name or title is the name for a certain person.  Special names and titles begin with capital letters and titles end with a perio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ntroduce special names and tit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716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883908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et’s look at some words and see which ones are special names or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dr m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a good do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tall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b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mrs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6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9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14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1447920"/>
            <a:ext cx="792468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dependent Wri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30492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Objective: To write complet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o apply knowledge of correct capitalization and 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11480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of an adult they know and write a caption sentence that includes the special name and title of that per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9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8839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cc00"/>
                </a:solidFill>
                <a:uFillTx/>
                <a:latin typeface="Comic Sans MS"/>
              </a:rPr>
              <a:t>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The questions help you find out about a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Questions begin with words like </a:t>
            </a:r>
            <a:r>
              <a:rPr b="0" lang="en-US" sz="3600" spc="-1" strike="noStrike" u="sng">
                <a:solidFill>
                  <a:srgbClr val="99cc00"/>
                </a:solidFill>
                <a:uFillTx/>
                <a:latin typeface="Comic Sans MS"/>
              </a:rPr>
              <a:t>Who, What, When, Where, Why, and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mic Sans MS"/>
              </a:rPr>
              <a:t>Questions end with a question m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4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315200" y="0"/>
            <a:ext cx="1828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at people ask questions in an interview to learn more about someone or some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Inter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choose a focus for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ick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ick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opcor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compound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600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35268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nthi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5:41Z</dcterms:modified>
  <cp:revision>83</cp:revision>
  <dc:subject/>
  <dc:title>Slide 1</dc:title>
</cp:coreProperties>
</file>