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493D-104E-40E0-AA3C-B21A3AA4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B9CF-66FB-44D1-B192-CF7CCFA7E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170-D1B1-4288-9FFE-EDD2E0BB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7F3-68C6-46D8-9137-9AE84247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7217-BAAC-4C58-858E-0FAC9493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EDC-6FB7-4188-AA04-B49A133E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3F95-6C18-4653-82FF-7FE4CA34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FA75-38B4-468F-9134-40697E5F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05A4-744E-45AD-96D6-0B9AB13C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E36D-980B-4020-82B9-196C29FD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590F-A894-447B-901C-B007D389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2897-73E3-4806-884A-1776E4F2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E4DC-0BFB-4C8B-8E93-D14EF9C1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20A-8AB2-4DF4-9F2C-56300428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73DD-363A-4D38-8701-8C410694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6421-EDEB-4D6B-9D8B-FA0BE26C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DDE4-6149-4242-8FBE-FBFAB821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C59D-99E2-4991-9F30-2317E17E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2042-8478-4F99-8E22-88AB243D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37B-8813-468B-9303-5CCBA09A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15D-2196-4FC6-A4C7-43097469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4FB-ADF9-4A5B-882A-F00D6D3B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802-D628-4F80-9C5C-807F54CE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10A-9186-4D92-A436-940871D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9B3-FA45-4E14-9154-F86F9F5E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C87-861E-499A-B0EC-062EDA48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FA52-4EF0-4592-82DE-D4272F1063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62E6-3F19-4B70-BC57-8C2486CFEC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609480"/>
            <a:ext cx="731520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vember 13, 2008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1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 4 and Day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honemic Aware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Phoneme Blend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7010280" y="15228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2362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0" y="1143000"/>
            <a:ext cx="609588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London Bridge is Falling Dow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(child’s name) say the sounds in fish, sounds in fish, sounds in f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(child’s name) say the sounds in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 I  can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f/ /i/ /s/ /h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0"/>
          <p:cNvSpPr/>
          <p:nvPr/>
        </p:nvSpPr>
        <p:spPr>
          <a:xfrm>
            <a:off x="7238880" y="685800"/>
            <a:ext cx="1905120" cy="12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f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t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n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sw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b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71600" y="152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Objective: To blend phonemes into recogniz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838080"/>
            <a:ext cx="6553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ing to the tune of “The Muffin Ma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Can you say /w/ /o/ /k/, /w/ /o/ /k/, /w/ /o/ /k/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Can you say /w/ /o/ /k/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Yes I know I ca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762120"/>
            <a:ext cx="1600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b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o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3809880"/>
            <a:ext cx="46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0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28600"/>
            <a:ext cx="7315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recognize compoun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decode words parts in compoun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build compound words with 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" y="2362320"/>
            <a:ext cx="7924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mpoun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77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1" dur="77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3" dur="77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457200"/>
            <a:ext cx="723924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Compound Words are made by joining two smaller word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920" y="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ck     pack = backp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8600" y="990720"/>
            <a:ext cx="8077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t     hill = anthil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600" y="1905120"/>
            <a:ext cx="8381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nd     box = sandbo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2666880"/>
            <a:ext cx="8305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p      corn = popcor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280" y="3429000"/>
            <a:ext cx="8534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n     set = suns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600" y="4114800"/>
            <a:ext cx="830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ork     lift = forklif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905120" y="5029200"/>
            <a:ext cx="6781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me     thing = someth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193" name="_s18452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18451"/>
            <p:cNvCxnSpPr>
              <a:stCxn id="197" idx="0"/>
              <a:endCxn id="195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18450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5" name="_s18446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8447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kic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8448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kickb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8449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a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201" name="_s19468"/>
            <p:cNvCxnSpPr>
              <a:stCxn id="202" idx="0"/>
              <a:endCxn id="203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19467"/>
            <p:cNvCxnSpPr>
              <a:stCxn id="205" idx="0"/>
              <a:endCxn id="203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19466"/>
            <p:cNvCxnSpPr>
              <a:stCxn id="207" idx="0"/>
              <a:endCxn id="203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3" name="_s19462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9463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bat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9464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athtu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9465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u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209" name="_s20492"/>
            <p:cNvCxnSpPr>
              <a:stCxn id="210" idx="0"/>
              <a:endCxn id="211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20491"/>
            <p:cNvCxnSpPr>
              <a:stCxn id="213" idx="0"/>
              <a:endCxn id="211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20490"/>
            <p:cNvCxnSpPr>
              <a:stCxn id="215" idx="0"/>
              <a:endCxn id="211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_s20486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20487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aske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20488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ketba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20489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a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828800" y="2057400"/>
            <a:ext cx="5485680" cy="2742480"/>
            <a:chOff x="1828800" y="2057400"/>
            <a:chExt cx="5485680" cy="2742480"/>
          </a:xfrm>
        </p:grpSpPr>
        <p:cxnSp>
          <p:nvCxnSpPr>
            <p:cNvPr id="217" name="_s21516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256720" y="2467800"/>
              <a:ext cx="549000" cy="192060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21515"/>
            <p:cNvCxnSpPr>
              <a:stCxn id="221" idx="0"/>
              <a:endCxn id="219" idx="2"/>
            </p:cNvCxnSpPr>
            <p:nvPr/>
          </p:nvCxnSpPr>
          <p:spPr>
            <a:xfrm flipV="1">
              <a:off x="4571640" y="3153600"/>
              <a:ext cx="216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21514"/>
            <p:cNvCxnSpPr>
              <a:stCxn id="223" idx="0"/>
              <a:endCxn id="219" idx="2"/>
            </p:cNvCxnSpPr>
            <p:nvPr/>
          </p:nvCxnSpPr>
          <p:spPr>
            <a:xfrm flipH="1" flipV="1" rot="5400000">
              <a:off x="3337920" y="2468520"/>
              <a:ext cx="549000" cy="1919160"/>
            </a:xfrm>
            <a:prstGeom prst="bentConnector3">
              <a:avLst>
                <a:gd name="adj1" fmla="val 20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9" name="_s21510"/>
            <p:cNvSpPr/>
            <p:nvPr/>
          </p:nvSpPr>
          <p:spPr>
            <a:xfrm>
              <a:off x="3748680" y="205740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mpound Wo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1511"/>
            <p:cNvSpPr/>
            <p:nvPr/>
          </p:nvSpPr>
          <p:spPr>
            <a:xfrm>
              <a:off x="182880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som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1512"/>
            <p:cNvSpPr/>
            <p:nvPr/>
          </p:nvSpPr>
          <p:spPr>
            <a:xfrm>
              <a:off x="374868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ometh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21513"/>
            <p:cNvSpPr/>
            <p:nvPr/>
          </p:nvSpPr>
          <p:spPr>
            <a:xfrm>
              <a:off x="5668920" y="3702960"/>
              <a:ext cx="1645560" cy="10969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hi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920" y="1676520"/>
            <a:ext cx="8610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estions of the Da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38088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Objective: To listen attentively and respond appropriately to oral communication; to express personal pre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380880"/>
            <a:ext cx="8610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ick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kickbal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me!” said J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t’s dig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andbox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” said K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at the ants i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thil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” said Tod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n’t dig the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’m going on th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wingse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” said Ma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 want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opcor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eat?” Mrs.York as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28600" y="22860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914400"/>
            <a:ext cx="25909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1295280"/>
            <a:ext cx="2438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5638680"/>
            <a:ext cx="64767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bjectiv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use /or/ or, ore, and other known letter-sounds to spell and write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pell and write known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want to read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play a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had pizz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 the clay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or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e shape of an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m would lik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m went to th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tor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buy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r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he blocks by c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rain is very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o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 will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ri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uffins to the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You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dog is c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bumped my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ea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4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4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2860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Objective: To compare and contrast while listening to a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32" name=""/>
          <p:cNvSpPr/>
          <p:nvPr/>
        </p:nvSpPr>
        <p:spPr>
          <a:xfrm>
            <a:off x="4114800" y="2354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2280" y="1371600"/>
            <a:ext cx="83059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en you compa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 contrast thing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tell how the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re the same o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fferent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9144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Let’s read Ugh! A Bug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85800"/>
            <a:ext cx="71629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ow let’s compare and contrast two bugs in 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ow are the smooth and spiky bugs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How are they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8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480" y="1295280"/>
            <a:ext cx="77724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808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181480" y="2286000"/>
            <a:ext cx="3657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n animal adapts to a place, it had body parts or ways of acting that help it liv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457200"/>
            <a:ext cx="4978440" cy="1467000"/>
          </a:xfrm>
          <a:prstGeom prst="roundRect">
            <a:avLst>
              <a:gd name="adj" fmla="val 10486"/>
            </a:avLst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609480"/>
            <a:ext cx="4876560" cy="123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934320" y="30492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84582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What would you do to adapt to living on a bo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How would you adapt to living in a c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How would you adapt if you lived in a place that had lots of r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533520"/>
            <a:ext cx="5181480" cy="99036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609480"/>
            <a:ext cx="48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rigu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609480"/>
            <a:ext cx="3048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hink that something is intriguing, you are curious abou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5384880" cy="3483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181480" y="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5228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hat kind of pet do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ave or want to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f66"/>
                </a:solidFill>
                <a:latin typeface="Comic Sans MS"/>
              </a:rPr>
              <a:t>Why is it spec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My pet ______can 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It is special because 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3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3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152280"/>
            <a:ext cx="853452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 you think that bugs or penguins are more intriguing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What would your face and body look like if you were looking at something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What movies have you seen that were intrigu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511960" y="1066680"/>
            <a:ext cx="34797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inhabit a place, you live t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533520"/>
            <a:ext cx="3962520" cy="1523880"/>
          </a:xfrm>
          <a:prstGeom prst="roundRect">
            <a:avLst>
              <a:gd name="adj" fmla="val 10486"/>
            </a:avLst>
          </a:prstGeom>
          <a:solidFill>
            <a:srgbClr val="ff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762120"/>
            <a:ext cx="4826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mic Sans MS"/>
              </a:rPr>
              <a:t>inhabit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5029200" cy="3749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486400" y="3049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800"/>
                </a:solidFill>
                <a:latin typeface="Comic Sans MS"/>
              </a:rPr>
              <a:t>Would you like to inhabit a house with no roof? 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Would you like to inhabit a world made out of food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f66"/>
                </a:solidFill>
                <a:latin typeface="Comic Sans MS"/>
              </a:rPr>
              <a:t>What would it be like to inhabit the mo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5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5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79246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f66"/>
                </a:solidFill>
                <a:latin typeface="Comic Sans MS"/>
              </a:rPr>
              <a:t>Can an animal nuzzle you while it is prancing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b800"/>
                </a:solidFill>
                <a:latin typeface="Comic Sans MS"/>
              </a:rPr>
              <a:t>If a place always had raging storms, would it be a good place to inhabit?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Name an intriguing animal you have seen.  Why is it so interes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If an animal adapted to life in a snowy place, would it be able to liv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9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8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4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4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2619360" y="1257480"/>
            <a:ext cx="3905280" cy="3528720"/>
            <a:chOff x="2619360" y="1257480"/>
            <a:chExt cx="3905280" cy="3528720"/>
          </a:xfrm>
        </p:grpSpPr>
        <p:sp>
          <p:nvSpPr>
            <p:cNvPr id="258" name="_s36876"/>
            <p:cNvSpPr/>
            <p:nvPr/>
          </p:nvSpPr>
          <p:spPr>
            <a:xfrm flipH="1">
              <a:off x="3631680" y="3699000"/>
              <a:ext cx="46836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36875"/>
            <p:cNvSpPr/>
            <p:nvPr/>
          </p:nvSpPr>
          <p:spPr>
            <a:xfrm>
              <a:off x="2619360" y="370044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y classroo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36874"/>
            <p:cNvSpPr/>
            <p:nvPr/>
          </p:nvSpPr>
          <p:spPr>
            <a:xfrm>
              <a:off x="5041800" y="3700440"/>
              <a:ext cx="4701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36873"/>
            <p:cNvSpPr/>
            <p:nvPr/>
          </p:nvSpPr>
          <p:spPr>
            <a:xfrm>
              <a:off x="5438880" y="369900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y t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36872"/>
            <p:cNvSpPr/>
            <p:nvPr/>
          </p:nvSpPr>
          <p:spPr>
            <a:xfrm flipV="1">
              <a:off x="4572000" y="23432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36871"/>
            <p:cNvSpPr/>
            <p:nvPr/>
          </p:nvSpPr>
          <p:spPr>
            <a:xfrm>
              <a:off x="4029120" y="125748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y hou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36870"/>
            <p:cNvSpPr/>
            <p:nvPr/>
          </p:nvSpPr>
          <p:spPr>
            <a:xfrm>
              <a:off x="4029120" y="288612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hab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619360" y="1257480"/>
            <a:ext cx="3905280" cy="3528720"/>
            <a:chOff x="2619360" y="1257480"/>
            <a:chExt cx="3905280" cy="3528720"/>
          </a:xfrm>
        </p:grpSpPr>
        <p:sp>
          <p:nvSpPr>
            <p:cNvPr id="266" name="_s37900"/>
            <p:cNvSpPr/>
            <p:nvPr/>
          </p:nvSpPr>
          <p:spPr>
            <a:xfrm flipH="1">
              <a:off x="3631680" y="3699000"/>
              <a:ext cx="46836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37899"/>
            <p:cNvSpPr/>
            <p:nvPr/>
          </p:nvSpPr>
          <p:spPr>
            <a:xfrm>
              <a:off x="2619360" y="370044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hu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37898"/>
            <p:cNvSpPr/>
            <p:nvPr/>
          </p:nvSpPr>
          <p:spPr>
            <a:xfrm>
              <a:off x="5041800" y="3700440"/>
              <a:ext cx="4701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37897"/>
            <p:cNvSpPr/>
            <p:nvPr/>
          </p:nvSpPr>
          <p:spPr>
            <a:xfrm>
              <a:off x="5438880" y="369900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a snowfla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37896"/>
            <p:cNvSpPr/>
            <p:nvPr/>
          </p:nvSpPr>
          <p:spPr>
            <a:xfrm flipV="1">
              <a:off x="4572000" y="23432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37895"/>
            <p:cNvSpPr/>
            <p:nvPr/>
          </p:nvSpPr>
          <p:spPr>
            <a:xfrm>
              <a:off x="4029120" y="125748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a rainb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37894"/>
            <p:cNvSpPr/>
            <p:nvPr/>
          </p:nvSpPr>
          <p:spPr>
            <a:xfrm>
              <a:off x="4029120" y="2886120"/>
              <a:ext cx="1085760" cy="10857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trigu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5800" y="1981080"/>
            <a:ext cx="7696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mm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304920"/>
            <a:ext cx="761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us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o capitalize and punctuate special names and titl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187200"/>
            <a:ext cx="792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 special name or title is the name for a certain person.  Special names and titles begin with capital letters and titles end with a perio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8381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t’s look at some words and see which ones are special names or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r. M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 good do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all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rs.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4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4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4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1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1447920"/>
            <a:ext cx="7924680" cy="26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dependent Wri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304920"/>
            <a:ext cx="7925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Objective: To write complet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To apply knowledge of correct capitalization and 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533520"/>
            <a:ext cx="7315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Imagine you have a p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hat is something silly it can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f66"/>
                </a:solidFill>
                <a:latin typeface="Comic Sans MS"/>
              </a:rPr>
              <a:t>My _________can ___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883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Interview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e questions help you find out about a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Questions begin with words like </a:t>
            </a:r>
            <a:r>
              <a:rPr b="0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Who, What, When, Where, Why, and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Questions end with a question m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24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822960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Examples of interview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Where did you grow 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What did you like to do in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f66"/>
                </a:solidFill>
                <a:latin typeface="Comic Sans MS"/>
              </a:rPr>
              <a:t>What do you like best about being princip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bjective : To distinguish between real and make believe; to enjoy a contemporary po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85800"/>
            <a:ext cx="8305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Ride a Bi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ride a bicyc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climb a t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enjoys a glass of mil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takes naps with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play the clarine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 bounce a ba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is not like other fis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My fish can’t swim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914400" y="1143000"/>
            <a:ext cx="6934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hyming Word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09480" y="914400"/>
            <a:ext cx="6934320" cy="394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ee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ll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l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533520"/>
            <a:ext cx="68580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 poet in this poem is writing about something that is make belie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f you have a make believe story it is something that is made up and cannot be re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696080" cy="9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d Wall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ima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s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d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4:58:49Z</dcterms:created>
  <dc:creator>Valued Gateway Client</dc:creator>
  <dc:description/>
  <dc:language>en-US</dc:language>
  <cp:lastModifiedBy>Valued Gateway Client</cp:lastModifiedBy>
  <dcterms:modified xsi:type="dcterms:W3CDTF">2008-11-12T21:59:30Z</dcterms:modified>
  <cp:revision>4</cp:revision>
  <dc:subject/>
  <dc:title>Slide 1</dc:title>
</cp:coreProperties>
</file>