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32A-C948-461C-8C47-852E505B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E79-07D6-4F05-A1CA-4EEDDFCD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ABE-FA40-48C2-B4B8-9BF15527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B77-186C-421C-A44F-8C719906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31B-08FF-471B-A177-547EC344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010-8836-4401-BDA4-2CAC9AB0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F26-8DB3-49AB-831F-73B8DC79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9BA-192E-4068-AA6C-84D59470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620-611F-43FD-B31A-A8693337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CF7-A254-4DDC-BEEE-FC6D5E27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43B-B20E-417A-B9D9-68A86421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BAC-F210-4F62-B6BF-0B63200E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6709-3091-4D64-B2EE-E864351D3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4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Fox wished for a big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fresh fis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38080"/>
            <a:ext cx="853452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1337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914400"/>
            <a:ext cx="815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514600"/>
            <a:ext cx="83059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666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648320"/>
            <a:ext cx="8305560" cy="1828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41911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7242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or Coyote, the Judg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730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o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48320" y="1295280"/>
            <a:ext cx="4101840" cy="50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f you reward someone, you give something special or nice to that person for something he or she has do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0"/>
            <a:ext cx="41976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war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648320" cy="445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37843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so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o do something handsomely, means to do it in a way that is great or more than you expec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omething is cruel when it brings pain or makes you feel ba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ru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1814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7120" y="228240"/>
            <a:ext cx="1676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special names of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522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pecial Names of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5562720" cy="552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248520" y="630864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rowed from: http://www.worldatlas.com/webimage/countrys/na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nimal do you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nstantia"/>
              </a:rPr>
              <a:t>not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care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 don’t you like this anima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don’t like _________ 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772400" y="0"/>
            <a:ext cx="1371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introduce special names of pla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716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bout Special Pl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06480" y="685800"/>
            <a:ext cx="5504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65280" y="0"/>
            <a:ext cx="45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entences give clues about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clues us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me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my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Clues begin with a capital letter and end with a peri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 question ends the ridd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question begins with a capital letter and ends with a question ma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 a Rid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ridd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hyming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838080"/>
            <a:ext cx="4800600" cy="67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ead Aloud –             “Ugh! A Bug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id you see a bug, that made you say “ugh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Was it really b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Did it look like a tw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agraph sh /sh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agraph /sh/ 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75248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sh/ sound, put your thumb near your shoe and say /sh/.  When I say a word that does not have /sh/, put your thumb dow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4100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sh/ s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9528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9528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49528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sh/ sh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990720"/>
            <a:ext cx="525780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hop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ho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hu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rush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6:31Z</dcterms:modified>
  <cp:revision>85</cp:revision>
  <dc:subject/>
  <dc:title>Slide 1</dc:title>
</cp:coreProperties>
</file>