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7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2A83-CE6E-4D02-B5C7-8FDC444D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4CEC-EC06-4B49-B40C-67B6382ED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9D22-87BA-4AA5-A692-FA3CE46D2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5765-1AD7-432F-A926-D2DBBA99C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CAE8-50F0-41D0-A8B8-FB841D189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9188-DAA8-4665-91C3-F7E14B529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FCA8-8420-41C6-B750-EC461C4E6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D8C-BA7F-4101-A64A-ADF3137FC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F8F9-E400-4AFB-9AB3-07278EAD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A92D-6F89-4558-9E5A-F42F61CDE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916C-B6EF-4133-96D2-15AC99463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30FC-4253-48F6-9D07-81DB8083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BCD-ABFD-4964-9604-7989A5E1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FAA6-B9BB-4569-A339-EEB3A53B6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0C36-8403-490C-86F5-3AE4FC29E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1DB7-E4EA-417C-B3D3-AE94E13C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4155-D2A6-4F9E-802C-ADC6BE83C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E65-CAD3-434D-A4F1-39D3F2F8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F713-3A74-49E7-9316-3F2E63FE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F88-3E12-482D-A17B-2B0D9049F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0A91-5972-42F7-B002-127476C8F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EAA5-524D-43EC-9353-7DEF5082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B35-13CC-419A-8413-49913255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877-0EAD-471D-AB87-71F493E4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72F-74D4-478E-8998-6E7A59CF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FC0-5C4E-431B-83CE-B02B2112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36D-1833-4738-8112-212B5B50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80B-4B11-4FBE-86E3-32AF76AF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595-B343-40E6-B7E0-5449F3E3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EFC-0499-4ACE-9524-F009A392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A43-222A-4933-9B96-DB96DF83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2F0-B7D3-466F-8B64-024A26C2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C95-AD33-4815-B174-2BF321AA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ABF-0C2E-4AA5-9EF3-14E2B1A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B492-24C9-4185-954C-FCD651C52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18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2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garden.bmp"/>
          <p:cNvPicPr/>
          <p:nvPr/>
        </p:nvPicPr>
        <p:blipFill>
          <a:blip r:embed="rId1"/>
          <a:stretch/>
        </p:blipFill>
        <p:spPr>
          <a:xfrm>
            <a:off x="1143000" y="1447920"/>
            <a:ext cx="691056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What is the setting of this photograph?  How can you te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791320" y="5943600"/>
            <a:ext cx="2819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Objective:  To learn to identify setting as a story el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바탕"/>
                <a:ea typeface="바탕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575d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IMGP3219-718608.jpg"/>
          <p:cNvPicPr/>
          <p:nvPr/>
        </p:nvPicPr>
        <p:blipFill>
          <a:blip r:embed="rId1"/>
          <a:stretch/>
        </p:blipFill>
        <p:spPr>
          <a:xfrm>
            <a:off x="3305160" y="990720"/>
            <a:ext cx="5124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99"/>
                </a:solidFill>
                <a:latin typeface="Aharoni"/>
                <a:ea typeface="Aharoni"/>
              </a:rPr>
              <a:t>King Midas and His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2952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oday’s story is about a king who wishes he had lots of gold.  The story i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th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. 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th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 is a very, very old story that has been told over and over and over again.  Something amazing usually happens in th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yth</a:t>
            </a: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 that couldn’t happen in re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63244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  To understand genre:  my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ounded Rectangle 2"/>
          <p:cNvSpPr/>
          <p:nvPr/>
        </p:nvSpPr>
        <p:spPr>
          <a:xfrm>
            <a:off x="838080" y="52578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3"/>
          <p:cNvSpPr/>
          <p:nvPr/>
        </p:nvSpPr>
        <p:spPr>
          <a:xfrm>
            <a:off x="838080" y="3733920"/>
            <a:ext cx="777240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/>
          <p:cNvSpPr/>
          <p:nvPr/>
        </p:nvSpPr>
        <p:spPr>
          <a:xfrm>
            <a:off x="838080" y="22860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5"/>
          <p:cNvSpPr/>
          <p:nvPr/>
        </p:nvSpPr>
        <p:spPr>
          <a:xfrm>
            <a:off x="762120" y="1219320"/>
            <a:ext cx="396216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6"/>
          <p:cNvSpPr/>
          <p:nvPr/>
        </p:nvSpPr>
        <p:spPr>
          <a:xfrm>
            <a:off x="4724280" y="1219320"/>
            <a:ext cx="39625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8"/>
          <p:cNvSpPr/>
          <p:nvPr/>
        </p:nvSpPr>
        <p:spPr>
          <a:xfrm>
            <a:off x="2742480" y="205740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0"/>
          <p:cNvSpPr/>
          <p:nvPr/>
        </p:nvSpPr>
        <p:spPr>
          <a:xfrm flipH="1">
            <a:off x="6095880" y="2057400"/>
            <a:ext cx="609840" cy="609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2"/>
          <p:cNvCxnSpPr>
            <a:stCxn id="117" idx="2"/>
            <a:endCxn id="116" idx="0"/>
          </p:cNvCxnSpPr>
          <p:nvPr/>
        </p:nvCxnSpPr>
        <p:spPr>
          <a:xfrm flipH="1">
            <a:off x="4722120" y="3430080"/>
            <a:ext cx="396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>
            <a:stCxn id="116" idx="2"/>
            <a:endCxn id="115" idx="0"/>
          </p:cNvCxnSpPr>
          <p:nvPr/>
        </p:nvCxnSpPr>
        <p:spPr>
          <a:xfrm flipH="1">
            <a:off x="4722120" y="4954680"/>
            <a:ext cx="3960" cy="305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4" name="TextBox 15"/>
          <p:cNvSpPr/>
          <p:nvPr/>
        </p:nvSpPr>
        <p:spPr>
          <a:xfrm>
            <a:off x="2057400" y="8380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King Midas and His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5486400" y="152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ask questions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ounded Rectangle 2"/>
          <p:cNvSpPr/>
          <p:nvPr/>
        </p:nvSpPr>
        <p:spPr>
          <a:xfrm>
            <a:off x="838080" y="52578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838080" y="3733920"/>
            <a:ext cx="777240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4"/>
          <p:cNvSpPr/>
          <p:nvPr/>
        </p:nvSpPr>
        <p:spPr>
          <a:xfrm>
            <a:off x="838080" y="22860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5"/>
          <p:cNvSpPr/>
          <p:nvPr/>
        </p:nvSpPr>
        <p:spPr>
          <a:xfrm>
            <a:off x="762120" y="1219320"/>
            <a:ext cx="396216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6"/>
          <p:cNvSpPr/>
          <p:nvPr/>
        </p:nvSpPr>
        <p:spPr>
          <a:xfrm>
            <a:off x="4724280" y="1219320"/>
            <a:ext cx="396252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2742480" y="2057400"/>
            <a:ext cx="685800" cy="5335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>
            <a:off x="6095880" y="2057400"/>
            <a:ext cx="609840" cy="6094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2"/>
          <p:cNvCxnSpPr>
            <a:stCxn id="131" idx="2"/>
            <a:endCxn id="130" idx="0"/>
          </p:cNvCxnSpPr>
          <p:nvPr/>
        </p:nvCxnSpPr>
        <p:spPr>
          <a:xfrm flipH="1">
            <a:off x="4722120" y="3430080"/>
            <a:ext cx="3960" cy="305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37" name="Straight Arrow Connector 14"/>
          <p:cNvCxnSpPr>
            <a:stCxn id="130" idx="2"/>
            <a:endCxn id="129" idx="0"/>
          </p:cNvCxnSpPr>
          <p:nvPr/>
        </p:nvCxnSpPr>
        <p:spPr>
          <a:xfrm flipH="1">
            <a:off x="4722120" y="4954680"/>
            <a:ext cx="3960" cy="305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38" name="TextBox 15"/>
          <p:cNvSpPr/>
          <p:nvPr/>
        </p:nvSpPr>
        <p:spPr>
          <a:xfrm>
            <a:off x="2057400" y="8380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King Midas and His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5486400" y="152280"/>
            <a:ext cx="3429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ask questions as a strategy for comprehen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48320" y="1295280"/>
            <a:ext cx="4101840" cy="50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you reward someone, you give something special or nice to that person for something he or she has do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2438280" y="0"/>
            <a:ext cx="41976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war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MCBD06667_0000[1]"/>
          <p:cNvPicPr/>
          <p:nvPr/>
        </p:nvPicPr>
        <p:blipFill>
          <a:blip r:embed="rId1"/>
          <a:stretch/>
        </p:blipFill>
        <p:spPr>
          <a:xfrm>
            <a:off x="380880" y="1523880"/>
            <a:ext cx="4648320" cy="445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3784320" cy="70812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some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o do something handsomely, means to do it in a way that is great or more than you expecte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MPj04089940000[1]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omething is cruel when it brings pain or makes you feel bad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ru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MCIN00399_0000[1]"/>
          <p:cNvPicPr/>
          <p:nvPr/>
        </p:nvPicPr>
        <p:blipFill>
          <a:blip r:embed="rId1"/>
          <a:stretch/>
        </p:blipFill>
        <p:spPr>
          <a:xfrm>
            <a:off x="685800" y="1752480"/>
            <a:ext cx="488304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1066680" y="0"/>
            <a:ext cx="762012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Each word in the name of a special place begins with a capital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Can you correct the mistakes in these sent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Santa Claus lives at the north p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stemley road elementary school is in talladega coun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haroni"/>
                <a:ea typeface="Aharoni"/>
              </a:rPr>
              <a:t>Miss Mooney bought some cookies at wal-m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haron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haroni"/>
                <a:ea typeface="Aharoni"/>
              </a:rPr>
              <a:t>Many students live in alp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257800" y="5943600"/>
            <a:ext cx="3657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special names of places.  To recognize that each word in a special place-name begins with a capital let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would you like to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t the shore?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I would like to ________ because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tences give clues about some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lues us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ues begin with a capital letter and end with a peri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question ends the ridd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question begins with a capital letter and ends with a question m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2133720" y="380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-by-Step Writing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00200" y="838080"/>
          <a:ext cx="6095880" cy="5211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 a clue about the ______________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clue begins with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I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Which word did you use?  How should we write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 your clue again.  Let’s write the rest of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is a telling sentence.  What mark comes at the end of a telling senten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question do I write at the end of the riddle?  Let’s write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mark does at the end of a question?  Let’s read our riddle toget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5"/>
          <p:cNvSpPr/>
          <p:nvPr/>
        </p:nvSpPr>
        <p:spPr>
          <a:xfrm>
            <a:off x="4952880" y="5867280"/>
            <a:ext cx="3581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the characteristics of riddles.  To generate ideas for riddles.  To capitalize and punctuate sentences correct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4191120" y="1600200"/>
            <a:ext cx="4343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Comic Sans MS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Comic Sans MS"/>
              </a:rPr>
              <a:t>In the S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9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066680" y="49528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7030a0"/>
                </a:solidFill>
                <a:latin typeface="Aharoni"/>
                <a:ea typeface="Aharoni"/>
              </a:rPr>
              <a:t>If You’re Happy and You Know I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Users\Janice\AppData\Local\Microsoft\Windows\Temporary Internet Files\Content.IE5\AETH7CGB\MCj03793990000[1].wmf"/>
          <p:cNvPicPr/>
          <p:nvPr/>
        </p:nvPicPr>
        <p:blipFill>
          <a:blip r:embed="rId1"/>
          <a:stretch/>
        </p:blipFill>
        <p:spPr>
          <a:xfrm>
            <a:off x="685800" y="495288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Janice\AppData\Local\Microsoft\Windows\Temporary Internet Files\Content.IE5\AETH7CGB\MCj03793990000[1].wmf"/>
          <p:cNvPicPr/>
          <p:nvPr/>
        </p:nvPicPr>
        <p:blipFill>
          <a:blip r:embed="rId2"/>
          <a:stretch/>
        </p:blipFill>
        <p:spPr>
          <a:xfrm>
            <a:off x="7315200" y="502920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appy.jpg"/>
          <p:cNvPicPr/>
          <p:nvPr/>
        </p:nvPicPr>
        <p:blipFill>
          <a:blip r:embed="rId3"/>
          <a:stretch/>
        </p:blipFill>
        <p:spPr>
          <a:xfrm>
            <a:off x="2898720" y="2286000"/>
            <a:ext cx="362268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0" y="1143000"/>
            <a:ext cx="563868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You will sing a song and say the sounds that make up each word.  Sing to the tune of “If You’re Happy and You Know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sound them out. /l/ /o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 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sound them out. /l/ /o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then you’re a sound out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333399"/>
                </a:solidFill>
                <a:latin typeface="Comic Sans MS"/>
              </a:rPr>
              <a:t>log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 sound them out. /l/ /o/ /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6400800" y="533520"/>
            <a:ext cx="274320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shee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w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lea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g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9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7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6002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304920" y="2514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676520" y="3429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380880" y="34290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33520" y="45720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4572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228600" y="4572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464832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47242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105520" y="160020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4876920" y="25146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106668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9"/>
          <p:cNvSpPr/>
          <p:nvPr/>
        </p:nvSpPr>
        <p:spPr>
          <a:xfrm>
            <a:off x="121932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0"/>
          <p:cNvSpPr/>
          <p:nvPr/>
        </p:nvSpPr>
        <p:spPr>
          <a:xfrm>
            <a:off x="1066680" y="4572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1"/>
          <p:cNvSpPr/>
          <p:nvPr/>
        </p:nvSpPr>
        <p:spPr>
          <a:xfrm>
            <a:off x="4267080" y="4191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2"/>
          <p:cNvSpPr/>
          <p:nvPr/>
        </p:nvSpPr>
        <p:spPr>
          <a:xfrm>
            <a:off x="4572000" y="4191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3"/>
          <p:cNvSpPr/>
          <p:nvPr/>
        </p:nvSpPr>
        <p:spPr>
          <a:xfrm>
            <a:off x="4800600" y="41911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114300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5"/>
          <p:cNvSpPr/>
          <p:nvPr/>
        </p:nvSpPr>
        <p:spPr>
          <a:xfrm>
            <a:off x="1523880" y="12193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0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r/ , /ore/,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Word Building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Building Spell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066680" y="137160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h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ru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w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181480" y="1447920"/>
            <a:ext cx="243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f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0666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The setting of a story is where and when i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setting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this photo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new-york-city-at-night.jpg"/>
          <p:cNvPicPr/>
          <p:nvPr/>
        </p:nvPicPr>
        <p:blipFill>
          <a:blip r:embed="rId1"/>
          <a:stretch/>
        </p:blipFill>
        <p:spPr>
          <a:xfrm>
            <a:off x="3505320" y="1371600"/>
            <a:ext cx="5540400" cy="3693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6400800" y="0"/>
            <a:ext cx="27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learn to identify setting as a story el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1-17T02:05:34Z</dcterms:modified>
  <cp:revision>191</cp:revision>
  <dc:subject/>
  <dc:title>Slide 1</dc:title>
</cp:coreProperties>
</file>