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EF8A-5CA8-4A01-9DCE-4CF5273A3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70C5-9FAA-45B9-A614-24886524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3F69-7B8D-41B0-8FEE-FFD214BDC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3FFD-E1AC-4517-ADE6-681F84F1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CB32-0E53-4363-AA8A-D907572E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7A95-21A8-41BB-845D-9A41C219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9528-C74F-46AB-BCDB-C42C5755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78C9-3834-4FD3-B3E5-39A54E6D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8D7C-2290-4756-8D61-36A10605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3705-DD7A-4383-BB51-845224E0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A5E5-BEE0-4A0D-8997-E2068E9E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027D-C056-4CEA-83EA-5E906CAF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C1AA-9B8E-413D-9C4F-E8BF60865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09680" y="380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vember 19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sson 12, Day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to www. thinkcentral.com for “Gold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ey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388620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ee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equ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gr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3049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ive- to develop robust vocabulary to describe idea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reed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reedy person wants a lot of something and does not want to share any of i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0" y="3276720"/>
            <a:ext cx="472428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equ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quences are things that happen as the result of another action. If I walk on thin ice, the consequence might be that I fall through the i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2743200" cy="2170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295280" y="4000680"/>
            <a:ext cx="28958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r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erson who has a regret feels sorry for something he or she di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819520" y="2971800"/>
            <a:ext cx="317160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mmar-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pecial names and pl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rtinez Sp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ll country fire 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telli libr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’s gas 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2286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ive- to apply knowledge of using capital letters to begin each word in a special place-nam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304920" y="0"/>
            <a:ext cx="739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Constantia"/>
              </a:rPr>
              <a:t>Riddl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685800" y="990720"/>
            <a:ext cx="7086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ntences give clues about someth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clues us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m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m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ues begin with a capital letter and end with a perio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question ends the ridd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question begins with a capital letter and ends with a question ma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develop a list of criteria for effective ridd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dd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 was sof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You can see me on the king’s b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 am gol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at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152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 to write a ridd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55480" y="304920"/>
            <a:ext cx="56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listen and respond appropriately to oral communic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2000" y="990720"/>
            <a:ext cx="564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like to play? How do you feel while you play t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like to play _____. It makes me feel ______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7238880" y="0"/>
            <a:ext cx="1905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develop the ability to listen for a purpo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MPj04394050000[1]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9"/>
          <p:cNvSpPr/>
          <p:nvPr/>
        </p:nvSpPr>
        <p:spPr>
          <a:xfrm>
            <a:off x="4191120" y="1600200"/>
            <a:ext cx="4343400" cy="37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73"/>
                </a:solidFill>
                <a:latin typeface="Comic Sans MS"/>
              </a:rPr>
              <a:t>Read Aloud 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cc6600"/>
                </a:solidFill>
                <a:latin typeface="Comic Sans MS"/>
              </a:rPr>
              <a:t>In the Sa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457200" y="838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Big Book of Rhymes and Po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le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imes New Roman"/>
              </a:rPr>
              <a:t>This Week’s Sight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Content Placeholder 5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6858000" y="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read high frequency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Placeholder 4"/>
          <p:cNvSpPr/>
          <p:nvPr/>
        </p:nvSpPr>
        <p:spPr>
          <a:xfrm>
            <a:off x="1295280" y="175248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c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hap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g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n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the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Content Placeholder 5"/>
          <p:cNvSpPr/>
          <p:nvPr/>
        </p:nvSpPr>
        <p:spPr>
          <a:xfrm>
            <a:off x="48006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s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w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c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m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238880" y="0"/>
            <a:ext cx="19051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segment phonemes in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457200" y="0"/>
            <a:ext cx="8290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00000"/>
                </a:solidFill>
                <a:uFillTx/>
                <a:latin typeface="Times New Roman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</a:rPr>
              <a:t>Phoneme Segm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clip0000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232884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1523880" y="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286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7315200" y="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build and blend words with /or/ and other known letter-soun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457200" y="1219320"/>
            <a:ext cx="457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16002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304920" y="2514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1676520" y="342900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380880" y="3429000"/>
            <a:ext cx="99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914400" y="4572000"/>
            <a:ext cx="457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533520" y="45720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0" y="45720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8"/>
          <p:cNvSpPr/>
          <p:nvPr/>
        </p:nvSpPr>
        <p:spPr>
          <a:xfrm>
            <a:off x="4343400" y="16002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9"/>
          <p:cNvSpPr/>
          <p:nvPr/>
        </p:nvSpPr>
        <p:spPr>
          <a:xfrm>
            <a:off x="5105520" y="16002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22"/>
          <p:cNvSpPr/>
          <p:nvPr/>
        </p:nvSpPr>
        <p:spPr>
          <a:xfrm>
            <a:off x="4191120" y="25146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23"/>
          <p:cNvSpPr/>
          <p:nvPr/>
        </p:nvSpPr>
        <p:spPr>
          <a:xfrm>
            <a:off x="4876920" y="25146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24"/>
          <p:cNvSpPr/>
          <p:nvPr/>
        </p:nvSpPr>
        <p:spPr>
          <a:xfrm>
            <a:off x="5486400" y="16002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28"/>
          <p:cNvSpPr/>
          <p:nvPr/>
        </p:nvSpPr>
        <p:spPr>
          <a:xfrm>
            <a:off x="5105520" y="25146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25"/>
          <p:cNvSpPr/>
          <p:nvPr/>
        </p:nvSpPr>
        <p:spPr>
          <a:xfrm>
            <a:off x="1066680" y="121932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29"/>
          <p:cNvSpPr/>
          <p:nvPr/>
        </p:nvSpPr>
        <p:spPr>
          <a:xfrm>
            <a:off x="1219320" y="34290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30"/>
          <p:cNvSpPr/>
          <p:nvPr/>
        </p:nvSpPr>
        <p:spPr>
          <a:xfrm>
            <a:off x="1371600" y="45720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34"/>
          <p:cNvSpPr/>
          <p:nvPr/>
        </p:nvSpPr>
        <p:spPr>
          <a:xfrm>
            <a:off x="1143000" y="25146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35"/>
          <p:cNvSpPr/>
          <p:nvPr/>
        </p:nvSpPr>
        <p:spPr>
          <a:xfrm>
            <a:off x="1523880" y="12193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raph /sh/ s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Trish’s pants were too sh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Trish was in shock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I will shop for more pants,” Trish s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Trish dashed down a pa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It was a shortcut to the sh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In a flash, Trish was in the sh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She saw pants with she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Trish got then off the sh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But Trish could not get the p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She forgot her ca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1. sho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2. sh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3. sh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4. ru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5. wi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6. f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7. 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8. 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9. f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10. 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0"/>
            <a:ext cx="358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ive- to spell words with /sh/, /or/, and sight word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tting is where and when a story t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What is the setting in “Senor Coyote, the Judge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What is the setting in “King Midas and His Gold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2286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ive- To identify and describe a settin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1:56:22Z</dcterms:created>
  <dc:creator>Federated Group</dc:creator>
  <dc:description/>
  <dc:language>en-US</dc:language>
  <cp:lastModifiedBy>Valued Gateway Client</cp:lastModifiedBy>
  <dcterms:modified xsi:type="dcterms:W3CDTF">2008-11-19T13:41:29Z</dcterms:modified>
  <cp:revision>3</cp:revision>
  <dc:subject/>
  <dc:title>PowerPoint Presentation</dc:title>
</cp:coreProperties>
</file>