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86FA-C838-48FE-BD17-F26D0CB9D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4A43-2938-400E-8449-3203030F5D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8976-5F0E-4A98-BEBD-230B14A842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2903-9C33-449F-8A1D-7009D93E3A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6522-5067-40B9-A666-59ADFBC691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B880-F505-46C5-8870-F4FCF6BEB6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C51-E079-4140-8F8B-A7751BC6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79B-4AD9-4F64-84A4-958FC905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A6A-1C3A-4820-BBBA-3359B6A5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4C8-A7D9-49AA-946A-457DD6E9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2F85-FC2E-49FF-9E2E-7EC04CAC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44F9-B08A-4784-9CF5-0F489AE5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1979-74C2-400E-98F5-D3E1296D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ED70-4FE7-4448-999C-6B55A7F0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2B17-4BE1-4FD2-9490-48AEE374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B70D-5931-4691-A53A-00E07264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ECC5-A5C9-45C1-ABFE-CD638D72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CF1-C46A-4BF9-B437-82D88D78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B9B0-0A28-4CF3-B744-38FA68FB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032B-9C3D-419B-B4E7-362461AA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C48A-17DB-49E6-BF98-87824E32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145D-E63D-4249-BD52-E9E33D24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FC8D-AF6C-48CF-A34F-F6EA7CC6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A83-9C61-4E17-9AB2-BF123F81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8B9-F1A3-46B4-B2C7-664F37B2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A04-71DF-42A9-8BBB-D783493D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06C-C26E-4CDD-8F24-8A9BDEEC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90D-8B77-4181-AC38-76A2FB0D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D5E-797E-410C-8A49-FDFE2183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BF9-D780-4664-9D71-F88BA1D9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51EB-013E-4F82-97E1-5755DCDA9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3282-BE11-4975-94E8-F3C36725B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09480" y="2819520"/>
            <a:ext cx="8077320" cy="30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urs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vember 20, 20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12 Day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1143000"/>
            <a:ext cx="769608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Times New Roman"/>
              </a:rPr>
              <a:t>Consonant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Times New Roman"/>
              </a:rPr>
              <a:t>Blends With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00"/>
                </a:solidFill>
                <a:latin typeface="Times New Roman"/>
              </a:rPr>
              <a:t>l, r, and 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0"/>
            <a:ext cx="6629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Objective: To identify initial blends with l, r, and s in w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To read words with initial blends with l, r, and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533520"/>
            <a:ext cx="7543800" cy="35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inces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49568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Remember that this is one of the words that we read in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Times New Roman"/>
              </a:rPr>
              <a:t>King Midas and his Gold. 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Notice that this word has a consonant blend – pr - prince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0"/>
            <a:ext cx="807696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et’s see which words we can make with the following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 bl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c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33520"/>
            <a:ext cx="32763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n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w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c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8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1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7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et’s see which words we can make with the following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bl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15238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1219320"/>
            <a:ext cx="190512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l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la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g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l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53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5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30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’s see which words we can make with the following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 bl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914400"/>
            <a:ext cx="28191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b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g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90720"/>
            <a:ext cx="30481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br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ra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ri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fr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gr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in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4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77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0" dur="77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2" dur="77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4" dur="77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you come here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” ask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oked in the clo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li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ut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lack trun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 flipp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pen the l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saw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rass cl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 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lank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mall fla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ot out a gol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ump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trumpet is for you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” he sa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ndd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” sai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r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o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la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have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umpe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pelling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1.</a:t>
            </a:r>
            <a:r>
              <a:rPr b="0" lang="en-US" sz="4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shop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2. sh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3. shu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4. rus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haroni"/>
                <a:ea typeface="Aharoni"/>
              </a:rPr>
              <a:t>5. wis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6.</a:t>
            </a: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fis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7. f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8. m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9. fr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haroni"/>
                <a:ea typeface="Aharoni"/>
              </a:rPr>
              <a:t>10. v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0"/>
            <a:ext cx="8382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Objective- to use /sh/ sh and other known letter-sounds to spell and write wo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o spell and write known high frequency wo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1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바탕"/>
                <a:ea typeface="바탕"/>
              </a:rPr>
              <a:t>Words to Kno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75d1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6629400" y="57150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bjective:  To read high-frequency word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IMGP3219-718608.jpg"/>
          <p:cNvPicPr/>
          <p:nvPr/>
        </p:nvPicPr>
        <p:blipFill>
          <a:blip r:embed="rId1"/>
          <a:stretch/>
        </p:blipFill>
        <p:spPr>
          <a:xfrm>
            <a:off x="3305160" y="990720"/>
            <a:ext cx="51246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28600" y="380880"/>
            <a:ext cx="8915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etting - where a story takes place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nd when it happens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61722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bjective: To recognize setting while listening to a s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89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Let’s read Ugh! A Bug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Where is the bug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What do you think the setting of the story is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28600" y="1066680"/>
            <a:ext cx="8686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619360" y="1257480"/>
            <a:ext cx="3905280" cy="3528720"/>
            <a:chOff x="2619360" y="1257480"/>
            <a:chExt cx="3905280" cy="3528720"/>
          </a:xfrm>
        </p:grpSpPr>
        <p:sp>
          <p:nvSpPr>
            <p:cNvPr id="177" name="_s111628"/>
            <p:cNvSpPr/>
            <p:nvPr/>
          </p:nvSpPr>
          <p:spPr>
            <a:xfrm flipH="1">
              <a:off x="3631680" y="3699000"/>
              <a:ext cx="468360" cy="27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111627"/>
            <p:cNvSpPr/>
            <p:nvPr/>
          </p:nvSpPr>
          <p:spPr>
            <a:xfrm>
              <a:off x="2619360" y="3700440"/>
              <a:ext cx="1085760" cy="1085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tre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111626"/>
            <p:cNvSpPr/>
            <p:nvPr/>
          </p:nvSpPr>
          <p:spPr>
            <a:xfrm>
              <a:off x="5041800" y="3700440"/>
              <a:ext cx="470160" cy="27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111625"/>
            <p:cNvSpPr/>
            <p:nvPr/>
          </p:nvSpPr>
          <p:spPr>
            <a:xfrm>
              <a:off x="5438880" y="3699000"/>
              <a:ext cx="1085760" cy="1085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la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111624"/>
            <p:cNvSpPr/>
            <p:nvPr/>
          </p:nvSpPr>
          <p:spPr>
            <a:xfrm flipV="1">
              <a:off x="4572000" y="2343240"/>
              <a:ext cx="0" cy="54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111623"/>
            <p:cNvSpPr/>
            <p:nvPr/>
          </p:nvSpPr>
          <p:spPr>
            <a:xfrm>
              <a:off x="4029120" y="1257480"/>
              <a:ext cx="1085760" cy="1085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flow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11622"/>
            <p:cNvSpPr/>
            <p:nvPr/>
          </p:nvSpPr>
          <p:spPr>
            <a:xfrm>
              <a:off x="4029120" y="2886120"/>
              <a:ext cx="1085760" cy="1085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etting: wood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or gard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828800"/>
            <a:ext cx="80773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bust Vocabulary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80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Objective: To review robust vocabul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447920"/>
            <a:ext cx="77724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ed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Times New Roman"/>
              </a:rPr>
              <a:t>greed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edy person wants a lot of something and does not want to share any of 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7242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9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4920" y="228600"/>
            <a:ext cx="807696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Do you think a greedy person would share? Why or why 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If a person is greedy about watching TV, what might the perso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How would a greedy dog act with a b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1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4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4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33520" y="914400"/>
            <a:ext cx="79246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sequenc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seque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 are things that happen as the result of another action. If I walk on thin ice, the consequence might be that I fall through the 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3352680" cy="2170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295280" y="4000680"/>
            <a:ext cx="27432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4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4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380880"/>
            <a:ext cx="82296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hat would some consequences be if you did not clean your roo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hat are some good consequences of sharing toys with a frie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hat are some bad consequences of not sharing toys with a frie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914400" y="1371600"/>
            <a:ext cx="7238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gre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gre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erson who has a regret feels sorry for something he or she di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1716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762120"/>
            <a:ext cx="762012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What do you do that makes you really happ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I am happy when I _____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bjective: To determine a purpose for list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457200"/>
            <a:ext cx="7848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ould you regret spilling your milk? Why or why no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Suppose you ate the last cookie.  Would you regret 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Would you regret helping your family set the table? Why or why no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609480"/>
            <a:ext cx="77724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pecial nam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f pla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00"/>
                </a:solidFill>
                <a:latin typeface="Times New Roman"/>
              </a:rPr>
              <a:t>Remember that special names of places only belong to that place.  Each word in a special name begins with a capital lett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333760" cy="289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0880" y="3429000"/>
            <a:ext cx="84582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o you know the muffin man, the muffin man, the muffin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o you know the muffin man who lives on drury la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What is the special name of a place in this sente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46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0880" y="228600"/>
            <a:ext cx="8382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cial names of plac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1371600"/>
            <a:ext cx="7924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drury la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river roa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kennedy boulev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first stre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imes New Roman"/>
              </a:rPr>
              <a:t>belmont aven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04920" y="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eec94"/>
                </a:solidFill>
                <a:uFillTx/>
                <a:latin typeface="Constantia"/>
              </a:rPr>
              <a:t>Riddl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685800" y="990720"/>
            <a:ext cx="7086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ntences give clues about someth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clues us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my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ues begin with a capital letter and end with a peri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question ends the ridd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 question begins with a capital letter and ends with a question mar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6a03"/>
                </a:solidFill>
                <a:latin typeface="Arial"/>
              </a:rPr>
              <a:t>Objective: To develop a list of criteria for effective ridd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380880"/>
            <a:ext cx="7467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idd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2438280"/>
            <a:ext cx="73152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 have a zipp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ildren carry books in 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hildren wear me on their back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hat am 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90960" y="-360"/>
            <a:ext cx="3352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Objective: To listen attentively and respond appropriately to poetry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4" descr="MPj04394050000[1]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30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4191120" y="1600200"/>
            <a:ext cx="43434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Read Al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00"/>
                </a:solidFill>
                <a:latin typeface="Comic Sans MS"/>
              </a:rPr>
              <a:t>Contentm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457200" y="838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0"/>
            <a:ext cx="75438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e are going to read a poem called Contentment.  Contentment means feeling happy with the way things are right now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Let’s read the poem to see what makes the poet happ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0"/>
            <a:ext cx="79246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en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would like to be wis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would like to be st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would like to be right and never be w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ut since none of this is likely to b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’m really quite happy to be only 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ight Wor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u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e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6858000" y="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76a03"/>
                </a:solidFill>
                <a:latin typeface="Times New Roman"/>
              </a:rPr>
              <a:t>Objective: To segment phonemes in words.</a:t>
            </a:r>
            <a:endParaRPr b="1" lang="en-US" sz="1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90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ff"/>
                </a:solidFill>
                <a:uFillTx/>
                <a:latin typeface="Times New Roman"/>
              </a:rPr>
              <a:t>Phonemic Awarenes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honeme Seg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066680" y="49528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haroni"/>
                <a:ea typeface="Aharoni"/>
              </a:rPr>
              <a:t>If You’re Happy and You Know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C:\Users\Janice\AppData\Local\Microsoft\Windows\Temporary Internet Files\Content.IE5\AETH7CGB\MCj03793990000[1].wmf"/>
          <p:cNvPicPr/>
          <p:nvPr/>
        </p:nvPicPr>
        <p:blipFill>
          <a:blip r:embed="rId1"/>
          <a:stretch/>
        </p:blipFill>
        <p:spPr>
          <a:xfrm>
            <a:off x="685800" y="495288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Users\Janice\AppData\Local\Microsoft\Windows\Temporary Internet Files\Content.IE5\AETH7CGB\MCj03793990000[1].wmf"/>
          <p:cNvPicPr/>
          <p:nvPr/>
        </p:nvPicPr>
        <p:blipFill>
          <a:blip r:embed="rId2"/>
          <a:stretch/>
        </p:blipFill>
        <p:spPr>
          <a:xfrm>
            <a:off x="7315200" y="5029200"/>
            <a:ext cx="957240" cy="1192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happy.jpg"/>
          <p:cNvPicPr/>
          <p:nvPr/>
        </p:nvPicPr>
        <p:blipFill>
          <a:blip r:embed="rId3"/>
          <a:stretch/>
        </p:blipFill>
        <p:spPr>
          <a:xfrm>
            <a:off x="2898720" y="2286000"/>
            <a:ext cx="362268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2" descr="C:\Users\Janice\AppData\Local\Microsoft\Windows\Temporary Internet Files\Content.IE5\CVW5V2AD\MCj03974940000[1].wmf"/>
          <p:cNvPicPr/>
          <p:nvPr/>
        </p:nvPicPr>
        <p:blipFill>
          <a:blip r:embed="rId1"/>
          <a:stretch/>
        </p:blipFill>
        <p:spPr>
          <a:xfrm>
            <a:off x="5257800" y="380880"/>
            <a:ext cx="243828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Objective: To segment recognizable words into phonemes.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2860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Arial"/>
              </a:rPr>
              <a:t>Let’s S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0" y="1143000"/>
            <a:ext cx="563868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You will sing a song and say the sounds that make up each word.  Sing to the tune of “If You’re Happy and You Know I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If you know the sounds in </a:t>
            </a: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hat,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 sound them out. /h/ /a/ /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If you know the sounds in</a:t>
            </a: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 hat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, sound them out. /h/ /a/ /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If you know the sounds in hat, then you’re a sound out s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If you know the sounds in hat, sound them out. /h/ /a/ /t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7467480" y="762120"/>
            <a:ext cx="167652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k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pl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h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la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bo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p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clim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sh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7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77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7:19:59Z</dcterms:created>
  <dc:creator>Valued Gateway Client</dc:creator>
  <dc:description/>
  <dc:language>en-US</dc:language>
  <cp:lastModifiedBy>Valued Gateway Client</cp:lastModifiedBy>
  <dcterms:modified xsi:type="dcterms:W3CDTF">2008-11-20T01:22:17Z</dcterms:modified>
  <cp:revision>5</cp:revision>
  <dc:subject/>
  <dc:title>Slide 1</dc:title>
</cp:coreProperties>
</file>