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DE2-6BBC-4090-94F1-FA123E7A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52D-DC65-4F97-8A1F-D512E6E6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A6C-F363-4109-B966-57626CDE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6CC-40A5-45AF-AA17-13CB7094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E19-7207-4202-81D3-1A0EA349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D1C-2EF8-4439-B65A-9B690141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DACC-CE91-45BF-932E-9149EDE9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B45-E7BC-40ED-85BE-E84F5000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8281-64D1-49EF-B565-EBCFB9D6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877F-E015-47C5-9ED2-C07136F6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941-7425-40E3-8E94-D9249600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F8A-D672-40AC-BD2B-B13AC0E1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1BBC-AEBB-4521-BE5C-2DD503A9E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vember 2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2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7520" y="0"/>
            <a:ext cx="2076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describe the setting of a sel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etting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066680"/>
          <a:ext cx="8229600" cy="5477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g Midas and His Gold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or Coyote, the Judg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gh! A Bug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some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14600" y="2514600"/>
            <a:ext cx="42670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36576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095880" y="14479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600200" y="1752480"/>
            <a:ext cx="1295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057400" y="3733920"/>
            <a:ext cx="1295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724280"/>
            <a:ext cx="221004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457200"/>
            <a:ext cx="2209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4724280"/>
            <a:ext cx="221004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685800"/>
            <a:ext cx="2209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28195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5105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00800" y="5105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838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14600" y="2514600"/>
            <a:ext cx="42670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36576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095880" y="14479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1600200" y="1752480"/>
            <a:ext cx="1295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057400" y="3733920"/>
            <a:ext cx="1295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724280"/>
            <a:ext cx="221004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457200"/>
            <a:ext cx="2209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4724280"/>
            <a:ext cx="221004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85800"/>
            <a:ext cx="2209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28195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5105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5105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838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would it be good to be w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would it be good to be stro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ould like to be _______ because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15192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istinguish between real and make-belie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1752480"/>
            <a:ext cx="441972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Read Aloud             “Contentment”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re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recognizable words; to segment phonemes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304560"/>
            <a:ext cx="5181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 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initial blends l, s,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itial Blends with l, s, 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2133720"/>
            <a:ext cx="59436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words with initial blends l, s,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28600"/>
            <a:ext cx="84582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itial Blends with l, s, 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066680"/>
            <a:ext cx="33526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nd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1155600"/>
            <a:ext cx="335304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n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m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and write known high-frequenc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8600"/>
            <a:ext cx="9144000" cy="65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pell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your name, date, and the numbers 1 to 10 on your pap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back write one of the sentences and illustr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I wish for a 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 must rush to the shop to get more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igh Frequency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1-22T04:07:04Z</dcterms:modified>
  <cp:revision>88</cp:revision>
  <dc:subject/>
  <dc:title>Slide 1</dc:title>
</cp:coreProperties>
</file>