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gif" ContentType="image/gif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0C2-A629-4197-BBCC-73170262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E59-934A-4CC8-9655-E84EAAC6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B16-E820-4614-B33B-311B5000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78F-892F-4338-A147-F38C6EA8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92C-CF85-43F0-9EAD-6647BD00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69CF-00D3-4305-BCE4-CDE1BF19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CCF-C01B-43AB-BDFE-42393D0F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77F-5226-425C-96FE-9096D57F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3B7-38DD-446D-97F0-4D055C0A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DED0-B8D8-49B0-B542-EA286DDB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499-D58B-4CC5-9A6D-97F94802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8F73-62B5-4995-8353-93C74615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6220-F231-4FB8-898E-7274ADE8A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3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Rich stands to get a branch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Grow just an inch more!” Mom c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ad “Rich Gets Bi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1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rry and the Monarch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304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narrative nonf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60199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on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astonishing, it amazes and surprises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tonish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3181320" cy="456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tinu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1714680"/>
            <a:ext cx="3713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continue to do something, you keep doing i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4530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ubt something, you do not believe it is tru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oub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es a firefly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es it 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firefly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firefly likes to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67120" y="0"/>
            <a:ext cx="16765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names of days of the weeks and months of the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mes of Days and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867640" cy="418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5105520"/>
            <a:ext cx="7620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onth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96080" y="0"/>
            <a:ext cx="1447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names of days of the weeks and months of the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11400" y="0"/>
            <a:ext cx="527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sentences with Days and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97000" y="0"/>
            <a:ext cx="530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first, next, and l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 Sequenc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rhyming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9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Fireflies, Fireflies, Light My Wa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initial phonemes from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the diagraph ch /ch/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agraph /ch/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219320"/>
            <a:ext cx="380988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ch/ sound at the beginning, put your thumb up say /ch/.  When I say a word that does not have /ch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’s do the same thing with the final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51818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862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nstantia"/>
              </a:rPr>
              <a:t>Word Building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ch/ ch and other known letter-sounds to spell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990720"/>
            <a:ext cx="5257800" cy="60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chip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chi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inch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5500" spc="-1" strike="noStrike">
                <a:solidFill>
                  <a:srgbClr val="000000"/>
                </a:solidFill>
                <a:latin typeface="Constantia"/>
              </a:rPr>
              <a:t>such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12-01T05:11:50Z</dcterms:modified>
  <cp:revision>90</cp:revision>
  <dc:subject/>
  <dc:title>Slide 1</dc:title>
</cp:coreProperties>
</file>