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CBFB-EDEC-43B0-B15C-A5250FEB6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80D5-783F-4191-BA35-FF7D81A32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519-F834-4530-986C-FB818343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9762-A09D-4862-AB61-451E4241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890-6DB3-4BDE-9D9E-6139E9797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99D1-3206-475E-A5F4-FC5DE528E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D41C-A924-44B3-88FC-07AEC92A2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4AC6-2485-4AE7-8EC9-E0700F4B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B264-33E7-43E0-A91F-CCD8CE24C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A708-B760-47AC-8B65-A2EB8FFA8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F7FD-1055-4A1D-86A0-6F23799D8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4259-5143-4700-9882-8328AF2A4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ADD2-8E81-48ED-AE7F-2997E3A3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57E-632E-47DA-B18D-B840CAAB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23C9-8A8A-4035-A71B-45F6D7092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6F0A-4A06-4D8F-9B11-C85FBB6AB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318C-714B-4CEB-BF2D-DC0C4DBC6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BB61-390F-414E-8064-303B56E0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682F-2FFB-4F05-A81A-A86AFCAB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49C2-C1A9-4FCE-A3D1-75493ED3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F007-8552-420C-BCCB-1493FB59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D6A1-D6A2-499A-9B05-7AFCA6C6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2831-215A-4D43-8B9C-42851B786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A0E-9540-4927-95B9-DD40B37F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57E-762A-4076-A23D-A1240924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048-C8E9-4ED3-8B32-DA382550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CDF-CF24-4393-8390-E954944B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6BF-15F5-4A81-B370-9F374913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FED7-DE6C-4BEC-B4F7-EED0BEE3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762-17EB-43AC-A263-CBC2C6DE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227-A329-4C8E-B26F-1B30B073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E04-146C-4DD9-8657-05A873E7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C54-FD7C-41AC-AFFA-0C300A50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66B-3543-4CCF-953E-9EB7FCA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D0B-5E0A-4807-B856-9AED88B1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E059-2840-43C2-B8E7-0F1DF8B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730F-912E-4367-9EB7-87DFB83DC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3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038480" y="914400"/>
            <a:ext cx="198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 by sequ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Read “A Butterfly Grow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be thinking about what the sequence of the butterfly lif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 by sequ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447920" y="11430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29528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37160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371600" y="35053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on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astonishing, it amazes and surprises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stonish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MPj04140390000[1]"/>
          <p:cNvPicPr/>
          <p:nvPr/>
        </p:nvPicPr>
        <p:blipFill>
          <a:blip r:embed="rId1"/>
          <a:stretch/>
        </p:blipFill>
        <p:spPr>
          <a:xfrm>
            <a:off x="1143000" y="1371600"/>
            <a:ext cx="3181320" cy="4568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776680" y="258840"/>
            <a:ext cx="359064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ntin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181480" y="1714680"/>
            <a:ext cx="37134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continue to do something, you keep doing i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MPj04332050000[1]"/>
          <p:cNvPicPr/>
          <p:nvPr/>
        </p:nvPicPr>
        <p:blipFill>
          <a:blip r:embed="rId1"/>
          <a:stretch/>
        </p:blipFill>
        <p:spPr>
          <a:xfrm>
            <a:off x="533520" y="2597040"/>
            <a:ext cx="4530600" cy="29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ubt something, you do not believe it is tru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oub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Mj02827480000[1]"/>
          <p:cNvPicPr/>
          <p:nvPr/>
        </p:nvPicPr>
        <p:blipFill>
          <a:blip r:embed="rId1"/>
          <a:stretch/>
        </p:blipFill>
        <p:spPr>
          <a:xfrm>
            <a:off x="53352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67120" y="0"/>
            <a:ext cx="16765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Days and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MPj03096360000[1]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4187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9"/>
          <p:cNvSpPr/>
          <p:nvPr/>
        </p:nvSpPr>
        <p:spPr>
          <a:xfrm>
            <a:off x="380880" y="5105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onth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8"/>
          <p:cNvSpPr/>
          <p:nvPr/>
        </p:nvSpPr>
        <p:spPr>
          <a:xfrm>
            <a:off x="762120" y="685800"/>
            <a:ext cx="7696080" cy="556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sentences with Days and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6094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unday, I always 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day is a good day to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orning means it is time for __________ 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mas always comes in the month of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es an inchworm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does it mo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n inchworm i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t moves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first, next, and l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7696080" y="0"/>
            <a:ext cx="1447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names of days of the weeks and months of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2" descr="la25"/>
          <p:cNvPicPr/>
          <p:nvPr/>
        </p:nvPicPr>
        <p:blipFill>
          <a:blip r:embed="rId1"/>
          <a:stretch/>
        </p:blipFill>
        <p:spPr>
          <a:xfrm>
            <a:off x="211140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 Sequenc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he Inchwor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380880" y="2133720"/>
            <a:ext cx="4210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458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ime to 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Comic Sans MS"/>
                <a:ea typeface="Aharoni"/>
              </a:rPr>
              <a:t>The Farmer in the 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Say “hat” without the /h/.  Say “hat” wit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he /h/. Hi-ho, the derrio.  Say “hat” with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he /h/.  (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609480" y="312408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er without the /ch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p without the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p without the /f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 without the /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4876920" y="2971800"/>
            <a:ext cx="350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ud without the /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ch without the /b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 without the /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 without the /f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8" descr="C:\Users\Janice\AppData\Local\Microsoft\Windows\Temporary Internet Files\Content.IE5\AETH7CGB\MCj04244600000[1].wmf"/>
          <p:cNvPicPr/>
          <p:nvPr/>
        </p:nvPicPr>
        <p:blipFill>
          <a:blip r:embed="rId1"/>
          <a:stretch/>
        </p:blipFill>
        <p:spPr>
          <a:xfrm>
            <a:off x="5029200" y="0"/>
            <a:ext cx="18288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5053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7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9625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2819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914400" y="4572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omic Sans MS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jurliss_lily_bloom.jpg"/>
          <p:cNvPicPr/>
          <p:nvPr/>
        </p:nvPicPr>
        <p:blipFill>
          <a:blip r:embed="rId1"/>
          <a:stretch/>
        </p:blipFill>
        <p:spPr>
          <a:xfrm>
            <a:off x="3816360" y="380880"/>
            <a:ext cx="5327640" cy="4907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80880" y="114300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When you read a story, look for the sequence.  The sequence is what happens </a:t>
            </a:r>
            <a:r>
              <a:rPr b="0" i="1" lang="en-US" sz="3600" spc="-1" strike="noStrike">
                <a:solidFill>
                  <a:srgbClr val="6b6bcf"/>
                </a:solidFill>
                <a:latin typeface="Comic Sans MS"/>
              </a:rPr>
              <a:t>first</a:t>
            </a: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, </a:t>
            </a:r>
            <a:r>
              <a:rPr b="0" i="1" lang="en-US" sz="3600" spc="-1" strike="noStrike">
                <a:solidFill>
                  <a:srgbClr val="6b6bcf"/>
                </a:solidFill>
                <a:latin typeface="Comic Sans MS"/>
              </a:rPr>
              <a:t>next</a:t>
            </a: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, and </a:t>
            </a:r>
            <a:r>
              <a:rPr b="0" i="1" lang="en-US" sz="3600" spc="-1" strike="noStrike">
                <a:solidFill>
                  <a:srgbClr val="6b6bcf"/>
                </a:solidFill>
                <a:latin typeface="Comic Sans MS"/>
              </a:rPr>
              <a:t>last</a:t>
            </a: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  in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6019920" y="617220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identify and describe a sequence of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2-02T04:57:50Z</dcterms:modified>
  <cp:revision>111</cp:revision>
  <dc:subject/>
  <dc:title>Slide 1</dc:title>
</cp:coreProperties>
</file>