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2E4B-BC02-4700-B59C-D79FF126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169-16F7-4A78-8710-0679DF9E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3BB-A0BE-4182-ADB1-07F46972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ABE-2C94-43F4-83F7-240856AB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120-6D4C-4F39-AF33-49DB8CF3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D09-3F96-403F-9887-FB5128BB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708-D99D-4B59-8E15-5D6A8CA5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802-4A2C-4024-BD6E-BEE608BC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187-B443-4BB2-8475-E53DF558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5EE-7AE0-401E-AB65-679F120E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FB4-5E7E-42B5-8752-58CAF023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C3C-8FA3-40F5-AD53-03F2D2C4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E831-5D78-45A2-BC40-34B4E15EE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09680" y="380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cember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son 13, Da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entury Gothic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Where would you like to g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Century Gothic"/>
              </a:rPr>
              <a:t>I eat this plant for lunch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22860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:  To read with correct intonation in a manner that sounds like natural spee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“</a:t>
            </a: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Hurry and the Monarch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705720" y="0"/>
            <a:ext cx="24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practice retelling a story by sequ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Read 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Caterpilla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transform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16002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transform something, you totally change i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coon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2438640" cy="3251160"/>
          </a:xfrm>
          <a:prstGeom prst="rect">
            <a:avLst/>
          </a:prstGeom>
          <a:ln w="0">
            <a:noFill/>
          </a:ln>
        </p:spPr>
      </p:pic>
      <p:pic>
        <p:nvPicPr>
          <p:cNvPr id="112" name="butterfly" descr=""/>
          <p:cNvPicPr/>
          <p:nvPr/>
        </p:nvPicPr>
        <p:blipFill>
          <a:blip r:embed="rId2"/>
          <a:stretch/>
        </p:blipFill>
        <p:spPr>
          <a:xfrm>
            <a:off x="5867280" y="4343400"/>
            <a:ext cx="2514600" cy="1790640"/>
          </a:xfrm>
          <a:prstGeom prst="rect">
            <a:avLst/>
          </a:prstGeom>
          <a:ln w="0">
            <a:noFill/>
          </a:ln>
        </p:spPr>
      </p:pic>
      <p:pic>
        <p:nvPicPr>
          <p:cNvPr id="113" name="caterpillar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2565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amine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1523880"/>
            <a:ext cx="358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examine something, you look at it closely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examine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395440" cy="3581280"/>
          </a:xfrm>
          <a:prstGeom prst="rect">
            <a:avLst/>
          </a:prstGeom>
          <a:ln w="0">
            <a:noFill/>
          </a:ln>
        </p:spPr>
      </p:pic>
      <p:pic>
        <p:nvPicPr>
          <p:cNvPr id="118" name="examine%202" descr=""/>
          <p:cNvPicPr/>
          <p:nvPr/>
        </p:nvPicPr>
        <p:blipFill>
          <a:blip r:embed="rId2"/>
          <a:stretch/>
        </p:blipFill>
        <p:spPr>
          <a:xfrm>
            <a:off x="6553080" y="1981080"/>
            <a:ext cx="23115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vour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1600200"/>
            <a:ext cx="3352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devour something, you eat it all up very quickly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devour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022560" cy="2019240"/>
          </a:xfrm>
          <a:prstGeom prst="rect">
            <a:avLst/>
          </a:prstGeom>
          <a:ln w="0">
            <a:noFill/>
          </a:ln>
        </p:spPr>
      </p:pic>
      <p:pic>
        <p:nvPicPr>
          <p:cNvPr id="123" name="devour1" descr=""/>
          <p:cNvPicPr/>
          <p:nvPr/>
        </p:nvPicPr>
        <p:blipFill>
          <a:blip r:embed="rId2"/>
          <a:stretch/>
        </p:blipFill>
        <p:spPr>
          <a:xfrm>
            <a:off x="1676520" y="3657600"/>
            <a:ext cx="3632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467480" y="0"/>
            <a:ext cx="16765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names of days of the weeks and months of the y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mes of Days and Mon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7" descr="MPj03096360000[1]"/>
          <p:cNvPicPr/>
          <p:nvPr/>
        </p:nvPicPr>
        <p:blipFill>
          <a:blip r:embed="rId1"/>
          <a:stretch/>
        </p:blipFill>
        <p:spPr>
          <a:xfrm>
            <a:off x="838080" y="838080"/>
            <a:ext cx="5867640" cy="4187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9"/>
          <p:cNvSpPr/>
          <p:nvPr/>
        </p:nvSpPr>
        <p:spPr>
          <a:xfrm>
            <a:off x="380880" y="5105520"/>
            <a:ext cx="7620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month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172200" y="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recognize names of days of the weeks and months of the y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80"/>
                </a:solidFill>
                <a:latin typeface="Times New Roman"/>
              </a:rPr>
              <a:t>Grammar- Names of Days and Month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e have a class birthday party on the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riday of each mon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e plan the party on thurs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st september, we had a party for Alber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am and Kim had a birthday part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cto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We played fun games in novemb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entury Gothic"/>
              </a:rPr>
              <a:t>*Find the words that need to be capit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2193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first, next,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las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nchworms move slowly. When do you move slowly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move slowly when I 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quence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rite about School: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rite about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u did yesterday at schoo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Use words First, Next, and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Write it in order of when it happen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entury Gothic"/>
              </a:rPr>
              <a:t>Tell beginning, middle, and end of your day.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sequence chart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238880" y="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343400" y="457200"/>
            <a:ext cx="48006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The Inchwor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" descr="C:\Users\Janice\AppData\Local\Microsoft\Windows\Temporary Internet Files\Content.IE5\AETH7CGB\MCj04345750000[1].wmf"/>
          <p:cNvPicPr/>
          <p:nvPr/>
        </p:nvPicPr>
        <p:blipFill>
          <a:blip r:embed="rId1"/>
          <a:stretch/>
        </p:blipFill>
        <p:spPr>
          <a:xfrm>
            <a:off x="380880" y="2133720"/>
            <a:ext cx="4210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r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lete initial phonemes from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33720" y="274680"/>
            <a:ext cx="457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Build Words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200400" y="121932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iscriminate between the letter-sound associations /ch/ch, tch and /sh/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8620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3733920" y="2438280"/>
            <a:ext cx="609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048120" y="24382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3581280" y="464832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2819520" y="5562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37339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42670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438280"/>
            <a:ext cx="99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133720" y="274680"/>
            <a:ext cx="457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Build Words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971800" y="1219320"/>
            <a:ext cx="1066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iscriminate between the letter-sound associations /ch/ch, tch and /sh/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88620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26708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733920" y="2438280"/>
            <a:ext cx="609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743200" y="24382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038480" y="36576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3581280" y="464832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2767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438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464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entury Gothic"/>
              </a:rPr>
              <a:t>Digraphs /ch/ ch, 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Mitch the chimp was in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What’s for lunch?” Mitch ask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Rich said, “We have mush, chips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chick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We’ll eat fish and shrimp, too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Munch, crunch! Chomp, Chom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“</a:t>
            </a:r>
            <a:r>
              <a:rPr b="1" lang="en-US" sz="3200" spc="-1" strike="noStrike">
                <a:solidFill>
                  <a:srgbClr val="996600"/>
                </a:solidFill>
                <a:latin typeface="Century Gothic"/>
              </a:rPr>
              <a:t>Yum!” said Mitch. “Thanks, Rich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: To use /ch/ch, tch, /sh/ sh, and other known letter-sounds to decode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Century Gothic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i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w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: To use /ch/ch, tch, /sh/ sh, and other known letter-sounds to decode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2:09:41Z</dcterms:created>
  <dc:creator>Federated Group</dc:creator>
  <dc:description/>
  <dc:language>en-US</dc:language>
  <cp:lastModifiedBy>Federated Group</cp:lastModifiedBy>
  <dcterms:modified xsi:type="dcterms:W3CDTF">2008-12-03T03:11:43Z</dcterms:modified>
  <cp:revision>1</cp:revision>
  <dc:subject/>
  <dc:title>PowerPoint Presentation</dc:title>
</cp:coreProperties>
</file>