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5665-42F1-4378-BFD3-27458EB3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78D-5FD8-4BFC-AE45-71E52A2C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909-5E3E-4980-8B12-02DA21787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58A-4B6E-40E9-819F-F35EF94F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0C0-48F3-443F-B5DA-DAACA50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784-D9E0-440B-93A1-4E06AC4F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91E-7D25-4C92-B670-F4375BC6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186-F37B-47F7-86C1-57984D63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74B-BA15-4D3E-8802-B68BF3ED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4AB7-6B77-448A-BA62-97FEC3E0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1AAD-BFF1-484A-AC2F-25E444B9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4471-9877-46C6-B9FC-7E88A035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F99C-F44D-40D3-8E3A-6928F0BB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7238-F78B-4156-8565-2BA7208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059-4A86-42A0-BE29-5D93B81A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408-D576-4722-8CF5-F05171D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D82-2D28-41C9-A8BA-D0E2848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F0E2-763A-46CF-A88B-4839169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D37-90B3-4C8E-AEC4-5D217BA6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86E-F8A6-451B-87E9-A042639C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61C-9C23-45B3-B972-17C68339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162-9BB9-484B-BDFC-8DCA16B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01C-7757-4448-AD11-441A1F2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242-AF11-47B7-AD8E-B01278A3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9A5-6C7C-4B00-8BA6-C37BCFB2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B8B-1E80-403F-B580-6E1510D7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4F98-89D5-4C70-B4AD-17228D75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8B6-A359-43A4-8B55-FA78522A7F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CE4-BBBE-4C8D-95DB-A9917E408B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533520"/>
            <a:ext cx="8610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Thursday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December 4, 20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Lesson 13 Day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0"/>
            <a:ext cx="73911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x = 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rush = bru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nch = bu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tch =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s = 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ress = 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uzz = buz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ass =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853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When we make a word plural – more than one – we add an es instead of an s to a word that ends with x, s, ss, ch, tch, sh, 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523880" y="1397160"/>
          <a:ext cx="6324840" cy="4619520"/>
        </p:xfrm>
        <a:graphic>
          <a:graphicData uri="http://schemas.openxmlformats.org/drawingml/2006/table">
            <a:tbl>
              <a:tblPr/>
              <a:tblGrid>
                <a:gridCol w="2133720"/>
                <a:gridCol w="2057400"/>
                <a:gridCol w="213372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703dff"/>
                          </a:solidFill>
                          <a:uFillTx/>
                          <a:latin typeface="Comic Sans MS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t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po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r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fi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703dff"/>
                          </a:solidFill>
                          <a:latin typeface="Comic Sans MS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Comic Sans MS"/>
                        </a:rPr>
                        <a:t>+ Ending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ef66"/>
                          </a:solidFill>
                          <a:uFillTx/>
                          <a:latin typeface="Comic Sans MS"/>
                        </a:rPr>
                        <a:t>New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to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por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ru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fiz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f66"/>
                          </a:solidFill>
                          <a:latin typeface="Comic Sans MS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304920"/>
            <a:ext cx="8153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i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i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ra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ra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er c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Then 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ss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a fast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I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wi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! The pitch is a good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swing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m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with his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F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tc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the ball from the po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Rich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ashes</a:t>
            </a: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90680" indent="-49068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5029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: To use /ch/ch, tch, /sh/ sh,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pell and write known high frequency 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3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3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3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3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3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3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3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3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3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3520" y="990720"/>
            <a:ext cx="7543800" cy="40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 of a story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order in whic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ings happen in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First, Next, Last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86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sequence o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304920"/>
            <a:ext cx="7467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 read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Fireflies, Fireflies, Light My Wa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d see if we have an order in which the author meets the animals.  Why do you think the author meets the animals in this or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752480" y="152280"/>
            <a:ext cx="5715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transform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6002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transform something, you totally change i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24080" y="3200400"/>
            <a:ext cx="2438640" cy="325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867280" y="4343400"/>
            <a:ext cx="2514600" cy="1790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2565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52280"/>
            <a:ext cx="7467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 will name some things that might transform themselves.  If you think this could happen raise your hand.  If not do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w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tack of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f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1219320"/>
            <a:ext cx="79246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ttentively and respond appropriately to oral communication; to use sensory words in a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amin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1523880"/>
            <a:ext cx="358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examine something, you look at it close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2395440" cy="358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2311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I am going to name some things.  If you think you could examine the thing then point to your eyes.  If not do no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colorful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nice sm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eautiful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large cater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ffe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ou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6002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If you devour something, you eat it all up very quickl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022560" cy="2019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76520" y="36576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228600"/>
            <a:ext cx="746748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am going to name some food.  If you would want to devour the food then point to your mouth.  If not then do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uff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t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o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ocolate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roc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andw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7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: To use knowledge of basic rules of capit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7" descr="MPj03096360000[1]"/>
          <p:cNvPicPr/>
          <p:nvPr/>
        </p:nvPicPr>
        <p:blipFill>
          <a:blip r:embed="rId1"/>
          <a:stretch/>
        </p:blipFill>
        <p:spPr>
          <a:xfrm>
            <a:off x="838080" y="838080"/>
            <a:ext cx="5867640" cy="3505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981080" y="4572000"/>
            <a:ext cx="4953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day of the week is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month of the year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How do we write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oday is 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day I like best is 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is month is ____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he month I like best is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0"/>
            <a:ext cx="85341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day of the school week is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day of the school week is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 did not go to school on saturday or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first month of the year is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last month of the year is dec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shortest month is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304920"/>
            <a:ext cx="838188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Pretend you are holding a caterpillar or a butterfly in your h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w does it look and fee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30492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03dff"/>
                </a:solidFill>
                <a:latin typeface="Comic Sans MS"/>
              </a:rPr>
              <a:t>A caterpillar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200"/>
                </a:solidFill>
                <a:latin typeface="Comic Sans MS"/>
              </a:rPr>
              <a:t>A butterfly is _____________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8915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uzzy Wuzzy Creepy Crawl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zzy wuzzy, creepy cra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terpillar f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ill be a butterf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the days are sun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nging, flinging, dancing, sp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terfly so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 were once a caterpil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ggly, wiggly f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609588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identify the rhythm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6781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To delete initial phonemes from wor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0" y="228600"/>
            <a:ext cx="8458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Time to Sing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Comic Sans MS"/>
                <a:ea typeface="Aharoni"/>
              </a:rPr>
              <a:t>The Farmer in the D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  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  <a:ea typeface="Aharoni"/>
              </a:rPr>
              <a:t>Cast without /s/ is cat. Cast without  /s/ is cat. Hi-ho, the derrio. Cast without /s/ is ca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609480" y="2514600"/>
            <a:ext cx="3505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without /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s without /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4876920" y="2590920"/>
            <a:ext cx="3504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k without /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 without /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cks without /r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8" descr="C:\Users\Janice\AppData\Local\Microsoft\Windows\Temporary Internet Files\Content.IE5\AETH7CGB\MCj04244600000[1].wmf"/>
          <p:cNvPicPr/>
          <p:nvPr/>
        </p:nvPicPr>
        <p:blipFill>
          <a:blip r:embed="rId1"/>
          <a:stretch/>
        </p:blipFill>
        <p:spPr>
          <a:xfrm>
            <a:off x="5029200" y="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1143000"/>
            <a:ext cx="80769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t's see what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ppens when w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d es to 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 a wor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286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o read the inflectional form -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3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15:55Z</dcterms:created>
  <dc:creator>Valued Gateway Client</dc:creator>
  <dc:description/>
  <dc:language>en-US</dc:language>
  <cp:lastModifiedBy>Valued Gateway Client</cp:lastModifiedBy>
  <dcterms:modified xsi:type="dcterms:W3CDTF">2008-12-04T03:29:12Z</dcterms:modified>
  <cp:revision>3</cp:revision>
  <dc:subject/>
  <dc:title>Slide 1</dc:title>
</cp:coreProperties>
</file>