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57D-FB87-4069-9C88-CC5A96C1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A34-D2EB-47EB-9986-8C210ACF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04E-CEF9-4EF7-916D-6AE41F06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3C4-26BD-4FA9-AB04-FD8F36C0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650-01E4-4E31-B894-C70C4268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C13-0E62-4F1E-AC38-443B31EA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B37-F617-476B-8528-ACD2942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3AB-5DBC-40D3-A13A-6C60248B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602-9250-4F89-A522-D0D3D67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325-A5D9-4E4F-962D-A99914C7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1EC-B03E-4EA8-9447-3D9F2B60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B26-0E6B-4B29-90E0-62B91B0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C64-55EE-4E3A-9019-8F5E10EF5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3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ould you rather be a caterpillar or a butterfl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rather be a _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hyming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uzzy, Wuzzy, Creepy, Crawl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initial phonemes from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 sound of es /s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Inflection -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066680"/>
          <a:ext cx="8229600" cy="5430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ding =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x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s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zze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ff"/>
                </a:solidFill>
                <a:latin typeface="Century Gothic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6699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Century Gothic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entury Gothic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entury Gothic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Objective: To use /ch/ch, tch, /sh/ sh, and other known letter-sounds to decode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3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3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3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3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3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3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1-30T03:34:16Z</dcterms:modified>
  <cp:revision>94</cp:revision>
  <dc:subject/>
  <dc:title>Slide 1</dc:title>
</cp:coreProperties>
</file>