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2.jpeg" ContentType="image/jpeg"/>
  <Override PartName="/ppt/media/image3.jpeg" ContentType="image/jpeg"/>
  <Override PartName="/ppt/media/image5.wmf" ContentType="image/x-wmf"/>
  <Override PartName="/ppt/media/image7.jpeg" ContentType="image/jpeg"/>
  <Override PartName="/ppt/media/image6.wmf" ContentType="image/x-wmf"/>
  <Override PartName="/ppt/media/image8.gif" ContentType="image/gif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A96E-F01A-4FEC-9F83-710989667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FC68-9E27-48AC-9AD8-66B16AC13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0923-8E99-49C0-80DD-A67D16AA4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BEF6-F269-47B1-9B54-0A8BB0803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9164-C81C-4F57-AC82-D532B7C39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DDEA-E129-43D7-BEED-470C01E14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B9B7-A257-4F91-8C9B-A74CE6EFD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25C0-F50C-47E3-96D1-F1F65F61B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BA24-EE4A-4B41-A70D-394920E8E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444D-C447-4120-9C4B-CD4A5B8A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2E99-D0BE-4D97-A290-480241F9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3496-772C-4C47-A755-FA7FD4C8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43EAD-8E31-40F2-A459-CCB64FBA00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n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cember 8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14, Day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nstantia"/>
              </a:rPr>
              <a:t>Read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Ann starts her long trip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It is dark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Words to Kn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ay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ol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l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’s Read “Ann’s Trip to the Stars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alled go to your first rota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0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5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0" dur="2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5" dur="20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0" dur="20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telling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562720" y="3962520"/>
            <a:ext cx="60948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91520" y="0"/>
            <a:ext cx="175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practice retelling a sto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72200" y="2057400"/>
            <a:ext cx="2362320" cy="3962520"/>
          </a:xfrm>
          <a:custGeom>
            <a:avLst/>
            <a:gdLst>
              <a:gd name="textAreaLeft" fmla="*/ 115200 w 2362320"/>
              <a:gd name="textAreaRight" fmla="*/ 2247120 w 2362320"/>
              <a:gd name="textAreaTop" fmla="*/ 115200 h 3962520"/>
              <a:gd name="textAreaBottom" fmla="*/ 3847320 h 3962520"/>
            </a:gdLst>
            <a:ahLst/>
            <a:rect l="textAreaLeft" t="textAreaTop" r="textAreaRight" b="textAreaBottom"/>
            <a:pathLst>
              <a:path w="21600" h="36229">
                <a:moveTo>
                  <a:pt x="3600" y="0"/>
                </a:moveTo>
                <a:arcTo wR="3600" hR="3600" stAng="16200000" swAng="-5400000"/>
                <a:lnTo>
                  <a:pt x="0" y="32629"/>
                </a:lnTo>
                <a:arcTo wR="3600" hR="3600" stAng="10800000" swAng="-5400000"/>
                <a:lnTo>
                  <a:pt x="18000" y="3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90920" y="4038480"/>
            <a:ext cx="60948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24480" y="22860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00400" y="2057400"/>
            <a:ext cx="2362320" cy="3886200"/>
          </a:xfrm>
          <a:custGeom>
            <a:avLst/>
            <a:gdLst>
              <a:gd name="textAreaLeft" fmla="*/ 115200 w 2362320"/>
              <a:gd name="textAreaRight" fmla="*/ 2247120 w 2362320"/>
              <a:gd name="textAreaTop" fmla="*/ 115200 h 3886200"/>
              <a:gd name="textAreaBottom" fmla="*/ 3771000 h 3886200"/>
            </a:gdLst>
            <a:ahLst/>
            <a:rect l="textAreaLeft" t="textAreaTop" r="textAreaRight" b="textAreaBottom"/>
            <a:pathLst>
              <a:path w="21600" h="35532">
                <a:moveTo>
                  <a:pt x="3600" y="0"/>
                </a:moveTo>
                <a:arcTo wR="3600" hR="3600" stAng="16200000" swAng="-5400000"/>
                <a:lnTo>
                  <a:pt x="0" y="31932"/>
                </a:lnTo>
                <a:arcTo wR="3600" hR="3600" stAng="10800000" swAng="-5400000"/>
                <a:lnTo>
                  <a:pt x="18000" y="355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2057400"/>
            <a:ext cx="2362320" cy="3809880"/>
          </a:xfrm>
          <a:custGeom>
            <a:avLst/>
            <a:gdLst>
              <a:gd name="textAreaLeft" fmla="*/ 115200 w 2362320"/>
              <a:gd name="textAreaRight" fmla="*/ 2247120 w 2362320"/>
              <a:gd name="textAreaTop" fmla="*/ 115200 h 3809880"/>
              <a:gd name="textAreaBottom" fmla="*/ 3694680 h 3809880"/>
            </a:gdLst>
            <a:ahLst/>
            <a:rect l="textAreaLeft" t="textAreaTop" r="textAreaRight" b="textAreaBottom"/>
            <a:pathLst>
              <a:path w="21600" h="34834">
                <a:moveTo>
                  <a:pt x="3600" y="0"/>
                </a:moveTo>
                <a:arcTo wR="3600" hR="3600" stAng="16200000" swAng="-5400000"/>
                <a:lnTo>
                  <a:pt x="0" y="31234"/>
                </a:lnTo>
                <a:arcTo wR="3600" hR="3600" stAng="10800000" swAng="-5400000"/>
                <a:lnTo>
                  <a:pt x="18000" y="34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2860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2680" y="22860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0" y="685440"/>
            <a:ext cx="91440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e Hare and the Tortoise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0"/>
            <a:ext cx="632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Read Alou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20120" y="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nderstand characteristics of narrative nonfi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219320" y="3057480"/>
            <a:ext cx="662940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roach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et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723920" y="914040"/>
            <a:ext cx="3886200" cy="513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f you approached something,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ou move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oward 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approached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4114800" cy="41086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energetic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943600" y="1714680"/>
            <a:ext cx="2951280" cy="42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f you are energetic, you are filled with energy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5486400" cy="4025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638680" y="1447920"/>
            <a:ext cx="311004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Your pace is how fast you are going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228600"/>
            <a:ext cx="358920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90920" y="304920"/>
            <a:ext cx="391932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pac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3352680" cy="48765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19760" y="-360"/>
            <a:ext cx="152388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 and capitalize the names of holid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Names of Holid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5943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 celebrate Christmas in Decemb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28600" y="762120"/>
          <a:ext cx="8589960" cy="5715000"/>
        </p:xfrm>
        <a:graphic>
          <a:graphicData uri="http://schemas.openxmlformats.org/drawingml/2006/table">
            <a:tbl>
              <a:tblPr/>
              <a:tblGrid>
                <a:gridCol w="1227240"/>
                <a:gridCol w="1225440"/>
                <a:gridCol w="1227240"/>
                <a:gridCol w="1226880"/>
                <a:gridCol w="1227240"/>
                <a:gridCol w="1227240"/>
                <a:gridCol w="122868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hristmas E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hristm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0" y="639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Imagine that you will look for a wild animal.  What is it?  Where will you look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 will look for a  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 will look in 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7696080" y="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 and capitalize the names of holi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371600" y="0"/>
            <a:ext cx="6248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e sentences with Holid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560600" y="0"/>
            <a:ext cx="60228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7620120" y="0"/>
            <a:ext cx="1523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the form of e-mail mess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000000"/>
                </a:solidFill>
                <a:uFillTx/>
                <a:latin typeface="Constantia"/>
              </a:rPr>
              <a:t>E-mail Messag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Use a computer to get and send e-mai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From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 shows your e-mail addres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To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 shows the e-mail address of the person the message is going t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Subject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 tells what the e-mail is abou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The message can begin with a greeting and end with your nam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553080" y="15228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nderstand the form of e-mail messag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ft an E-m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10280" y="152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nderstand the form of e-mail messag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52280" y="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re an E-m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990720"/>
            <a:ext cx="822960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238880" y="-360"/>
            <a:ext cx="1905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for a purpo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343400" y="457200"/>
            <a:ext cx="4800600" cy="63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           “We’re Going on a Lion Hunt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44197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r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ly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86240" y="15228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lend phonemes into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5181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lend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257800" y="1447920"/>
            <a:ext cx="33195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781680" y="0"/>
            <a:ext cx="2362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and generate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sound ar /ar/.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28600"/>
            <a:ext cx="8458200" cy="17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nstantia"/>
              </a:rPr>
              <a:t>r-controlled vowel /ar/ 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34120" y="1219320"/>
            <a:ext cx="3809880" cy="65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hen I say a word that has the /ar/ sound at the beginning, put your thumb up say /ar/.  When I say a word that does not have /ar/, put your thumb d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Let’s do the same thing with the middle and the final s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44193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124080" y="1219320"/>
            <a:ext cx="1447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/ar/ ar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1219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114800" y="2438280"/>
            <a:ext cx="1371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7339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81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67080" y="36576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86200" y="36576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4648320"/>
            <a:ext cx="1143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05320" y="464832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24080" y="4648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0400" y="36576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971800" y="55627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55627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33920" y="5562720"/>
            <a:ext cx="99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95680" y="55627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uil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/ar/ ar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1219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1219320"/>
            <a:ext cx="1295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114800" y="2438280"/>
            <a:ext cx="1371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24382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00400" y="4495680"/>
            <a:ext cx="1219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14800" y="3505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3505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67080" y="4495680"/>
            <a:ext cx="106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24080" y="55627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81280" y="5562720"/>
            <a:ext cx="106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55627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When called go to your seat and label the paper with your name and date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It’s time to take our spelling pretest!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pell spelling words an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990720" y="304920"/>
            <a:ext cx="67053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pelling Word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 </cp:lastModifiedBy>
  <dcterms:modified xsi:type="dcterms:W3CDTF">2008-12-08T04:24:52Z</dcterms:modified>
  <cp:revision>99</cp:revision>
  <dc:subject/>
  <dc:title>Slide 1</dc:title>
</cp:coreProperties>
</file>