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601F-6E5B-4384-AE4D-3C8B074C8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CF93-38CD-4595-8D73-098508DB8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44A8-C2D1-42AF-8E2B-B1DAE08D6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D3B6-2CC1-4BEA-8A2A-C5DEC50C7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F30D-E826-421D-9851-CD98D4D0C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B3F7-87BE-4DC1-82C4-8A79B76D3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C205-AC25-4AB0-9636-351F16E97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D0EE-3682-426B-A375-4FB613585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66AE-084D-40A7-A365-BD3DD507B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EE22-7E18-4F97-BD65-690342A81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EC53-E950-42AC-9AE3-FA1A5F6DC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3E82-C342-4F69-83E6-E14394E05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3A80-7B22-41F0-8198-4403A3F81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A514-070C-44D6-9FE7-BD4B805D3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323E-35D1-49D1-AFBC-81C50903B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4EC1-8660-4C70-9F37-1633677D9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7D54-4196-4A61-8561-55F6BBADD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C392-9123-4A89-87BF-66598A2B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F2AA-ADFE-4886-B5E7-CFF657E2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356-5488-4147-A856-0094D11B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8DE-3AC8-4555-97FC-539D9344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3442-CB5E-42F1-816D-DAE9E61B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A3D1-2D17-4683-B6AC-C633D809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3D10-6D4B-473F-9EFC-71480249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620-8A16-4295-9F4B-A4CE4A40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36D-647B-4D13-AA04-D35F4250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170-0447-4417-9533-18F9456C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9D36-6870-4E5F-9FBD-3BE44CC4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E24-0C8A-4973-B195-01BFF846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10A3-7AC0-4607-8716-E596EB1EA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ember 9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4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c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685800" y="990720"/>
            <a:ext cx="198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M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b6bcf"/>
                </a:solidFill>
                <a:latin typeface="Comic Sans MS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2971800" y="1371600"/>
            <a:ext cx="5486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omic Sans MS"/>
              </a:rPr>
              <a:t>Today’s story is “Mark’s Big Day.”  In our story, some children are putting on a play and are worried that they might make a mistake playing their pa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omic Sans MS"/>
              </a:rPr>
              <a:t>Today, look and listen for the author’s purpose or reason in writing the story.  See what the author wants us to learn from the 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Comic Sans MS"/>
              </a:rPr>
              <a:t>Some more words you will see in the story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blow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mistake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shy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2d050"/>
                </a:solidFill>
                <a:latin typeface="Comic Sans MS"/>
              </a:rPr>
              <a:t>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haroni"/>
                <a:ea typeface="Aharoni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mic Sans MS"/>
              </a:rPr>
              <a:t>Let’s Read “Mark’s Big Da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When called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h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e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23920" y="914040"/>
            <a:ext cx="3886200" cy="51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pproached someth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mov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ward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pproach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8" descr="MCj04350550000[1]"/>
          <p:cNvPicPr/>
          <p:nvPr/>
        </p:nvPicPr>
        <p:blipFill>
          <a:blip r:embed="rId1"/>
          <a:stretch/>
        </p:blipFill>
        <p:spPr>
          <a:xfrm>
            <a:off x="838080" y="1752480"/>
            <a:ext cx="4114800" cy="27529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914400" y="46483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The lion approached the frightened tour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5562720" y="1523880"/>
            <a:ext cx="29509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energetic, you are filled with energ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MPj04244090000[1]"/>
          <p:cNvPicPr/>
          <p:nvPr/>
        </p:nvPicPr>
        <p:blipFill>
          <a:blip r:embed="rId1"/>
          <a:stretch/>
        </p:blipFill>
        <p:spPr>
          <a:xfrm>
            <a:off x="380880" y="1219320"/>
            <a:ext cx="5486400" cy="40258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2"/>
          <p:cNvSpPr/>
          <p:nvPr/>
        </p:nvSpPr>
        <p:spPr>
          <a:xfrm>
            <a:off x="2895480" y="228600"/>
            <a:ext cx="601992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nergetic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609480" y="441972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Comic Sans MS"/>
              </a:rPr>
              <a:t>The energetic man leaped across the b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5334120" y="1371600"/>
            <a:ext cx="31096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Your pace is how fast you are goin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5029200" y="30492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876920" y="38088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c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MMj03546760000[1]"/>
          <p:cNvPicPr/>
          <p:nvPr/>
        </p:nvPicPr>
        <p:blipFill>
          <a:blip r:embed="rId1"/>
          <a:stretch/>
        </p:blipFill>
        <p:spPr>
          <a:xfrm>
            <a:off x="685800" y="228600"/>
            <a:ext cx="3352680" cy="47498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762120" y="525780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She crossed the log at a slow and steady 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Content Placeholder 3" descr="Picture1.jpg"/>
          <p:cNvPicPr/>
          <p:nvPr/>
        </p:nvPicPr>
        <p:blipFill>
          <a:blip r:embed="rId1"/>
          <a:stretch/>
        </p:blipFill>
        <p:spPr>
          <a:xfrm>
            <a:off x="380880" y="152388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4876920" y="533520"/>
            <a:ext cx="4114800" cy="74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Garamond"/>
              </a:rPr>
              <a:t>Write 2 or 3 sentences about what you like to do on Christmas 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WIL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Remember that holidays begin with capital lett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Remember that the first word of each sentence begins with a capital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Remember that sentences end with periods, exclamation points, or question 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0" y="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form complete thoughts with sentences; to generate ideas before writing; to use proper capitalization and punctu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are you like toda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How might you change as you grow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Today, I am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When I grow up, I might be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istics of concrete poe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038480" y="0"/>
            <a:ext cx="48006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Growing U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C:\Users\Janice\AppData\Local\Microsoft\Windows\Temporary Internet Files\Content.IE5\AETH7CGB\MCj04345750000[1].wmf"/>
          <p:cNvPicPr/>
          <p:nvPr/>
        </p:nvPicPr>
        <p:blipFill>
          <a:blip r:embed="rId1"/>
          <a:stretch/>
        </p:blipFill>
        <p:spPr>
          <a:xfrm>
            <a:off x="990720" y="1066680"/>
            <a:ext cx="3612960" cy="39862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76212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-3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words containing /ar/ and other known 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Pj04395230000[1]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MPj02011590000[1]"/>
          <p:cNvPicPr/>
          <p:nvPr/>
        </p:nvPicPr>
        <p:blipFill>
          <a:blip r:embed="rId2"/>
          <a:stretch/>
        </p:blipFill>
        <p:spPr>
          <a:xfrm>
            <a:off x="5257800" y="1447920"/>
            <a:ext cx="3319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Janice\AppData\Local\Microsoft\Windows\Temporary Internet Files\Content.IE5\AETH7CGB\MCj04326540000[1].png"/>
          <p:cNvPicPr/>
          <p:nvPr/>
        </p:nvPicPr>
        <p:blipFill>
          <a:blip r:embed="rId1"/>
          <a:stretch/>
        </p:blipFill>
        <p:spPr>
          <a:xfrm>
            <a:off x="3581280" y="4267080"/>
            <a:ext cx="1554120" cy="1554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9343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575d1"/>
                </a:solidFill>
                <a:latin typeface="Comic Sans MS"/>
              </a:rPr>
              <a:t>If You’re Happy and </a:t>
            </a:r>
            <a:br>
              <a:rPr sz="4400"/>
            </a:br>
            <a:r>
              <a:rPr b="0" lang="en-US" sz="4400" spc="-1" strike="noStrike">
                <a:solidFill>
                  <a:srgbClr val="7575d1"/>
                </a:solidFill>
                <a:latin typeface="Comic Sans MS"/>
              </a:rPr>
              <a:t>You Know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6324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If you’re happy and you know it say this w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/j/ /u/ /m/ /p/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If you’re happy and you know it say this w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/j/ /u/ /m/ /p/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If you’re happy and you know it then your face will surely show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If you’re happy and you know it say this w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    “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jump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5" descr="loving2b.jpg"/>
          <p:cNvPicPr/>
          <p:nvPr/>
        </p:nvPicPr>
        <p:blipFill>
          <a:blip r:embed="rId2"/>
          <a:stretch/>
        </p:blipFill>
        <p:spPr>
          <a:xfrm>
            <a:off x="6059520" y="285840"/>
            <a:ext cx="2968560" cy="283536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685800" y="4343400"/>
            <a:ext cx="563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/ar/ /m/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/y/ /ar/ /d/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/j/ /ar/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/p/ /ar/ /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/h/ /ar/ /d/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629400" y="5562720"/>
            <a:ext cx="2209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blend words containing /ar/ and other known soun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8862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35812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200400" y="4495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41148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3526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4267080" y="4495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312408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3581280" y="55627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44197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1240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0384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39625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3505320" y="4648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29718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733920" y="55627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44956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omic Sans MS"/>
              </a:rPr>
              <a:t>Author’s 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3" descr="MCj04241340000[1]"/>
          <p:cNvPicPr/>
          <p:nvPr/>
        </p:nvPicPr>
        <p:blipFill>
          <a:blip r:embed="rId1"/>
          <a:stretch/>
        </p:blipFill>
        <p:spPr>
          <a:xfrm>
            <a:off x="4724280" y="228600"/>
            <a:ext cx="2006640" cy="1266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1447920" y="2057400"/>
            <a:ext cx="640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In “The Hare and the Tortoise,” we learned that being the fastest runner doesn’t mean you will always win the r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In that story the author had a purpose, or reason, for writing the stor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The purpose of “The Hare and the Tortoise” was to teach us that working very hard and never giving up will help us do well in school and in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Sometimes looking for the author’s purpose in a story will help us comprehend the story better.  </a:t>
            </a:r>
            <a:r>
              <a:rPr b="0" lang="en-US" sz="2000" spc="-1" strike="noStrike">
                <a:solidFill>
                  <a:srgbClr val="c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6629400" y="0"/>
            <a:ext cx="2514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nderstand the author’s purpose for writing a selec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Janice Wagnon</cp:lastModifiedBy>
  <dcterms:modified xsi:type="dcterms:W3CDTF">2008-12-09T02:45:41Z</dcterms:modified>
  <cp:revision>139</cp:revision>
  <dc:subject/>
  <dc:title>Slide 1</dc:title>
</cp:coreProperties>
</file>