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DDE-3197-4B4F-8601-1F328C6D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0EE-C886-4022-A348-195373BE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090-BFE5-4050-AF8F-8E3B02B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697-A222-44BF-BFA3-E87EB3DC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713-A911-495A-9B28-A9F1BDFA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A89-8AC3-4FA0-ACDD-033774CC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8E0-F53C-4606-B266-22F1FF13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95B-6954-428A-9293-08CD740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40F-802D-47EC-B11D-387F0653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AC1-2771-4117-A8D1-AE84D35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55D-E7EE-41B2-B1BD-AAA3EAB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665-88FE-4974-B3E1-B5F81D5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C721-229F-414A-BF1E-B75FA07F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648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450720"/>
            <a:ext cx="784872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like to do or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n you grow up?  Tell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hen I grow up I would like to be  ____________ becaus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sentences with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n E-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Growing 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457200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350532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0T04:15:03Z</dcterms:modified>
  <cp:revision>102</cp:revision>
  <dc:subject/>
  <dc:title>Slide 1</dc:title>
</cp:coreProperties>
</file>