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gif" ContentType="image/gif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388-550F-47C6-BC60-38930920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ED5-3C7C-42F2-A9B1-47FE1E83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B0A6-72A7-41C5-8826-CB7A6F18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641-0E21-4F39-B75E-32ABA9A9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59A-DD1A-4101-9FC5-3019E3EC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A07-D715-4BBB-B0F8-A9935764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F97-C540-48D1-89EE-1914F8FB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BD6-4AE7-4CB0-A5D2-5B06A3F6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397-3266-46D9-910F-60D79BCB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34E-BCF4-4C92-91DE-FAC8974A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E29-F7AB-408B-9A09-CE1811C5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ECE-5D1E-48A7-AD20-BF371D53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4D72-7EE0-491B-8647-EE9F5181F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533520"/>
            <a:ext cx="822960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cember 11,2008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4 Day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762120"/>
          <a:ext cx="9143640" cy="6157800"/>
        </p:xfrm>
        <a:graphic>
          <a:graphicData uri="http://schemas.openxmlformats.org/drawingml/2006/table">
            <a:tbl>
              <a:tblPr/>
              <a:tblGrid>
                <a:gridCol w="2484720"/>
                <a:gridCol w="2086920"/>
                <a:gridCol w="2286000"/>
                <a:gridCol w="2286000"/>
              </a:tblGrid>
              <a:tr h="61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Roo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l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l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wa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l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ic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at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lan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ic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wat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280" y="0"/>
            <a:ext cx="861084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Ron was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looking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at his plant 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H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ed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som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Then h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watered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Every day, h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looked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at his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Soon the littl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started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to g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One day, Ron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icked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the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Now Ron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eel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go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He is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eating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his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0"/>
            <a:ext cx="883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bjective: To use /ar/ and other known letter sounds to spell and 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838080"/>
            <a:ext cx="8229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ild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295280"/>
            <a:ext cx="83055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 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 ar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r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r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  ar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  ar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h  i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 u  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04920" y="228600"/>
            <a:ext cx="8610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219320"/>
            <a:ext cx="82296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s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watch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Remember that the Author’s Purpose is to write stories that teach us something.  The author can also be trying to inform us, give directions, and entertain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et’s reread the story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We’re Going on a Lion H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What is the author’s purpose in this 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Who tells the 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at is the story mostly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determine the author’s purpose or point of view while listening to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6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1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76560" y="1295280"/>
            <a:ext cx="388620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make a blunder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make a bad or silly mista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lunder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89154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I will tell you some things. If you think it is a blunder then say “oops!”  If not then I don’t want you to say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isspelling a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sharpening a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mispronouncing a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doing a hard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spilling a glass of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eaving lunch on the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4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9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assur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1752480"/>
            <a:ext cx="33526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reassure someone, you tell him or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er that everything will be alrigh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414972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I will say some things.  If you might say this to reassure someone then give me a thumbs up.  If not don’t do any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ou can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on’t even t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You’ll do just f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Don’t give u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I believe in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Give it your be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Forget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You’ll be terrifi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77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0" dur="77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2" dur="77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4" dur="77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066680"/>
            <a:ext cx="807732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4120" y="1447920"/>
            <a:ext cx="3414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excel at something, you are very good at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cel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343400" cy="4249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0"/>
            <a:ext cx="853452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I will name some things.  If it would be something that you would like to excel at then say “Yes!”  If not say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eating a sandw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reading a hard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scoring a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iding a 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putting on a j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walking a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0120" y="228600"/>
            <a:ext cx="1523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capitalize the names of holiday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apply knowledge of the basic rules of capitalization when writing the names of holi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In January we celebrate _____ and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We celebrate Valentine’s Day and __________ in Febru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The first day of April is called 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At the end of May, we celebrate 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Our country’s birthday is called the 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77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1" dur="77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3" dur="77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5" dur="77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 sent valentines on valentine’s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e give thanks on thanksgiv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We went to the park on the fourth of ju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he third Monday in February is president’s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E-mail Mess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Use a computer to get and send e-m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From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your e-mail addre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the e-mail address of the person the message is going 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tells what the e-mail is ab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message can begin with a greeting and end with your n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28600"/>
            <a:ext cx="86868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Do you ever speak in a very loud voice?  When is it all right to do this? 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I speak in a loud voice when 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I do this so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62120"/>
            <a:ext cx="914400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What does it mean to say something at the top of your voice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As we read this poem, let’s listen for words that name loud sou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52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explore figurativ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6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t The Top Of My Voi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en I sta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e ground thunder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en I s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e world r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hen I 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e air w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ow I do such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12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3520" y="457200"/>
            <a:ext cx="8229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ord Wall Word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bjective: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90720"/>
            <a:ext cx="807696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f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M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6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Objective: To delete final phonemes from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808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 am going to say some words and we will remove the final (last) s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762120"/>
            <a:ext cx="891540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 without /t/ is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rm without the /m/ is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without the /t/ is 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p without the /p/ is h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t without the /t/ is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h without the /ch/ i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t without the /t/ is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t without the /t/ is st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n without the /n/ is w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sp without the /p/ is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rs without the /z/ is 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t without the /t/ is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k without the /k/ is 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48120" y="2057400"/>
            <a:ext cx="30477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04920"/>
            <a:ext cx="8534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bjective: To recognize roo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o read inflected forms with –s, -ed, and –ing with no spelling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2952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t’s see what happens if we add s,ed, and ing to the word 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11480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dd s = 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dd ed = par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dd ing = pa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1:57:12Z</dcterms:created>
  <dc:creator>Valued Gateway Client</dc:creator>
  <dc:description/>
  <dc:language>en-US</dc:language>
  <cp:lastModifiedBy>Valued Gateway Client</cp:lastModifiedBy>
  <dcterms:modified xsi:type="dcterms:W3CDTF">2008-12-11T03:55:09Z</dcterms:modified>
  <cp:revision>4</cp:revision>
  <dc:subject/>
  <dc:title>Slide 1</dc:title>
</cp:coreProperties>
</file>