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531-D03F-4AAF-9D43-54AC97DD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C12-AD54-4786-93F9-526EC4C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756-1153-4256-ABC2-1DB68A7A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D26-A09D-4FD6-A981-450AA96D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907-1C2F-4B60-B480-1C6BFAB1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97E-310A-4241-9E6A-B17514DB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B8E-1E99-45D6-B6B5-C7930635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7EB-EC48-4AF8-B4DD-25CD9853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796-8C6F-4B2D-A28B-204230D7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EBE-A55F-456D-B6A3-2BD4FF9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41C-C867-4960-96CF-798B81FD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A35-B274-49A8-A3E0-7D5F3CC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549F-407E-4D31-ADA4-EA6FBEF98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cember 1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4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74680"/>
          <a:ext cx="8229600" cy="6049800"/>
        </p:xfrm>
        <a:graphic>
          <a:graphicData uri="http://schemas.openxmlformats.org/drawingml/2006/table">
            <a:tbl>
              <a:tblPr/>
              <a:tblGrid>
                <a:gridCol w="2133720"/>
                <a:gridCol w="1981080"/>
                <a:gridCol w="2057400"/>
                <a:gridCol w="205740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Hare and the Tortois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’s Big Day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re Going on a Lion H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’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Read “Ann’s Trip to the Star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could you make the ground th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could you make the world r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_____ to make the ground thu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ould _____ to make the world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At the Top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My Voic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rs.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ections –s, -ed, -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root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219320"/>
            <a:ext cx="243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2438280"/>
            <a:ext cx="2514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50532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495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m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762120"/>
          <a:ext cx="9143640" cy="6157800"/>
        </p:xfrm>
        <a:graphic>
          <a:graphicData uri="http://schemas.openxmlformats.org/drawingml/2006/table">
            <a:tbl>
              <a:tblPr/>
              <a:tblGrid>
                <a:gridCol w="2484720"/>
                <a:gridCol w="208692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t’s time for our spelling te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rite your name and date on the top of your pa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umber your paper 1 to 10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gh Frequency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905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438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038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505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105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5715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6216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8-12-12T03:05:42Z</dcterms:modified>
  <cp:revision>106</cp:revision>
  <dc:subject/>
  <dc:title>Slide 1</dc:title>
</cp:coreProperties>
</file>