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C1EA-F54B-4ED4-9788-28DD451E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948-7FB6-45FF-91C7-B7CC809D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D1A4-E6D4-4ED2-9D82-C107FDEA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0655-CF71-4F96-AFA1-F9B73BA1D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A3E8-6A02-4FC1-82B1-9A161BFF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5B13-E629-44DD-914D-50DC891F7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4F0B-C445-4671-8C15-24FD6B39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7CD-DFEA-4471-868D-4EFA0DC56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787E-98A7-4221-8F88-998452C7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E015-F7FB-4EDF-BF82-4C1EAA8F4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462-FDB6-47D5-B4DE-E3BF42A5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0BA2-F7CB-46BA-9BCA-0584A094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F90-FAA0-407E-A7C4-68D9C957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317-1DCC-4AB5-AB23-ED92BAC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56D-CD7F-4A6C-A3E8-5C2004B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9E8-817A-45E6-8486-E7369CF3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029-26F0-43A1-BB27-BCDC8B2B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983-C479-4508-8F9F-A93AF87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557-179B-44BE-AF5C-4EF8414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8C1-017B-41A2-B5F0-FB0A823C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BC4-8C6B-4102-8D12-44195145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EF7-7372-44C7-9743-0469DFB5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95D-82E4-45E5-BA2D-A1A2C6D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3A5-1F84-4301-A6F7-1F740177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3F3-DAF8-4597-85C7-7C348B003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6854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tap my feet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et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clap my hands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cl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nds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937160" y="289548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naming part of the blue senten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telling part of the brow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 of the naming and telling part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908720" y="4267080"/>
            <a:ext cx="529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__________________ like sn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A duck quacked at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276880" y="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97a0"/>
                </a:solidFill>
                <a:latin typeface="Aharoni"/>
                <a:ea typeface="Aharoni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533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ersonal narrative tells about a person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When I was a little girl, my parents took me to the ocean.  My first time in the ocean was scary.  I felt so nervous.  Then my mom held me while we walked through the waves.  Now the ocean does not scare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easide.jpg"/>
          <p:cNvPicPr/>
          <p:nvPr/>
        </p:nvPicPr>
        <p:blipFill>
          <a:blip r:embed="rId1"/>
          <a:stretch/>
        </p:blipFill>
        <p:spPr>
          <a:xfrm>
            <a:off x="2362320" y="340056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7010280" y="57150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4800600" y="179280"/>
            <a:ext cx="411480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Garamond"/>
              </a:rPr>
              <a:t>Write 2 or 3 sentences about something you did one time that was scary the first time you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proper name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343400" y="457200"/>
            <a:ext cx="480060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Teacher Pick 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 Winte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457200" y="1676520"/>
            <a:ext cx="4048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mworsham\Local Settings\Temporary Internet Files\Content.IE5\ADI22NDU\MPj04439150000[1]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178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C:\Documents and Settings\pawley\My Documents\queen.jpg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Documents and Settings\pawley\My Documents\whale.jpg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qu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wh,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90920" y="114300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9051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90920" y="2209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4956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14600" y="3124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2977200" y="1143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17524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593440" y="220968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1828800" y="31240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3129840" y="31240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1911960" y="388620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2974680" y="3886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3280680" y="3886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1911960" y="4495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2971800" y="4495680"/>
            <a:ext cx="1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 flipV="1" rot="10800000">
            <a:off x="3276360" y="449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1987920" y="51814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29757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34329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ad Spelling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We had a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ck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Which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part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goes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s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Beth is a </a:t>
            </a:r>
            <a:r>
              <a:rPr b="0" lang="en-US" sz="4000" spc="-1" strike="noStrike" u="sng">
                <a:solidFill>
                  <a:srgbClr val="92d050"/>
                </a:solidFill>
                <a:uFillTx/>
                <a:latin typeface="Comic Sans MS"/>
              </a:rPr>
              <a:t>whiz</a:t>
            </a: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 at m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Quit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pinching my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arm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724360" y="6095880"/>
            <a:ext cx="332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blend sounds into words; to re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is week’s spelling words in contex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06T03:20:02Z</dcterms:modified>
  <cp:revision>107</cp:revision>
  <dc:subject/>
  <dc:title>Slide 1</dc:title>
</cp:coreProperties>
</file>