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176-4224-4FEA-95E8-9B365B55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B99-833E-45E0-983C-BB68DA9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D3E-5BAB-4AD7-8EC0-B2E38018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8EF-4ECF-45F8-81BE-C9D45981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88D-BB15-4F2C-B119-2DC8688A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E5C-37DA-47E1-AD6B-91319E6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1B1-4A5D-40C5-A9B6-5F892EF2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251-8340-453F-802F-0EC1817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C07-88D2-47C3-A1D6-1863CFC4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E40-2662-4964-B1D8-4574F387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ABF-E5AB-49E6-84DE-2AFADED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28D-0474-4F61-A8EA-A6464B0F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5D3-C1C0-46FB-90B9-5B2EBA23D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kw/qu and /hw/ w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4382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4382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80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505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44956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562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5562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562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219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44197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rent has a quiz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When will he quit?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ad “A Quiz for Bre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96252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2057400"/>
            <a:ext cx="2362320" cy="396252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962520"/>
              <a:gd name="textAreaBottom" fmla="*/ 3847320 h 3962520"/>
            </a:gdLst>
            <a:ahLst/>
            <a:rect l="textAreaLeft" t="textAreaTop" r="textAreaRight" b="textAreaBottom"/>
            <a:pathLst>
              <a:path w="21600" h="36229">
                <a:moveTo>
                  <a:pt x="3600" y="0"/>
                </a:moveTo>
                <a:arcTo wR="3600" hR="3600" stAng="16200000" swAng="-5400000"/>
                <a:lnTo>
                  <a:pt x="0" y="32629"/>
                </a:lnTo>
                <a:arcTo wR="3600" hR="3600" stAng="10800000" swAng="-5400000"/>
                <a:lnTo>
                  <a:pt x="18000" y="3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2362320" cy="388620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86200"/>
              <a:gd name="textAreaBottom" fmla="*/ 3771000 h 3886200"/>
            </a:gdLst>
            <a:ahLst/>
            <a:rect l="textAreaLeft" t="textAreaTop" r="textAreaRight" b="textAreaBottom"/>
            <a:pathLst>
              <a:path w="21600" h="35532">
                <a:moveTo>
                  <a:pt x="3600" y="0"/>
                </a:moveTo>
                <a:arcTo wR="3600" hR="3600" stAng="16200000" swAng="-5400000"/>
                <a:lnTo>
                  <a:pt x="0" y="31932"/>
                </a:lnTo>
                <a:arcTo wR="3600" hR="3600" stAng="10800000" swAng="-5400000"/>
                <a:lnTo>
                  <a:pt x="18000" y="355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44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Best Apple Crisp in the World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characteristics of narrative nonf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apple-crisp-w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8006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z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up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umph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029200" y="76212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lie cozily in bed, you are warm, comfortable, and relax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z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Cj04350550000[1]"/>
          <p:cNvPicPr/>
          <p:nvPr/>
        </p:nvPicPr>
        <p:blipFill>
          <a:blip r:embed="rId1"/>
          <a:stretch/>
        </p:blipFill>
        <p:spPr>
          <a:xfrm>
            <a:off x="1066680" y="1600200"/>
            <a:ext cx="3870360" cy="3870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11430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Comic Sans MS"/>
              </a:rPr>
              <a:t>The woman lies </a:t>
            </a:r>
            <a:r>
              <a:rPr b="1" lang="en-US" sz="2400" spc="-1" strike="noStrike">
                <a:solidFill>
                  <a:srgbClr val="6b6bcf"/>
                </a:solidFill>
                <a:latin typeface="Comic Sans MS"/>
              </a:rPr>
              <a:t>cozily</a:t>
            </a:r>
            <a:r>
              <a:rPr b="0" lang="en-US" sz="2400" spc="-1" strike="noStrike">
                <a:solidFill>
                  <a:srgbClr val="6b6bcf"/>
                </a:solidFill>
                <a:latin typeface="Comic Sans MS"/>
              </a:rPr>
              <a:t> in her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z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ound the kitchen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i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i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chair when she reads.  She sits in a way that makes her feel comfor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ge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z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you read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magine walking through the woods.  What animals do you see? What are they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see ____________ and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hey are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MPj04244090000[1]"/>
          <p:cNvPicPr/>
          <p:nvPr/>
        </p:nvPicPr>
        <p:blipFill>
          <a:blip r:embed="rId1"/>
          <a:stretch/>
        </p:blipFill>
        <p:spPr>
          <a:xfrm>
            <a:off x="0" y="2057400"/>
            <a:ext cx="6656400" cy="4800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152280" y="1295280"/>
            <a:ext cx="937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something is interrupted, it is stopp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676520" y="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52480" y="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interrup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1143000" y="525780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owned tre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terrup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e trav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interrup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ime Ja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“How many appl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polite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ru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ople when they are speak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eeded t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interrup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, how could you do so poli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410080" y="838080"/>
            <a:ext cx="3200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 something,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you do it in  way that shows people how happy and proud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5029200" y="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876920" y="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MMj03546760000[1]"/>
          <p:cNvPicPr/>
          <p:nvPr/>
        </p:nvPicPr>
        <p:blipFill>
          <a:blip r:embed="rId1"/>
          <a:stretch/>
        </p:blipFill>
        <p:spPr>
          <a:xfrm>
            <a:off x="152280" y="1447920"/>
            <a:ext cx="5073840" cy="3368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66680" y="4952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eam lifted the coac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riumphant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riumphan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ly one cup!” Jake sai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ght sh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I won my soccer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make you fe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umph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, I always use this 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half an hour- just long enough for me to beat you at Go Fish while the apple crisp c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like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andma tells me lots of stori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1522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the words I and me take the place of some naming words. To use I in the subject and me in the predic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 and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st my ball 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helped me look f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ossed the ball to M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tossed the ball to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what part of the sentence is each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152280"/>
            <a:ext cx="44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the words I and me take the place of some naming words. To use I in the subject and me in the predic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narrative tells about something that has happened in a person’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beginning, middle, and an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moved to Texas when I was five. We packed boxes and put them in a big truck.  I felt so sad.  We drove for many hours.  Then we saw our new house.  It looked nice.  My new room was just right for me.  I decided that day that I liked Tex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Model: 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 a 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 got a puppy at last! I named him S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 love him so much, but he is such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camp! One day, Sa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6172200"/>
            <a:ext cx="701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68580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a 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raw a picture showing an interesting event in your life. It could be a holiday memory or a favorite school ev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83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Big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Fireflies, Fireflies, Light M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31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kw/q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kw/ q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kw/ sound at the beginning, put your thumb up say /kw/.  When I say a word that does not have /k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queen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hw/w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hw/ w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219320"/>
            <a:ext cx="44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hw/ sound at the beginning, put your thumb up say /hw/.  When I say a word that does not have /h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whale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9548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kw/ qu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2438280"/>
            <a:ext cx="1143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2193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5562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hw/ w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121932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4382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193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12-15T05:08:25Z</dcterms:modified>
  <cp:revision>104</cp:revision>
  <dc:subject/>
  <dc:title>Slide 1</dc:title>
</cp:coreProperties>
</file>