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605-0EA9-4CAA-A06C-3D2AFBA8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F5E-4300-4E68-A4E2-71FAA44C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91D-689E-47BB-8509-DEBAD6BC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F2F-128C-442A-952D-ECCE9C75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12DC-80E1-4E61-9B94-FE462861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F8F-5F92-4EE6-97E3-D5E39EF3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210-DAC6-42DE-AEF7-04BAB06E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598-FD4D-4498-A393-A723097F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CBC0-973A-48E0-AFFA-5184D773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65B-CC14-4649-A421-D252D66D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020-07FA-48CA-B932-AFFC2E4C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2AC-F204-48FC-9A79-9FC3D635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A593-3CF1-4456-9CCC-1532689E0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62320" y="380880"/>
            <a:ext cx="58672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5, Day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boo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2286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- To read high-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15228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07200" y="304920"/>
            <a:ext cx="308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ask questions and observe 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a strategy for comprehens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914400"/>
            <a:ext cx="739152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s in a story happen in a sequence that makes sense. Think about the order of events in “The Best Apple Crisp in the World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an you eat apple crisp before you make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352680"/>
            <a:ext cx="800100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en to the directions and tell whether they are in a sequence that makes sense. If not, help make sense of the dir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ut on your shoes, put on your socks, go out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ut cereal in a bowl, eat, pour in some mil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09760"/>
            <a:ext cx="914400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accomplis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adm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amb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8088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ccomplish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1447920"/>
            <a:ext cx="5029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f you have had an accomplishment, you have worked hard to get something don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accomplishment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409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ccomplish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49440" y="2119320"/>
            <a:ext cx="604512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rea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complish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omas Rivera was writing his first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ning a mile was 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complish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 about one of you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complish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dm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1447920"/>
            <a:ext cx="449568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you admire someone, you think that person is very special because of the things he or she does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admire" descr=""/>
          <p:cNvPicPr/>
          <p:nvPr/>
        </p:nvPicPr>
        <p:blipFill>
          <a:blip r:embed="rId1"/>
          <a:stretch/>
        </p:blipFill>
        <p:spPr>
          <a:xfrm>
            <a:off x="0" y="1635120"/>
            <a:ext cx="44197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dm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49440" y="1981080"/>
            <a:ext cx="6045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omas grew up, many people began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mi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is boo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mi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r. Seuss because he wrote funny, clever rhym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a person you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mi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ell w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mb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44792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you have an ambition, you want to do something very mu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mbition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205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mb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49440" y="2050920"/>
            <a:ext cx="604512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as’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b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to tell stories like Grand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b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o learn to play a musical instrum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have th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b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2952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Do you like to read books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On my signal, you will turn and talk to your partner to complete this s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reading books because 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Using I and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omic Sans MS"/>
              </a:rPr>
              <a:t>Sam and I saw a squirr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omic Sans MS"/>
              </a:rPr>
              <a:t>It was looking at Sam and 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*</a:t>
            </a:r>
            <a:r>
              <a:rPr b="1" i="1" lang="en-US" sz="3200" spc="-1" strike="noStrike">
                <a:solidFill>
                  <a:srgbClr val="9900cc"/>
                </a:solidFill>
                <a:latin typeface="Comic Sans MS"/>
              </a:rPr>
              <a:t>Remember I is used in the naming part of the sentence and me is used in the telling part.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Comic Sans MS"/>
              </a:rPr>
              <a:t>Todd and ____ went to the p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Comic Sans MS"/>
              </a:rPr>
              <a:t>My dad went with Todd and 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154840" y="228600"/>
            <a:ext cx="374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subject of the sentence an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ate; to use knowledge of basic rules of capitalization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4"/>
          <p:cNvSpPr/>
          <p:nvPr/>
        </p:nvSpPr>
        <p:spPr>
          <a:xfrm>
            <a:off x="7010280" y="541008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28600"/>
            <a:ext cx="87631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rsonal Narr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I was born in Texas.  My family and I went from farm to farm picking crops.  I helped pick crops all day.  It was hard work.  At night, I had fun with my grandpa and his stori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4"/>
          <p:cNvSpPr/>
          <p:nvPr/>
        </p:nvSpPr>
        <p:spPr>
          <a:xfrm>
            <a:off x="7010280" y="541008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52280"/>
            <a:ext cx="7086600" cy="49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ersonal Narr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A personal narrative tells about something that has happened in a person’s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It has a beginning, a middle, and an en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It has words like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 and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Comic Sans MS"/>
              </a:rPr>
              <a:t>me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sonal Narr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Write about one of your ambitions. 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what you would like to do or be when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row up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L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Check to see if you told about something that happened to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Use I and me in your wr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Use capital letters where needed and punctua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7010280" y="22860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629400" y="228600"/>
            <a:ext cx="1905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identify characteristics of concrete poe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038480" y="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7030a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“</a:t>
            </a: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Books to the Ceiling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3197"/>
                </a:solidFill>
                <a:latin typeface="Constantia"/>
              </a:rPr>
              <a:t>*Why do you think the poet said “I’ll have a long beard by the time I read them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" descr="C:\Users\Janice\AppData\Local\Microsoft\Windows\Temporary Internet Files\Content.IE5\AETH7CGB\MCj04345750000[1].wmf"/>
          <p:cNvPicPr/>
          <p:nvPr/>
        </p:nvPicPr>
        <p:blipFill>
          <a:blip r:embed="rId1"/>
          <a:stretch/>
        </p:blipFill>
        <p:spPr>
          <a:xfrm>
            <a:off x="685800" y="990720"/>
            <a:ext cx="3168720" cy="53956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76212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629400" y="609480"/>
            <a:ext cx="213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80880" y="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ord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523880"/>
            <a:ext cx="3657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ars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0388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12193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2193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4382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u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22096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k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312408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41972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u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41148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50292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0958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57913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Word Buil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12952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4382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2096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312408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41972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u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ord did you mak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1148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 /kw/ qu and other known letter-sou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28600"/>
            <a:ext cx="6400800" cy="56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Digraphs /kw/qu, /hw/wh, /th/ 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Quinn is my c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e is as quick as a win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e kicks his legs.  Bump! Thu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What upset the buck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Quinn did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Whiz! Which way did Quinn 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There he is on my thick quil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CartoonCat" descr=""/>
          <p:cNvPicPr/>
          <p:nvPr/>
        </p:nvPicPr>
        <p:blipFill>
          <a:blip r:embed="rId1"/>
          <a:stretch/>
        </p:blipFill>
        <p:spPr>
          <a:xfrm>
            <a:off x="6477120" y="2895480"/>
            <a:ext cx="232092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a6a6"/>
                </a:solidFill>
                <a:latin typeface="Times New Roman"/>
              </a:rPr>
              <a:t>This Week’s 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2286000" y="1295280"/>
            <a:ext cx="17906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i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57600" y="1600200"/>
            <a:ext cx="2023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a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p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p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6397920" y="6019920"/>
            <a:ext cx="251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bjective:  To blend sounds into wo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3:30:44Z</dcterms:created>
  <dc:creator>Federated Group</dc:creator>
  <dc:description/>
  <dc:language>en-US</dc:language>
  <cp:lastModifiedBy> </cp:lastModifiedBy>
  <dcterms:modified xsi:type="dcterms:W3CDTF">2009-12-15T05:01:32Z</dcterms:modified>
  <cp:revision>4</cp:revision>
  <dc:subject/>
  <dc:title>PowerPoint Presentation</dc:title>
</cp:coreProperties>
</file>