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11A-C3B6-456A-A2AA-91E8BDFF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50F-DC7E-41A3-ADAE-A4B0465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940-1EEF-442A-91C0-ED10A68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CB3-FF5A-43AC-9DB0-05D24BE0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E29-2B3A-4F9F-A165-DA841668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C86-A895-4482-8D9A-3B73278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B27-0E04-4067-A080-B20FFFF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1810-985B-457E-A268-1E3D4917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200-95EF-4B81-9B75-4A9F5AD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EA8-4EDD-40A8-9184-C56A981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1FB-C308-447B-9344-36606023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92D-9114-498A-B523-07C049E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16A-4BB1-4674-A8D9-DA4E50833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90920" y="533520"/>
            <a:ext cx="56386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Objectives: To use /kw/ qu, /hw/ wh, snd other known letter sounds to spell and writ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</a:rPr>
              <a:t>To spell and write known high frequency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95280" y="1143000"/>
            <a:ext cx="6782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2362320"/>
            <a:ext cx="6095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666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666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666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666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441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419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419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524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5257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5257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Arial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2286000" y="1295280"/>
            <a:ext cx="179064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omic Sans MS"/>
              </a:rPr>
              <a:t>qu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457600" y="1600200"/>
            <a:ext cx="202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a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p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6397920" y="6019920"/>
            <a:ext cx="251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bjective:  To blend sounds into wor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66680" y="1295280"/>
            <a:ext cx="723924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quen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"/>
            <a:ext cx="8305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determine the sequence of events while listening to a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o identify the selection as a text that has a sequenced text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495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The sequence of a story is the order in which the events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562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et’s look at the story </a:t>
            </a:r>
            <a:r>
              <a:rPr b="1" lang="en-US" sz="1800" spc="-1" strike="noStrike" u="sng">
                <a:solidFill>
                  <a:srgbClr val="ff5050"/>
                </a:solidFill>
                <a:uFillTx/>
                <a:latin typeface="Arial"/>
              </a:rPr>
              <a:t>Fireflies, Fireflies Light My Way.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There is an order in which the author sees the animals. Let’s discuss this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1754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Where and when does this story take place? How do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2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 discuss these questions with your partn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Let’s look at page 30 – how does this page help you remember the sequenc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accomp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dm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b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88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ccomplish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1447920"/>
            <a:ext cx="5029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you have had an accomplishment, you have worked hard to get something don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09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04920"/>
            <a:ext cx="838188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will name some things.  If it is an accomplishment that you would like to achieve then say “What an accomplishment!”  If not say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becoming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making a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rit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fighting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aking a n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3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dm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447920"/>
            <a:ext cx="44956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admire someone, you think that person is very special because of the things he or she does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635120"/>
            <a:ext cx="44197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I will name some people.  If you admire these people then clap once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209680"/>
            <a:ext cx="7696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sports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good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bank ro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rying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a champion 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the mayor of a big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b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144792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you have an ambition, you want to do something very muc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205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like to go to thin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is this place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think in _________ because 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861084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I will name some activities.  If you think the activities are an ambition that most children have then signal by giving a thumbs up.  If not do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Winning a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Eating an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Meeting a famous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Hitting a hom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Starring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Going to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049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Objective: To use knowledge of the appropriate use of I and me i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Remember that we use the word I in the naming part of the sentence and we use the word me in the telling part of the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5345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Where do these parts of the sentence be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ark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Mom and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Pam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Dad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you an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3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7010280" y="541008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2280"/>
            <a:ext cx="7086600" cy="49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A personal narrative tells about something that has happened in a person’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It has a beginning, a middle, and an en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It has words lik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and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Comic Sans MS"/>
              </a:rPr>
              <a:t>me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rite about something that happened in your life.  Make sure you use beginning, middle, and end in your story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Check to see if you told about something that happen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I and me in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Use capital letters where needed and punc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7010280" y="2286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95680" y="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: To appreciate the rhythm and rhyme of a poem; to relate the poem to one’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066680"/>
            <a:ext cx="7848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ff"/>
                </a:solidFill>
                <a:latin typeface="Arial"/>
              </a:rPr>
              <a:t>And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 want to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When I’m ready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 have a secret place to 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er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I’ll 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And think the though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hat no one else should ever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0880"/>
            <a:ext cx="883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On my signal, turn and talk with your partner to answer thes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What does the person do in the secret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at do you think the secret place looks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How does this poem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lete the beginning phonemes from a wo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2:35:51Z</dcterms:created>
  <dc:creator>Valued Gateway Client</dc:creator>
  <dc:description/>
  <dc:language>en-US</dc:language>
  <cp:lastModifiedBy> </cp:lastModifiedBy>
  <dcterms:modified xsi:type="dcterms:W3CDTF">2009-12-15T05:18:26Z</dcterms:modified>
  <cp:revision>4</cp:revision>
  <dc:subject/>
  <dc:title>Slide 1</dc:title>
</cp:coreProperties>
</file>