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CB81-FBDA-4418-B483-F56750B28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A5CA-2B54-4E77-A470-E4176940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5D47-9BFD-41CE-B8F4-10324BA4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09D8-8161-4199-BAF8-6E5CA4E3D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BC3F-E2C0-4CE0-98F4-2EBBBA79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562-D84B-4723-8071-D8F27E37A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B53-F01A-4041-817C-C7B8D94C3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23A8-6ED9-4E17-92EF-0C0544007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D7A-262F-4A99-96E8-25BB29BDC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028B-3265-4438-8414-EBDEF7CE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D971-9FB9-4898-B2F6-5193FEF82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F461-B98F-4244-9A7E-BFFD6C1A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0F7-4D5C-4029-A00B-0C626B63A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46FE-AE7C-4039-9757-2B75CC79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C23D-EEC4-42F6-8584-1D908F4A8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7E15-5323-4BCC-97FC-4A21C7441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A45F-2E52-4703-8D38-9F1F74630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AACC-0BE9-4B55-BAD8-54701270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031F-95BA-49BC-BCA8-836CB99D1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26FF-7EEE-4FA1-A47F-50089D759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8EB2-B334-4385-B2B1-D5A4E72BA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64E0-EC0C-4FDC-9CF9-3ABF33CF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D3F0-D7D3-4FCD-B3CF-F16079FC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A51-6EFA-4AEB-B075-8CC96401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8A7-8197-42F6-BB9E-F7D7F27D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EF0-E489-4152-8546-F4B7E615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52C-CC0A-4914-821C-7B3D372E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37C-D6BA-4AA0-B6FB-CEC40781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47B-798A-4AB3-AC7A-F0C14596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BBF-F058-42FF-B78C-3271C95B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0A6-A570-4A2B-9AC9-076681D1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96F-A6EB-4509-A18F-E0E8A2DC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5A5-0CA2-4E94-AC9C-B5B615F9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35D-8DED-48CC-956F-696FE0A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3C5D-B524-4530-9C93-20042C261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6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Ben comes firs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Kit is thi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5715000" y="2057400"/>
            <a:ext cx="2819520" cy="41911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191120"/>
              <a:gd name="textAreaBottom" fmla="*/ 4053600 h 4191120"/>
            </a:gdLst>
            <a:ahLst/>
            <a:rect l="textAreaLeft" t="textAreaTop" r="textAreaRight" b="textAreaBottom"/>
            <a:pathLst>
              <a:path w="21600" h="32106">
                <a:moveTo>
                  <a:pt x="3600" y="0"/>
                </a:moveTo>
                <a:arcTo wR="3600" hR="3600" stAng="16200000" swAng="-5400000"/>
                <a:lnTo>
                  <a:pt x="0" y="28506"/>
                </a:lnTo>
                <a:arcTo wR="3600" hR="3600" stAng="10800000" swAng="-5400000"/>
                <a:lnTo>
                  <a:pt x="18000" y="32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867280" y="2286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2895480" y="2057400"/>
            <a:ext cx="2819520" cy="41911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191120"/>
              <a:gd name="textAreaBottom" fmla="*/ 4053600 h 4191120"/>
            </a:gdLst>
            <a:ahLst/>
            <a:rect l="textAreaLeft" t="textAreaTop" r="textAreaRight" b="textAreaBottom"/>
            <a:pathLst>
              <a:path w="21600" h="32106">
                <a:moveTo>
                  <a:pt x="3600" y="0"/>
                </a:moveTo>
                <a:arcTo wR="3600" hR="3600" stAng="16200000" swAng="-5400000"/>
                <a:lnTo>
                  <a:pt x="0" y="28506"/>
                </a:lnTo>
                <a:arcTo wR="3600" hR="3600" stAng="10800000" swAng="-5400000"/>
                <a:lnTo>
                  <a:pt x="18000" y="32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228600" y="2057400"/>
            <a:ext cx="2666880" cy="419112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191120"/>
              <a:gd name="textAreaBottom" fmla="*/ 4061160 h 4191120"/>
            </a:gdLst>
            <a:ahLst/>
            <a:rect l="textAreaLeft" t="textAreaTop" r="textAreaRight" b="textAreaBottom"/>
            <a:pathLst>
              <a:path w="21600" h="33944">
                <a:moveTo>
                  <a:pt x="3600" y="0"/>
                </a:moveTo>
                <a:arcTo wR="3600" hR="3600" stAng="16200000" swAng="-5400000"/>
                <a:lnTo>
                  <a:pt x="0" y="30344"/>
                </a:lnTo>
                <a:arcTo wR="3600" hR="3600" stAng="10800000" swAng="-5400000"/>
                <a:lnTo>
                  <a:pt x="18000" y="339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80880" y="2286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352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Lion and the Mous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t a purpose for listening.  To understand characteristics of f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7" descr="MCj0424128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5257800" cy="4379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MCj04241380000[1]"/>
          <p:cNvPicPr/>
          <p:nvPr/>
        </p:nvPicPr>
        <p:blipFill>
          <a:blip r:embed="rId2"/>
          <a:stretch/>
        </p:blipFill>
        <p:spPr>
          <a:xfrm>
            <a:off x="5715000" y="4800600"/>
            <a:ext cx="30481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239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have captur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caught it and are not letting it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aptu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MPj04389220000[1]"/>
          <p:cNvPicPr/>
          <p:nvPr/>
        </p:nvPicPr>
        <p:blipFill>
          <a:blip r:embed="rId1"/>
          <a:stretch/>
        </p:blipFill>
        <p:spPr>
          <a:xfrm>
            <a:off x="304920" y="1752480"/>
            <a:ext cx="4498920" cy="449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capture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iny mouse with its huge p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onc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butterfly and then let it go after looking a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want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bserve a spider or a turtl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erc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648320" y="1752480"/>
            <a:ext cx="424656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show kindness or forgiveness to someone who has done something wrong, you show merc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epa1301l"/>
          <p:cNvPicPr/>
          <p:nvPr/>
        </p:nvPicPr>
        <p:blipFill>
          <a:blip r:embed="rId1"/>
          <a:stretch/>
        </p:blipFill>
        <p:spPr>
          <a:xfrm>
            <a:off x="304920" y="1905120"/>
            <a:ext cx="4495680" cy="417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rified mouse begged the lion f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d been the lion, would you have show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would you have eaten the m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struggling, you are making a great effort with your body or mind to do some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133720" y="228600"/>
            <a:ext cx="472428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trugg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MCj03910400000[1]"/>
          <p:cNvPicPr/>
          <p:nvPr/>
        </p:nvPicPr>
        <p:blipFill>
          <a:blip r:embed="rId1"/>
          <a:stretch/>
        </p:blipFill>
        <p:spPr>
          <a:xfrm>
            <a:off x="0" y="2514600"/>
            <a:ext cx="46483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about a lion you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did you see it, what did it look lik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and what was it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saw a lion 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The lion had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t was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use found the King of Beas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ree himself from the hunters’ tangled 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 had to tie my shoes with one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to write your name with your eyes closed or to make your bed using only on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934320" y="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52280" y="1523880"/>
            <a:ext cx="87631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on decided to take a short nap one 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stretched out and soon fell aslee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g has a red c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6"/>
          <p:cNvSpPr/>
          <p:nvPr/>
        </p:nvSpPr>
        <p:spPr>
          <a:xfrm>
            <a:off x="6934320" y="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7" descr="la31"/>
          <p:cNvPicPr/>
          <p:nvPr/>
        </p:nvPicPr>
        <p:blipFill>
          <a:blip r:embed="rId1"/>
          <a:stretch/>
        </p:blipFill>
        <p:spPr>
          <a:xfrm>
            <a:off x="1066680" y="0"/>
            <a:ext cx="58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84872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from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M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934320" y="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72428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la32"/>
          <p:cNvPicPr/>
          <p:nvPr/>
        </p:nvPicPr>
        <p:blipFill>
          <a:blip r:embed="rId1"/>
          <a:stretch/>
        </p:blipFill>
        <p:spPr>
          <a:xfrm>
            <a:off x="2093760" y="0"/>
            <a:ext cx="49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an Invi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1522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storm Ide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57200" y="990720"/>
            <a:ext cx="82296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71600" y="9144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identify sound and direct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We’re Going on a Lion Hu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MPj04317910000[1]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MCj04174500000[1]"/>
          <p:cNvPicPr/>
          <p:nvPr/>
        </p:nvPicPr>
        <p:blipFill>
          <a:blip r:embed="rId1"/>
          <a:stretch/>
        </p:blipFill>
        <p:spPr>
          <a:xfrm>
            <a:off x="5029200" y="2438280"/>
            <a:ext cx="38862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er, ir, 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45820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r-controlled vowel er, ir, 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ur/ sound at the end, snap your fingers and say /ur/.  When I say a word that does not have /ar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middle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0" descr="MCj04374630000[1]"/>
          <p:cNvPicPr/>
          <p:nvPr/>
        </p:nvPicPr>
        <p:blipFill>
          <a:blip r:embed="rId1"/>
          <a:stretch/>
        </p:blipFill>
        <p:spPr>
          <a:xfrm>
            <a:off x="0" y="1828800"/>
            <a:ext cx="54100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50532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6483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429000" y="3657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2767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4038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36576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4572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4038480" y="4648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4724280" y="4648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3526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495680" y="3505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8098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4290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8862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434340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3276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8098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10T21:17:23Z</dcterms:modified>
  <cp:revision>107</cp:revision>
  <dc:subject/>
  <dc:title>Slide 1</dc:title>
</cp:coreProperties>
</file>