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1.wmf" ContentType="image/x-wmf"/>
  <Override PartName="/ppt/media/image12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CDF9-CA19-43F5-8BCE-3F383690F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E776-CEC3-4755-AF1F-AB12ECF19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2A5B-1E90-46CA-B880-2426154DA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0F8C-C9C6-4DB3-A7D0-06A61C12A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D048-9AE8-457C-B47F-3F27B9B98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AD27-30BD-4346-AB21-57F75B1AC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57C4-DF64-429B-84EA-2B9FE857A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A658-9856-4429-A9BD-43F01773D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5B39-A148-4CD1-A39F-448128FBE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32CB-CB3D-4DAF-A7CA-BFD3CB562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3521-5E5C-4B04-8B4F-1A64D70C7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88F2-558F-4062-B65D-265325E4E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CE32-E460-4369-9C3F-DC2CB19E5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648C-F006-4545-B8C2-3D58D6E7D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A117-D257-44DB-A72A-AC0484D15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CFE2-6DB2-4ABA-9039-0267EFCB9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57D1-31BF-441C-9E8B-283DB8182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03D3-5193-40D2-AAF1-9993DD250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746B-0AEC-4523-A022-7B00AE8B1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AF4D-E20C-4553-83A9-5213DC1A6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E42A-6099-4AFA-AA8A-CA0844D98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FD19-A7D0-411A-9B36-16AD639A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0659-17CE-4F48-A7D3-54E70822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130-38AC-42F0-BF8C-C3952A57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906-A50E-4A38-BC72-21828AFC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6BE-9F97-42A1-9E3F-4D723A9B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854-871E-46CB-B156-0706F2BC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119B-311B-4482-B5D1-1DC95E6C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EDFC-F73A-4F88-B637-625A6D6E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B50D-277E-417E-A0DC-B842BD43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158F-3935-41B7-A3DC-E615377C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20D0-45AB-461D-B033-B2E5FB1B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102-2DF1-4AB4-8250-C376CB49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F677-F325-454D-ADB7-24489F512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6, Day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aint.jpg"/>
          <p:cNvPicPr/>
          <p:nvPr/>
        </p:nvPicPr>
        <p:blipFill>
          <a:blip r:embed="rId1"/>
          <a:stretch/>
        </p:blipFill>
        <p:spPr>
          <a:xfrm>
            <a:off x="5181480" y="762120"/>
            <a:ext cx="3753000" cy="565128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685800" y="380880"/>
            <a:ext cx="4191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</a:rPr>
              <a:t>The main idea of a story is what it is mostly ab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</a:rPr>
              <a:t>What is the main idea of these pict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862680" y="228600"/>
            <a:ext cx="1966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recognize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n ide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spendernew2801_468x315.jpg"/>
          <p:cNvPicPr/>
          <p:nvPr/>
        </p:nvPicPr>
        <p:blipFill>
          <a:blip r:embed="rId2"/>
          <a:stretch/>
        </p:blipFill>
        <p:spPr>
          <a:xfrm>
            <a:off x="533520" y="3048120"/>
            <a:ext cx="44575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african-elephant2.jpg"/>
          <p:cNvPicPr/>
          <p:nvPr/>
        </p:nvPicPr>
        <p:blipFill>
          <a:blip r:embed="rId1"/>
          <a:stretch/>
        </p:blipFill>
        <p:spPr>
          <a:xfrm>
            <a:off x="5181480" y="3962520"/>
            <a:ext cx="3402000" cy="2344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762120" y="45720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Can you read these words?  Do you know what the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1258560" y="1371600"/>
            <a:ext cx="2791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elep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hamm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kind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la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sh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925560" y="4724280"/>
            <a:ext cx="55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An elephant and a la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are two animal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in today’s story, </a:t>
            </a:r>
            <a:r>
              <a:rPr b="0" i="1" lang="en-US" sz="2800" spc="-1" strike="noStrike">
                <a:solidFill>
                  <a:srgbClr val="7030a0"/>
                </a:solidFill>
                <a:latin typeface="Arial"/>
              </a:rPr>
              <a:t>One Mo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rie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lamb.jpg"/>
          <p:cNvPicPr/>
          <p:nvPr/>
        </p:nvPicPr>
        <p:blipFill>
          <a:blip r:embed="rId2"/>
          <a:stretch/>
        </p:blipFill>
        <p:spPr>
          <a:xfrm>
            <a:off x="5486400" y="1143000"/>
            <a:ext cx="3048120" cy="27432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304920" y="0"/>
            <a:ext cx="2133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3880" y="838080"/>
            <a:ext cx="3200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w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o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753520" y="1676520"/>
            <a:ext cx="1945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2438280" y="60948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Arial"/>
              </a:rPr>
              <a:t>Words to K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quen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1219320" y="914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4724280" y="16765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4648320" y="541008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553080" y="0"/>
            <a:ext cx="259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mprove comprehension by summarizing as you re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295280" y="1143000"/>
            <a:ext cx="65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295280" y="2286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1219320" y="586728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1295280" y="6095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1295280" y="49528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219320" y="350532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u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gg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7239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have captured someth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have caught it and are not letting it g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aptur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9" descr="MPj04389220000[1]"/>
          <p:cNvPicPr/>
          <p:nvPr/>
        </p:nvPicPr>
        <p:blipFill>
          <a:blip r:embed="rId1"/>
          <a:stretch/>
        </p:blipFill>
        <p:spPr>
          <a:xfrm>
            <a:off x="304920" y="1752480"/>
            <a:ext cx="4498920" cy="4494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aptu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bout a story you have read or listened to in which a character w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ptu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end you are trying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p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big bug.  Show how you would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nything ev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ptu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r attention so that you didn’t want to do anything else?  Tell abou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merc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648320" y="1752480"/>
            <a:ext cx="424656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show kindness or forgiveness to someone who has done something wrong, you show merc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epa1301l"/>
          <p:cNvPicPr/>
          <p:nvPr/>
        </p:nvPicPr>
        <p:blipFill>
          <a:blip r:embed="rId1"/>
          <a:stretch/>
        </p:blipFill>
        <p:spPr>
          <a:xfrm>
            <a:off x="304920" y="1905120"/>
            <a:ext cx="4495680" cy="4170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mer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a time when someone showed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r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ter you did something you shouldn’t h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at person say to you to show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r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How did you feel afterw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bout a time you would show another pers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r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419720" y="1981080"/>
            <a:ext cx="4481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struggling, you are making a great effort with your body or mind to do some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2133720" y="228600"/>
            <a:ext cx="472428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struggl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5" descr="MCj03910400000[1]"/>
          <p:cNvPicPr/>
          <p:nvPr/>
        </p:nvPicPr>
        <p:blipFill>
          <a:blip r:embed="rId1"/>
          <a:stretch/>
        </p:blipFill>
        <p:spPr>
          <a:xfrm>
            <a:off x="0" y="2514600"/>
            <a:ext cx="4648320" cy="3335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ow might a new child in our class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Someone new might feel 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because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strugg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saw a frie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ugg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open  box, what would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you look and act if you wer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struggl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rry a very heavy box across the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best thing to do if you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ruggl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your ho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2"/>
          <p:cNvSpPr/>
          <p:nvPr/>
        </p:nvSpPr>
        <p:spPr>
          <a:xfrm>
            <a:off x="1752480" y="3808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ylium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7086600" y="152280"/>
            <a:ext cx="18288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recognize that he, she, it, and they can take the place of names of people, animals, places, and thing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066680" y="1219320"/>
            <a:ext cx="7620120" cy="1295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04040"/>
                </a:solidFill>
                <a:latin typeface="Arial"/>
              </a:rPr>
              <a:t>he    she</a:t>
            </a:r>
            <a:r>
              <a:rPr b="0" lang="en-US" sz="6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404040"/>
                </a:solidFill>
                <a:latin typeface="Arial"/>
              </a:rPr>
              <a:t> it</a:t>
            </a:r>
            <a:r>
              <a:rPr b="0" lang="en-US" sz="6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404040"/>
                </a:solidFill>
                <a:latin typeface="Arial"/>
              </a:rPr>
              <a:t>  the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457200" y="2819520"/>
            <a:ext cx="853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lie’s brother said _______ would fix her b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 looked really pretty in her new 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m told me to take the frog outside because _____ was making a m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the chicks saw the hen ______ ran to 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66"/>
                </a:solidFill>
                <a:uFillTx/>
                <a:latin typeface="Constantia"/>
              </a:rPr>
              <a:t>An Invitation Tel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o it invi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at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en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ere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o is sending the invi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an invitation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invitation.gif"/>
          <p:cNvPicPr/>
          <p:nvPr/>
        </p:nvPicPr>
        <p:blipFill>
          <a:blip r:embed="rId1"/>
          <a:stretch/>
        </p:blipFill>
        <p:spPr>
          <a:xfrm>
            <a:off x="5410080" y="1295280"/>
            <a:ext cx="30006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: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: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: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: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: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ope you can come!  We’ll have f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010280" y="15228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an invitation.  To practice standard invitation form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C:\Users\Janice\AppData\Local\Microsoft\Windows\Temporary Internet Files\Content.IE5\1B2XUW99\MCj04079660000[1].wmf"/>
          <p:cNvPicPr/>
          <p:nvPr/>
        </p:nvPicPr>
        <p:blipFill>
          <a:blip r:embed="rId1"/>
          <a:stretch/>
        </p:blipFill>
        <p:spPr>
          <a:xfrm>
            <a:off x="5334120" y="685800"/>
            <a:ext cx="17841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 To identify sound and direction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343400" y="457200"/>
            <a:ext cx="480060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660033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660033"/>
                </a:solidFill>
                <a:latin typeface="Constantia"/>
              </a:rPr>
              <a:t>            “The New Girl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MPj04317910000[1]"/>
          <p:cNvPicPr/>
          <p:nvPr/>
        </p:nvPicPr>
        <p:blipFill>
          <a:blip r:embed="rId1"/>
          <a:stretch/>
        </p:blipFill>
        <p:spPr>
          <a:xfrm>
            <a:off x="380880" y="1828800"/>
            <a:ext cx="4419720" cy="3313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705960" y="129528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egment words into phonem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9" descr="MCj04174500000[1]"/>
          <p:cNvPicPr/>
          <p:nvPr/>
        </p:nvPicPr>
        <p:blipFill>
          <a:blip r:embed="rId1"/>
          <a:stretch/>
        </p:blipFill>
        <p:spPr>
          <a:xfrm>
            <a:off x="5029200" y="2579760"/>
            <a:ext cx="388620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7696080" y="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segment words into phone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276720" y="304920"/>
            <a:ext cx="472428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Comic Sans MS"/>
              </a:rPr>
              <a:t>Remember the lion in </a:t>
            </a:r>
            <a:r>
              <a:rPr b="0" i="1" lang="en-US" sz="2800" spc="-1" strike="noStrike">
                <a:solidFill>
                  <a:srgbClr val="6b6bcf"/>
                </a:solidFill>
                <a:latin typeface="Comic Sans MS"/>
              </a:rPr>
              <a:t>We’re Going On a Lion Hunt</a:t>
            </a:r>
            <a:r>
              <a:rPr b="0" lang="en-US" sz="2800" spc="-1" strike="noStrike">
                <a:solidFill>
                  <a:srgbClr val="6b6bcf"/>
                </a:solidFill>
                <a:latin typeface="Comic Sans MS"/>
              </a:rPr>
              <a:t>?  What sounds do you hear in the word </a:t>
            </a:r>
            <a:r>
              <a:rPr b="0" i="1" lang="en-US" sz="2800" spc="-1" strike="noStrike">
                <a:solidFill>
                  <a:srgbClr val="6b6bcf"/>
                </a:solidFill>
                <a:latin typeface="Comic Sans MS"/>
              </a:rPr>
              <a:t>lion</a:t>
            </a:r>
            <a:r>
              <a:rPr b="0" lang="en-US" sz="2800" spc="-1" strike="noStrike">
                <a:solidFill>
                  <a:srgbClr val="6b6bcf"/>
                </a:solidFill>
                <a:latin typeface="Comic Sans MS"/>
              </a:rPr>
              <a:t>?  As we say each sound in </a:t>
            </a:r>
            <a:r>
              <a:rPr b="0" i="1" lang="en-US" sz="2800" spc="-1" strike="noStrike">
                <a:solidFill>
                  <a:srgbClr val="6b6bcf"/>
                </a:solidFill>
                <a:latin typeface="Comic Sans MS"/>
              </a:rPr>
              <a:t>lion </a:t>
            </a:r>
            <a:r>
              <a:rPr b="0" lang="en-US" sz="2800" spc="-1" strike="noStrike">
                <a:solidFill>
                  <a:srgbClr val="6b6bcf"/>
                </a:solidFill>
                <a:latin typeface="Comic Sans MS"/>
              </a:rPr>
              <a:t>we are going to snap our fi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cf"/>
                </a:solidFill>
                <a:latin typeface="Comic Sans MS"/>
              </a:rPr>
              <a:t>Do the same for these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0" descr="MCj04374630000[1]"/>
          <p:cNvPicPr/>
          <p:nvPr/>
        </p:nvPicPr>
        <p:blipFill>
          <a:blip r:embed="rId1"/>
          <a:stretch/>
        </p:blipFill>
        <p:spPr>
          <a:xfrm>
            <a:off x="990720" y="609480"/>
            <a:ext cx="2228760" cy="3171960"/>
          </a:xfrm>
          <a:prstGeom prst="rect">
            <a:avLst/>
          </a:prstGeom>
          <a:ln w="0">
            <a:noFill/>
          </a:ln>
        </p:spPr>
      </p:pic>
      <p:sp>
        <p:nvSpPr>
          <p:cNvPr id="66" name="TextBox 8"/>
          <p:cNvSpPr/>
          <p:nvPr/>
        </p:nvSpPr>
        <p:spPr>
          <a:xfrm>
            <a:off x="1143000" y="5029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grass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hunt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nose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sw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mane            lake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home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cave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door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cr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240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ur/ er, ir, u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0384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80988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3505320" y="24382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4648320" y="1219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3429000" y="3657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32767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403848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3657600" y="3657600"/>
            <a:ext cx="1523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45720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4038480" y="46483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/ur/ er, ir, ur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3352680" y="2514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4495680" y="35053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380988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2362320" y="16002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2514600" y="2590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3048120" y="2590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4"/>
          <p:cNvSpPr/>
          <p:nvPr/>
        </p:nvSpPr>
        <p:spPr>
          <a:xfrm>
            <a:off x="3505320" y="2590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5"/>
          <p:cNvSpPr/>
          <p:nvPr/>
        </p:nvSpPr>
        <p:spPr>
          <a:xfrm>
            <a:off x="2438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28954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7"/>
          <p:cNvSpPr/>
          <p:nvPr/>
        </p:nvSpPr>
        <p:spPr>
          <a:xfrm>
            <a:off x="34290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3889080" y="259092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b6bcf"/>
                </a:solidFill>
                <a:latin typeface="Constantia"/>
              </a:rPr>
              <a:t>Read Words in Con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nstantia"/>
              </a:rPr>
              <a:t>The girl had her turn after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nstantia"/>
              </a:rPr>
              <a:t>Does a bird have fu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65f0e"/>
                </a:solidFill>
                <a:latin typeface="Constantia"/>
              </a:rPr>
              <a:t>Who is first in lin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When do you quit playing for the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1-10T21:22:40Z</dcterms:modified>
  <cp:revision>148</cp:revision>
  <dc:subject/>
  <dc:title>Slide 1</dc:title>
</cp:coreProperties>
</file>