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64A0-EDC8-48F9-A1DF-35D87AA34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50F0-CE0A-4405-AAEC-08FDA240E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3729-96F9-4544-B474-EE661766A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5C97-3304-45D9-8A5C-A76230B3E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14DA-766B-4B8D-9894-EB5F1EB89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F018-F558-45E5-9F68-AFE80321D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12D3-C201-4731-B827-9A453AFEB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3753-4F6C-414B-9C1C-D93C175BE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280A-512B-4AB3-9EFF-B7FBEF10D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6F1B-EA90-46D4-9669-CD587016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3D05-DEE9-4A01-87DA-F1BB2714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EA13-6EA6-4934-A8D9-8FE6DF8F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885A-AB89-4512-B7ED-97A7AE6C78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2438280" y="533520"/>
            <a:ext cx="5867640" cy="19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dnesda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esson 16, Day 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gh Frequency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alway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b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Cow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jo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n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ple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ro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5334120" y="22860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- To read high-frequency wor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75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75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75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75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75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75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75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75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75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75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75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75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75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75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75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75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75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75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75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75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75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75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75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75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75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75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75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75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2"/>
          <p:cNvSpPr/>
          <p:nvPr/>
        </p:nvSpPr>
        <p:spPr>
          <a:xfrm>
            <a:off x="6862680" y="228600"/>
            <a:ext cx="19666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:  To recognize th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ain ide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380880" y="1905120"/>
            <a:ext cx="85345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9900cc"/>
                </a:solidFill>
                <a:latin typeface="Times New Roman"/>
              </a:rPr>
              <a:t>The Lion and the Mous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Lions like to slee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Be nice to others and they will be nice to yo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The mouse helped the lion get free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What is the main idea of “One More Friend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533520" y="304920"/>
            <a:ext cx="54864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00000"/>
                </a:solidFill>
                <a:uFillTx/>
                <a:latin typeface="Comic Sans MS"/>
              </a:rPr>
              <a:t>Main Id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The main idea of a story is what it is mostly ab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640080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457200" y="838080"/>
            <a:ext cx="838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b0f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Comic Sans MS"/>
              </a:rPr>
              <a:t>compati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Comic Sans MS"/>
              </a:rPr>
              <a:t>ami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Comic Sans MS"/>
              </a:rPr>
              <a:t>rel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2"/>
          <p:cNvSpPr/>
          <p:nvPr/>
        </p:nvSpPr>
        <p:spPr>
          <a:xfrm>
            <a:off x="228600" y="228600"/>
            <a:ext cx="45720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cc"/>
              </a:gs>
              <a:gs pos="100000">
                <a:srgbClr val="00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533520" y="38088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compati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0" y="1600200"/>
            <a:ext cx="3505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en people or animals are compatible, they are able to be together or get along with each other.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Content Placeholder 3" descr="leopard-and-piggy.jpg"/>
          <p:cNvPicPr/>
          <p:nvPr/>
        </p:nvPicPr>
        <p:blipFill>
          <a:blip r:embed="rId1"/>
          <a:stretch/>
        </p:blipFill>
        <p:spPr>
          <a:xfrm>
            <a:off x="3505320" y="1752480"/>
            <a:ext cx="541008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compati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t, Frog, Chick, Hen, Duck, Cat, Dog and Lamb were happy and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ompati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the hammo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 friends and I ar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ompati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do many things together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you mor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ompati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ith children your own age or with adults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2"/>
          <p:cNvSpPr/>
          <p:nvPr/>
        </p:nvSpPr>
        <p:spPr>
          <a:xfrm>
            <a:off x="228600" y="228600"/>
            <a:ext cx="45720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533520" y="38088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ami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4648320" y="1447920"/>
            <a:ext cx="4495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omeone who is amiable is good-natured and friendly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9" descr="C:\Documents and Settings\pawley\My Documents\amiable.jpg"/>
          <p:cNvPicPr/>
          <p:nvPr/>
        </p:nvPicPr>
        <p:blipFill>
          <a:blip r:embed="rId1"/>
          <a:stretch/>
        </p:blipFill>
        <p:spPr>
          <a:xfrm>
            <a:off x="152280" y="1752480"/>
            <a:ext cx="40640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ami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t is a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mi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aracter who happily invites all the animals passing by to join her in the hammo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it more fun to be around someone who i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mi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someone who is not?  Wh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2"/>
          <p:cNvSpPr/>
          <p:nvPr/>
        </p:nvSpPr>
        <p:spPr>
          <a:xfrm>
            <a:off x="228600" y="228600"/>
            <a:ext cx="45720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66"/>
              </a:gs>
              <a:gs pos="100000">
                <a:srgbClr val="ff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533520" y="38088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rela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4648320" y="1447920"/>
            <a:ext cx="4495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en you relax, you are not uneasy or upset about anything; you spend time resting or doing things for fu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7" descr="C:\Documents and Settings\pawley\My Documents\relax2.jpg"/>
          <p:cNvPicPr/>
          <p:nvPr/>
        </p:nvPicPr>
        <p:blipFill>
          <a:blip r:embed="rId1"/>
          <a:stretch/>
        </p:blipFill>
        <p:spPr>
          <a:xfrm>
            <a:off x="609480" y="1523880"/>
            <a:ext cx="353376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rel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1371240"/>
            <a:ext cx="6400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 animals were able to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rela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the hammock in Cow’s backy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like to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rela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y sitting on my porch swing and reading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uld you rather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rela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 your porch or at the bea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Using He, She, It, and Th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6699"/>
                </a:solidFill>
                <a:uFillTx/>
                <a:latin typeface="Comic Sans MS"/>
              </a:rPr>
              <a:t>Dan</a:t>
            </a:r>
            <a:r>
              <a:rPr b="1" lang="en-US" sz="3200" spc="-1" strike="noStrike">
                <a:solidFill>
                  <a:srgbClr val="666699"/>
                </a:solidFill>
                <a:latin typeface="Comic Sans MS"/>
              </a:rPr>
              <a:t> wore a red shirt toda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Comic Sans MS"/>
              </a:rPr>
              <a:t>They wore a red shirt toda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cc"/>
                </a:solidFill>
                <a:uFillTx/>
                <a:latin typeface="Comic Sans MS"/>
              </a:rPr>
              <a:t>The bell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 ra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She ran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99ff"/>
                </a:solidFill>
                <a:uFillTx/>
                <a:latin typeface="Comic Sans MS"/>
              </a:rPr>
              <a:t>Ann</a:t>
            </a:r>
            <a:r>
              <a:rPr b="1" lang="en-US" sz="3200" spc="-1" strike="noStrike">
                <a:solidFill>
                  <a:srgbClr val="6699ff"/>
                </a:solidFill>
                <a:latin typeface="Comic Sans MS"/>
              </a:rPr>
              <a:t> sits next to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ff"/>
                </a:solidFill>
                <a:latin typeface="Comic Sans MS"/>
              </a:rPr>
              <a:t>It sits next to m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8000"/>
                </a:solidFill>
                <a:uFillTx/>
                <a:latin typeface="Comic Sans MS"/>
              </a:rPr>
              <a:t>Ben and Bob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 read a s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He and he read a s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4"/>
          <p:cNvSpPr/>
          <p:nvPr/>
        </p:nvSpPr>
        <p:spPr>
          <a:xfrm>
            <a:off x="5410080" y="0"/>
            <a:ext cx="35053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Objective: To recognize that he, she, it, and they can take the place of names of people, animals, places, and thing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"/>
          <p:cNvSpPr/>
          <p:nvPr/>
        </p:nvSpPr>
        <p:spPr>
          <a:xfrm>
            <a:off x="7010280" y="0"/>
            <a:ext cx="2133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304920" y="1295280"/>
            <a:ext cx="86104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Think about your friends. How would you describe what a friend 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onstantia"/>
              </a:rPr>
              <a:t>On my signal, you will turn and talk to your partner to complete this ste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A friend is _________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0" y="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0066"/>
                </a:solidFill>
                <a:uFillTx/>
                <a:latin typeface="Constantia"/>
              </a:rPr>
              <a:t>An Invitation Tell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457200" y="1523880"/>
            <a:ext cx="74674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Constantia"/>
              </a:rPr>
              <a:t>who it invi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Constantia"/>
              </a:rPr>
              <a:t>what the event 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Constantia"/>
              </a:rPr>
              <a:t>when the event 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Constantia"/>
              </a:rPr>
              <a:t>where the event 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Constantia"/>
              </a:rPr>
              <a:t>who is sending the invit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7086600" y="380880"/>
            <a:ext cx="2057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Objective: To understand the purpose of an invitation.</a:t>
            </a:r>
            <a:br>
              <a:rPr sz="44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4" descr="invitation.gif"/>
          <p:cNvPicPr/>
          <p:nvPr/>
        </p:nvPicPr>
        <p:blipFill>
          <a:blip r:embed="rId1"/>
          <a:stretch/>
        </p:blipFill>
        <p:spPr>
          <a:xfrm>
            <a:off x="5410080" y="1295280"/>
            <a:ext cx="300060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4"/>
          <p:cNvSpPr/>
          <p:nvPr/>
        </p:nvSpPr>
        <p:spPr>
          <a:xfrm>
            <a:off x="6858000" y="6019920"/>
            <a:ext cx="20574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ctive:  To understand the parts of an invitation. To understand how to write an invitation correctl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152280" y="2286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nvi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omic Sans MS"/>
              </a:rPr>
              <a:t>To: Frog, Chick, Hen, Duck, Cat, Dog, Lamb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omic Sans MS"/>
              </a:rPr>
              <a:t>You are invited to a picnic.  You may get to ride on an elephant, too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omic Sans MS"/>
              </a:rPr>
              <a:t>When: Saturday, July 14, 12:00-5:0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omic Sans MS"/>
              </a:rPr>
              <a:t>Where: Cow’s backyar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omic Sans MS"/>
              </a:rPr>
              <a:t>Please come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Comic Sans MS"/>
              </a:rPr>
              <a:t>Your friend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Comic Sans MS"/>
              </a:rPr>
              <a:t>A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3"/>
          <p:cNvSpPr/>
          <p:nvPr/>
        </p:nvSpPr>
        <p:spPr>
          <a:xfrm>
            <a:off x="457200" y="990720"/>
            <a:ext cx="822960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: 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rom: 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: 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: 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re: 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ease come!  We’ll have lots of fu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r frien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7010280" y="152280"/>
            <a:ext cx="2133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Objective: To understand the purpose of an invitation.  To practice standard invitation form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6" descr="C:\Documents and Settings\pawley\My Documents\party.jpg"/>
          <p:cNvPicPr/>
          <p:nvPr/>
        </p:nvPicPr>
        <p:blipFill>
          <a:blip r:embed="rId1"/>
          <a:stretch/>
        </p:blipFill>
        <p:spPr>
          <a:xfrm>
            <a:off x="5105520" y="228600"/>
            <a:ext cx="190332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6629400" y="228600"/>
            <a:ext cx="1905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To identify characteristics of concrete poet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4952880" y="0"/>
            <a:ext cx="3886200" cy="53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7030a0"/>
                </a:solidFill>
                <a:uFillTx/>
                <a:latin typeface="Constantia"/>
              </a:rPr>
              <a:t>Read Alou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onstantia"/>
              </a:rPr>
              <a:t>“</a:t>
            </a:r>
            <a:r>
              <a:rPr b="1" lang="en-US" sz="4400" spc="-1" strike="noStrike">
                <a:solidFill>
                  <a:srgbClr val="7030a0"/>
                </a:solidFill>
                <a:latin typeface="Constantia"/>
              </a:rPr>
              <a:t>The New Girl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f3197"/>
                </a:solidFill>
                <a:latin typeface="Constantia"/>
              </a:rPr>
              <a:t>*Find the rhyming wo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762120" y="4572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ok of Rhymes and Po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0" descr="C:\Documents and Settings\pawley\My Documents\little girl.jpg"/>
          <p:cNvPicPr/>
          <p:nvPr/>
        </p:nvPicPr>
        <p:blipFill>
          <a:blip r:embed="rId1"/>
          <a:stretch/>
        </p:blipFill>
        <p:spPr>
          <a:xfrm>
            <a:off x="228600" y="1447920"/>
            <a:ext cx="4572000" cy="30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629400" y="609480"/>
            <a:ext cx="2133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 To read high frequency wor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380880" y="0"/>
            <a:ext cx="8229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Word W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lw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w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jo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o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ri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ay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3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3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3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3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708660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To blend phonemes into word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457200" y="1523880"/>
            <a:ext cx="3657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ele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6" descr="C:\Documents and Settings\pawley\My Documents\ape.jpg"/>
          <p:cNvPicPr/>
          <p:nvPr/>
        </p:nvPicPr>
        <p:blipFill>
          <a:blip r:embed="rId1"/>
          <a:stretch/>
        </p:blipFill>
        <p:spPr>
          <a:xfrm>
            <a:off x="5029200" y="2362320"/>
            <a:ext cx="302580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6"/>
          <p:cNvSpPr/>
          <p:nvPr/>
        </p:nvSpPr>
        <p:spPr>
          <a:xfrm>
            <a:off x="30492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27"/>
          <p:cNvSpPr/>
          <p:nvPr/>
        </p:nvSpPr>
        <p:spPr>
          <a:xfrm>
            <a:off x="2743200" y="1295280"/>
            <a:ext cx="1447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8"/>
          <p:cNvSpPr/>
          <p:nvPr/>
        </p:nvSpPr>
        <p:spPr>
          <a:xfrm>
            <a:off x="716292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Objective: To build and blend words with /ur/ using ir, er and u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9"/>
          <p:cNvSpPr/>
          <p:nvPr/>
        </p:nvSpPr>
        <p:spPr>
          <a:xfrm>
            <a:off x="3733920" y="1219320"/>
            <a:ext cx="609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0"/>
          <p:cNvSpPr/>
          <p:nvPr/>
        </p:nvSpPr>
        <p:spPr>
          <a:xfrm>
            <a:off x="39625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1"/>
          <p:cNvSpPr/>
          <p:nvPr/>
        </p:nvSpPr>
        <p:spPr>
          <a:xfrm>
            <a:off x="32767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32"/>
          <p:cNvSpPr/>
          <p:nvPr/>
        </p:nvSpPr>
        <p:spPr>
          <a:xfrm>
            <a:off x="2743200" y="2438280"/>
            <a:ext cx="838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33"/>
          <p:cNvSpPr/>
          <p:nvPr/>
        </p:nvSpPr>
        <p:spPr>
          <a:xfrm>
            <a:off x="411480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34"/>
          <p:cNvSpPr/>
          <p:nvPr/>
        </p:nvSpPr>
        <p:spPr>
          <a:xfrm>
            <a:off x="3352680" y="3657600"/>
            <a:ext cx="914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35"/>
          <p:cNvSpPr/>
          <p:nvPr/>
        </p:nvSpPr>
        <p:spPr>
          <a:xfrm>
            <a:off x="2819520" y="3657600"/>
            <a:ext cx="838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6"/>
          <p:cNvSpPr/>
          <p:nvPr/>
        </p:nvSpPr>
        <p:spPr>
          <a:xfrm>
            <a:off x="4267080" y="12193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8"/>
          <p:cNvSpPr/>
          <p:nvPr/>
        </p:nvSpPr>
        <p:spPr>
          <a:xfrm>
            <a:off x="4038480" y="36576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9"/>
          <p:cNvSpPr/>
          <p:nvPr/>
        </p:nvSpPr>
        <p:spPr>
          <a:xfrm>
            <a:off x="2895480" y="48006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0"/>
          <p:cNvSpPr/>
          <p:nvPr/>
        </p:nvSpPr>
        <p:spPr>
          <a:xfrm>
            <a:off x="3352680" y="48006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41"/>
          <p:cNvSpPr/>
          <p:nvPr/>
        </p:nvSpPr>
        <p:spPr>
          <a:xfrm>
            <a:off x="3886200" y="480060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2"/>
          <p:cNvSpPr/>
          <p:nvPr/>
        </p:nvSpPr>
        <p:spPr>
          <a:xfrm>
            <a:off x="4572000" y="36576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3"/>
          <p:cNvSpPr/>
          <p:nvPr/>
        </p:nvSpPr>
        <p:spPr>
          <a:xfrm>
            <a:off x="4343400" y="480060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75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75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30492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2743200" y="1295280"/>
            <a:ext cx="1447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7162920" y="0"/>
            <a:ext cx="1981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Objective: To build and blend words with /ur/ using ir, er and u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3733920" y="1219320"/>
            <a:ext cx="609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39625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32767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2743200" y="2438280"/>
            <a:ext cx="838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411480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3352680" y="3657600"/>
            <a:ext cx="914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1"/>
          <p:cNvSpPr/>
          <p:nvPr/>
        </p:nvSpPr>
        <p:spPr>
          <a:xfrm>
            <a:off x="2819520" y="3657600"/>
            <a:ext cx="838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4267080" y="12193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3"/>
          <p:cNvSpPr/>
          <p:nvPr/>
        </p:nvSpPr>
        <p:spPr>
          <a:xfrm>
            <a:off x="4038480" y="36576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2895480" y="48006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5"/>
          <p:cNvSpPr/>
          <p:nvPr/>
        </p:nvSpPr>
        <p:spPr>
          <a:xfrm>
            <a:off x="3352680" y="48006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8"/>
          <p:cNvSpPr/>
          <p:nvPr/>
        </p:nvSpPr>
        <p:spPr>
          <a:xfrm>
            <a:off x="4114800" y="48006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75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75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7162920" y="0"/>
            <a:ext cx="198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Objective: To read words with /ur/ er, ir, ur, /I/ I, /e/ e, /u/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228600" y="228600"/>
            <a:ext cx="64008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R-Controlled Vowels /ur/ er, ir, 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Look at that girl in the pink shir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She has dots on her red ski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Her name is Fern Bur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Look at her cur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Fern has fun when she twir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Watch her turn and spin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5" descr="C:\Documents and Settings\pawley\My Documents\girl_pink_shirt.jpg"/>
          <p:cNvPicPr/>
          <p:nvPr/>
        </p:nvPicPr>
        <p:blipFill>
          <a:blip r:embed="rId1"/>
          <a:stretch/>
        </p:blipFill>
        <p:spPr>
          <a:xfrm>
            <a:off x="6095880" y="1981080"/>
            <a:ext cx="262908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s Week’s Spelling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2286000" y="1295280"/>
            <a:ext cx="1790640" cy="64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69902"/>
                </a:solidFill>
                <a:latin typeface="Comic Sans MS"/>
              </a:rPr>
              <a:t>h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69902"/>
                </a:solidFill>
                <a:latin typeface="Comic Sans MS"/>
              </a:rPr>
              <a:t>fu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69902"/>
                </a:solidFill>
                <a:latin typeface="Comic Sans MS"/>
              </a:rPr>
              <a:t>tur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69902"/>
                </a:solidFill>
                <a:latin typeface="Comic Sans MS"/>
              </a:rPr>
              <a:t>bir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69902"/>
                </a:solidFill>
                <a:latin typeface="Comic Sans MS"/>
              </a:rPr>
              <a:t>gir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69902"/>
                </a:solidFill>
                <a:latin typeface="Comic Sans MS"/>
              </a:rPr>
              <a:t>firs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5420880" y="1600200"/>
            <a:ext cx="212544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99"/>
                </a:solidFill>
                <a:latin typeface="Comic Sans MS"/>
              </a:rPr>
              <a:t>qui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99"/>
                </a:solidFill>
                <a:latin typeface="Comic Sans MS"/>
              </a:rPr>
              <a:t>wh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6633"/>
                </a:solidFill>
                <a:latin typeface="Comic Sans MS"/>
              </a:rPr>
              <a:t>nam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6633"/>
                </a:solidFill>
                <a:latin typeface="Comic Sans MS"/>
              </a:rPr>
              <a:t>wor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22"/>
          <p:cNvSpPr/>
          <p:nvPr/>
        </p:nvSpPr>
        <p:spPr>
          <a:xfrm>
            <a:off x="6095880" y="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 To read and write spelling word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23:30:44Z</dcterms:created>
  <dc:creator>Federated Group</dc:creator>
  <dc:description/>
  <dc:language>en-US</dc:language>
  <cp:lastModifiedBy>mworsham</cp:lastModifiedBy>
  <dcterms:modified xsi:type="dcterms:W3CDTF">2010-01-10T21:27:35Z</dcterms:modified>
  <cp:revision>4</cp:revision>
  <dc:subject/>
  <dc:title>PowerPoint Presentation</dc:title>
</cp:coreProperties>
</file>