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F45-1CDD-4C0E-BD81-3BD45403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324-EC8D-48BD-8513-669DACD0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A9B-4241-4114-917C-93B158B6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EC3-4CAF-4D37-A708-0C2E69A6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A108-03FE-47CF-B4D0-1F0E6103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F893-A906-429F-9851-9F6C0FDB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5542-60F3-4702-9C51-0E943642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A1AF-9096-4C57-A603-13D1C835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5A7D-F263-48D2-B516-84CB90DC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B47D-BB4C-45F1-BD4B-2F811FF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CD56-C087-45F1-B366-15DEE67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019-31EB-4068-B2B2-C3AD01A1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403E-DF9F-414A-895E-E762D27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E4C0-A038-4954-8C2B-63A66807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AC28-FBDC-419E-A0C6-3F6BE7CB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7EE7-173E-440F-A70A-ABF88425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BAC7-9C13-45C3-8D99-ABF629CE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02B-DD28-4F97-A53F-3ECE2B3A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310-6554-4AE1-A636-0DEDA0FC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B42-94D8-4341-8988-2EDEAE7F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8A1-B0FF-448A-A03D-9A963DD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482-BBAF-410D-974A-B2FE1B9A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B9F-BD97-4C2D-92D2-D30CFEB2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328-74F2-4CDD-B8D3-20EB946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4941-C115-46FD-B1DB-AAC5CAA93D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A253-C87F-43C2-9881-15E6DF70E2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695600" y="304920"/>
            <a:ext cx="683892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6, Day 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304920" y="4572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t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 to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Bert’s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ern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er car i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s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alway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ow’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jo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oo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75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5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5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5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38088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 Ide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28600" y="21337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ain idea of a story is what the story is mostly about.  Let’s review the main ideas of some stories we have recently rea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971800"/>
          <a:ext cx="7924680" cy="30481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Lion and the Mous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lion shows kindness to a mouse, who saves the lion’s life in return one 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 More Friend”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 ant shows kindness by making room for all her frien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’re Going on a Lion Hun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wo girls have a hard journey, but also have fun on a lion hu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ti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28600" y="15238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people or animals are compatible, they are able to be together or get along with each other.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compatible"/>
          <p:cNvPicPr/>
          <p:nvPr/>
        </p:nvPicPr>
        <p:blipFill>
          <a:blip r:embed="rId1"/>
          <a:stretch/>
        </p:blipFill>
        <p:spPr>
          <a:xfrm>
            <a:off x="1219320" y="41911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5"/>
          <p:cNvSpPr/>
          <p:nvPr/>
        </p:nvSpPr>
        <p:spPr>
          <a:xfrm>
            <a:off x="304920" y="304920"/>
            <a:ext cx="7391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ppose a new family with a child your age moves in next door. How can you learn if the two of you are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ow might a group of children behave if they are NOT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In what ways are you and your best friend compatib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i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648320" y="14479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who is amiable is good-natured and friendly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5" descr="amiable"/>
          <p:cNvPicPr/>
          <p:nvPr/>
        </p:nvPicPr>
        <p:blipFill>
          <a:blip r:embed="rId1"/>
          <a:stretch/>
        </p:blipFill>
        <p:spPr>
          <a:xfrm>
            <a:off x="15228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80880" y="380880"/>
            <a:ext cx="72392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ame a storybook character who is amiable and one who is not.  Give a reason for this cho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s it more fun to be around someone who is amiable than someone who is not?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at is a good way to show that you are an amiable pers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533520" y="0"/>
            <a:ext cx="739116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name some familiar characters and if you think that character is amiable say “very nice”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t in “One More Friend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he Wolf in “The Three Pig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inderella’s stepsis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rk in “Mark’s Big Day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648320" y="144792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you relax, you are not uneasy or upset about anything; you spend time resting or doing things for fun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5" descr="relax2"/>
          <p:cNvPicPr/>
          <p:nvPr/>
        </p:nvPicPr>
        <p:blipFill>
          <a:blip r:embed="rId1"/>
          <a:stretch/>
        </p:blipFill>
        <p:spPr>
          <a:xfrm>
            <a:off x="609480" y="1523880"/>
            <a:ext cx="3533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80880" y="2057400"/>
            <a:ext cx="838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49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228600" y="457200"/>
            <a:ext cx="7543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s it easy for you to relax during a thunderstorm? Why or why no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 do you like to be when you relax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ow do you feel after you relax? 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0"/>
            <a:ext cx="784872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describe some situations.  If you think you would be able to relax then say Ahhhh! If not say not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iding a roller coas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floating on a raft in a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eading a 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stening to mus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0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228600"/>
            <a:ext cx="85345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: To review robust 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o you think someone who is amiable would be more compatible than someone who is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f you are struggling to ride your bike up a steep hill, does your body relax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Suppose the lion captured the mouse again.  Should it ask for mercy again?  Why or why no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5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0" y="60948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ing using He, She, It and Th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Jack has a new pet.  He has a kit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What word did I use in place of Jack in the second sentenc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kitten has gray fur.  It is ten weeks o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hat word did I use in place of kitten in the second sentence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bjective: To use he, she, it, and they correct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152280" y="380880"/>
            <a:ext cx="7696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Jack and Jill play with the kitten.  They have fu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word did I use to replace Jack and Jill in the second senten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Jill fed the kitten.  She gave it water, to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word did I use to replace Jill in the second senten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28600" y="533520"/>
            <a:ext cx="7924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The con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is over.  ______was fu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Fern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inished first.  _________w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Kirk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as next.  _______ran fa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Burt and Bar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ere third.  ______didn’t run as fas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4572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ich one of these words would go in the blanks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8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me!  We’ll have lots of fu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party"/>
          <p:cNvPicPr/>
          <p:nvPr/>
        </p:nvPicPr>
        <p:blipFill>
          <a:blip r:embed="rId1"/>
          <a:stretch/>
        </p:blipFill>
        <p:spPr>
          <a:xfrm>
            <a:off x="5105520" y="228600"/>
            <a:ext cx="190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Zack, Ben, Greg, Mi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hat?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Swim pa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When?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 Saturday, May 30  3: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ere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My ho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Just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2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9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304920" y="457200"/>
            <a:ext cx="723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ere’s another way to write an invit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: Z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 are invited to a swim party!  Bring a towel and a big appeti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: Saturday, May 30, 3: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re: my ho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80880" y="1522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 : To draft an invit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3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28600" y="76212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animal do you think makes the best pet? Tell why you think so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2280" y="3429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On my signal, turn and talk with your partner about which animal you think makes the best pe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752480" y="5181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____________is the best pet because _____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52280" y="228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appreciate the rhythm and rhyme of a poem; to read classic poet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8600" y="990720"/>
            <a:ext cx="8001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’re going to read a poem called </a:t>
            </a: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Notic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.  As we read we will discover rhyming words throughout the poem.  We will read the poem two times.  The first time I want you to bark once when we say dog, meow once when we say cat, and croak once when we say frog.  The second time we read it I want you to clap if you hear a rhyming word in lines 1 or 3.  I want you to stomp your feet if you hear a rhyming word in lines 2 and 4.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533520" y="167652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90920" y="49449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g Book of Poems and Rhy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5"/>
          <p:cNvSpPr txBox="1"/>
          <p:nvPr/>
        </p:nvSpPr>
        <p:spPr>
          <a:xfrm>
            <a:off x="228600" y="152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04920" y="1066680"/>
            <a:ext cx="556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le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341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 : to read high frequency wor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5334120" y="1522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lete phonemes in words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609480"/>
            <a:ext cx="4191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ape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04920" y="762120"/>
            <a:ext cx="80010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’s add –er and –est to change up some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r = lon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st = long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r = tal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st = tall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22860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cognize inflections –er, -e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066680" y="838080"/>
            <a:ext cx="6934320" cy="421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rm+er = farm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uck+er = truc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+er = sing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+er = hel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nt+er = hun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8600" y="304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: To build words with inflection 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3:07:54Z</dcterms:created>
  <dc:creator>Valued Gateway Client</dc:creator>
  <dc:description/>
  <dc:language>en-US</dc:language>
  <cp:lastModifiedBy>mworsham</cp:lastModifiedBy>
  <dcterms:modified xsi:type="dcterms:W3CDTF">2010-01-10T21:35:58Z</dcterms:modified>
  <cp:revision>6</cp:revision>
  <dc:subject/>
  <dc:title>Slide 1</dc:title>
</cp:coreProperties>
</file>