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A54B-295B-4A58-9ABE-5D0E1DCE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3BCC-9811-4649-96EE-D783732E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4768-3EE4-4135-B5C5-23CF09704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D290-9D46-4B3E-A4E6-E72326118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3E4B-D885-42B1-BFD7-16422D5B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4BE3-DF5F-47CF-82B8-4EB0D3BF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05AA-48EE-4D86-846E-5572626F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6D82-3A07-4176-BDF8-C9F3A454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6A41-4E0B-4AE8-BD96-E939971F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30B5-2433-46C6-B01F-7B7EA626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3E48-84AB-4189-B344-8355315E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16EC-648F-44C5-820E-40FCF01D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000B-A653-4BCF-8DE0-FC5D28439B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695600" y="304920"/>
            <a:ext cx="6838920" cy="60958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ursday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sson 16, Day 5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304920" y="0"/>
            <a:ext cx="883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Build Robust Vocabulary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228600" y="1447920"/>
            <a:ext cx="8610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o you think someone who is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amiabl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would be more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compatible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an someone who is not?  Why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f you are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struggling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 ride your bike up a steep hill, does your body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relax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uppose the lion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captured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mouse again.  Should it ask for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mercy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gain?  Why or why no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380880" y="533520"/>
            <a:ext cx="716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0" y="3049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Calibri"/>
              </a:rPr>
              <a:t>Talk about your pet or a pet you would like to hav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0" y="16002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On my signal, turn and talk with your partner about your pe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0" y="32004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Calibri"/>
              </a:rPr>
              <a:t>My pet is a _______named_________.  My pet is _____________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533520" y="1676520"/>
            <a:ext cx="7238880" cy="1828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otic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2590920" y="494496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Big Book of Poems and Rhy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228600" y="152280"/>
            <a:ext cx="7391520" cy="762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04920" y="1066680"/>
            <a:ext cx="556236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frie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jo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n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pl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ro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al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qu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334120" y="11430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Objective : to read high frequency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5334120" y="152280"/>
            <a:ext cx="2361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Objective: To delete phonemes in word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57200" y="609480"/>
            <a:ext cx="419112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alibri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alibri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lending an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egm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ape"/>
          <p:cNvPicPr/>
          <p:nvPr/>
        </p:nvPicPr>
        <p:blipFill>
          <a:blip r:embed="rId1"/>
          <a:stretch/>
        </p:blipFill>
        <p:spPr>
          <a:xfrm>
            <a:off x="5029200" y="2362320"/>
            <a:ext cx="302580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1066680" y="838080"/>
            <a:ext cx="6934320" cy="42102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arm+er = farm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ruck+er = truck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ng+er = sing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elp+er = help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unt+er = hunt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28600" y="30492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Objective: To build words with inflection 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304920" y="457200"/>
            <a:ext cx="75438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urt has the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biggest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c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Kirk’s car is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bigger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than Fern’s c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t is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darker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than Fern’s car to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urt has the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darkest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c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Kirk’s car is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maller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than Bert’s c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Fern has the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mallest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c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Her car is the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astest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380880" y="1905120"/>
            <a:ext cx="815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99"/>
                </a:solidFill>
                <a:latin typeface="Calibri"/>
              </a:rPr>
              <a:t>Spelling Tes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095880" y="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Times New Roman"/>
              </a:rPr>
              <a:t>Objective:  To read and write spelling word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0" y="0"/>
            <a:ext cx="899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High Frequency Word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838080" y="1219320"/>
            <a:ext cx="2590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ow’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happ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room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leas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nic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hea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4724280" y="1295280"/>
            <a:ext cx="2590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alway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joi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ever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ai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do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b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21:29:01Z</dcterms:created>
  <dc:creator>mworsham</dc:creator>
  <dc:description/>
  <dc:language>en-US</dc:language>
  <cp:lastModifiedBy>mworsham</cp:lastModifiedBy>
  <dcterms:modified xsi:type="dcterms:W3CDTF">2010-01-10T21:52:43Z</dcterms:modified>
  <cp:revision>2</cp:revision>
  <dc:subject/>
  <dc:title>Slide 1</dc:title>
</cp:coreProperties>
</file>