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6F5-76A8-4A29-AACE-28F2F4AD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AD4-80B9-4E1E-8451-507CF216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F2D-BFE0-4FBB-BBC6-4A247298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87C-7089-4A57-B367-74C022D0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D87-989A-433C-B94E-85B0BA53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2A1-A2DA-4230-9ACE-913539C1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43B-4DF2-4824-95CE-D04DD5A5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29D-F2FD-494B-AD09-FB2B44B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BFE-7FB7-4E25-A51A-FF35D80A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FEE-366D-4284-BF11-C5A882A1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10A-8AE4-4EE1-8FAF-93E3F956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3E0-FA55-47F7-976D-4301647C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9DAE-A320-4D8B-AAFC-279192FCD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ome animals jum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and tumbl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ome animals mak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bells jing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295280"/>
            <a:ext cx="4267080" cy="495324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953240"/>
              <a:gd name="textAreaBottom" fmla="*/ 4745160 h 4953240"/>
            </a:gdLst>
            <a:ahLst/>
            <a:rect l="textAreaLeft" t="textAreaTop" r="textAreaRight" b="textAreaBottom"/>
            <a:pathLst>
              <a:path w="21600" h="25073">
                <a:moveTo>
                  <a:pt x="3600" y="0"/>
                </a:moveTo>
                <a:arcTo wR="3600" hR="3600" stAng="16200000" swAng="-5400000"/>
                <a:lnTo>
                  <a:pt x="0" y="21473"/>
                </a:lnTo>
                <a:arcTo wR="3600" hR="3600" stAng="10800000" swAng="-5400000"/>
                <a:lnTo>
                  <a:pt x="18000" y="25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371600"/>
            <a:ext cx="4267080" cy="487692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876920"/>
              <a:gd name="textAreaBottom" fmla="*/ 4668840 h 4876920"/>
            </a:gdLst>
            <a:ahLst/>
            <a:rect l="textAreaLeft" t="textAreaTop" r="textAreaRight" b="textAreaBottom"/>
            <a:pathLst>
              <a:path w="21600" h="24687">
                <a:moveTo>
                  <a:pt x="3600" y="0"/>
                </a:moveTo>
                <a:arcTo wR="3600" hR="3600" stAng="16200000" swAng="-5400000"/>
                <a:lnTo>
                  <a:pt x="0" y="21087"/>
                </a:lnTo>
                <a:arcTo wR="3600" hR="3600" stAng="10800000" swAng="-5400000"/>
                <a:lnTo>
                  <a:pt x="18000" y="24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the Rainbow Came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Blue and Yellow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arth must have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have with friends about games you play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76520" y="615636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the butterflies we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were the same color as everything els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ore all white clothing as you walked through the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helps you fall asl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 before I go to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t without colo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d, Blue and Yellow, so they added color to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day at school without lunch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iend broke an agreement.  On my signal show or tell your partner how you might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urprise a friend.  On my signal show your partner how you would go up to him or her unnoti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something unthinkable just happened.  Use the expression on your face to show your partner how you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’s oceans and rivers were beauti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’s bird was bright r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m’s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ctor’s penc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162920" y="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Draft a Me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showing a friend or relative who lives in anothe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draw a picture of something interesting that has happened recently to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or phrases that you may want to add to your l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-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69343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Syllable </a:t>
            </a:r>
            <a:r>
              <a:rPr b="1" i="1" lang="en-US" sz="6000" spc="-1" strike="noStrike">
                <a:solidFill>
                  <a:srgbClr val="000000"/>
                </a:solidFill>
                <a:latin typeface="Constantia"/>
              </a:rPr>
              <a:t>-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75248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le/ sound at the end, hold your thumb up and say the sound /le/.  When I say a word that does not have /le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371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053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43828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2362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b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5562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46:53Z</dcterms:modified>
  <cp:revision>115</cp:revision>
  <dc:subject/>
  <dc:title>Slide 1</dc:title>
</cp:coreProperties>
</file>