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F60C-D1A7-43D5-8511-98B5BFC6F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63D4-401D-4205-80FC-21A2BFE1E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7D7E-32EA-414B-BC74-C9D914958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424B-B12E-49B4-BD25-EF508231A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B9CF-CEA1-4DE3-8505-1B9D4CAFA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2531-9F0C-4DCA-BE14-2179B4A30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539B-AA86-44B0-9806-8B06DE25E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8E04-B14B-415E-B960-1844026E9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C53A-7A7C-4AAA-8C74-F90A24577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DA68-0E02-4130-AA85-AF088C516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6343-9EB1-4D4B-8596-B4BC76926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518C-D490-46B3-8067-A2BF53F8B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7DCC-014D-4285-A7C1-EB19B2C90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73B4-3B17-415A-9A99-6E7F6B0DB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9ACE-90ED-4493-8B1F-CDA49F305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82B6-D604-43D6-92A5-B2FF299E4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28D1-A01D-4CFF-8A92-D6F729722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AE0D-8D3A-4D98-A472-0C640FE5B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F6C4-CB31-4F6C-8F23-4C5BCF7B4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y, carry, money, other, paint, paper, would, always, first, name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, handle, wig, wiggle, single, little, turn, girl, by,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7A14-E6B7-4591-AC69-54F20F07F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3D25-CF0A-4BAF-84E5-AB7DD7691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FACD-7525-4496-A69E-0B0E35300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, handle, wig, wiggle, single, little, turn, girl, by,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9AAE-B1DE-4893-8707-222666AA2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9B8-0EEC-41E4-A5E7-A5412F4C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500-DB5A-4785-8F8F-3B7098C9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E43-3B74-4E9E-9814-6C4153FA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1B5-0A63-4C36-86A6-5BD2031E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DEB-65B5-40BA-ADA8-EFD02C80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115-8823-46D8-9874-411B61FB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FB9-0994-45D4-ADCF-29A9B0E3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F5E-4529-4821-8606-0C65C474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551-8FDB-4A53-82C3-22F4C301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3A6-2421-4E8D-A274-9229114E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0E7-90EA-45E2-8E8D-88396CED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2FF-9818-4569-B031-4EBF5C0F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9559-3E30-4FC6-BD1B-FB4824CE7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7, Day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E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944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oot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Consonant, Add 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t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p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nsonant, Add 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p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paint.jpg"/>
          <p:cNvPicPr/>
          <p:nvPr/>
        </p:nvPicPr>
        <p:blipFill>
          <a:blip r:embed="rId1"/>
          <a:stretch/>
        </p:blipFill>
        <p:spPr>
          <a:xfrm>
            <a:off x="762120" y="3048120"/>
            <a:ext cx="3752640" cy="359568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685800" y="380880"/>
            <a:ext cx="4191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The main idea of a story is what it is mostly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What is the main idea of these pic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6862680" y="228600"/>
            <a:ext cx="196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cognize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 ide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spendernew2801_468x315.jpg"/>
          <p:cNvPicPr/>
          <p:nvPr/>
        </p:nvPicPr>
        <p:blipFill>
          <a:blip r:embed="rId2"/>
          <a:stretch/>
        </p:blipFill>
        <p:spPr>
          <a:xfrm>
            <a:off x="4495680" y="990720"/>
            <a:ext cx="445788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047240" y="685800"/>
            <a:ext cx="7666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haroni"/>
                <a:ea typeface="Aharoni"/>
              </a:rPr>
              <a:t>What is the main idea in the story </a:t>
            </a:r>
            <a:r>
              <a:rPr b="0" i="1" lang="en-US" sz="2000" spc="-1" strike="noStrike">
                <a:solidFill>
                  <a:srgbClr val="7030a0"/>
                </a:solidFill>
                <a:latin typeface="Aharoni"/>
                <a:ea typeface="Aharoni"/>
              </a:rPr>
              <a:t>One More Friend</a:t>
            </a:r>
            <a:r>
              <a:rPr b="0" lang="en-US" sz="2000" spc="-1" strike="noStrike">
                <a:solidFill>
                  <a:srgbClr val="7030a0"/>
                </a:solidFill>
                <a:latin typeface="Aharoni"/>
                <a:ea typeface="Aharon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haroni"/>
                <a:ea typeface="Aharoni"/>
              </a:rPr>
              <a:t>Be a good friend and make room for one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haroni"/>
                <a:ea typeface="Aharoni"/>
              </a:rPr>
              <a:t>What is the main idea in the story </a:t>
            </a:r>
            <a:r>
              <a:rPr b="0" i="1" lang="en-US" sz="2000" spc="-1" strike="noStrike">
                <a:solidFill>
                  <a:srgbClr val="cc6600"/>
                </a:solidFill>
                <a:latin typeface="Aharoni"/>
                <a:ea typeface="Aharoni"/>
              </a:rPr>
              <a:t>Mark’s Big Day</a:t>
            </a:r>
            <a:r>
              <a:rPr b="0" lang="en-US" sz="2000" spc="-1" strike="noStrike">
                <a:solidFill>
                  <a:srgbClr val="cc6600"/>
                </a:solidFill>
                <a:latin typeface="Aharoni"/>
                <a:ea typeface="Aharon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haroni"/>
                <a:ea typeface="Aharoni"/>
              </a:rPr>
              <a:t>Don’t give up and do your best and you will succ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haroni"/>
                <a:ea typeface="Aharoni"/>
              </a:rPr>
              <a:t>What is the main idea in the story </a:t>
            </a:r>
            <a:r>
              <a:rPr b="0" i="1" lang="en-US" sz="2000" spc="-1" strike="noStrike">
                <a:solidFill>
                  <a:srgbClr val="0070c0"/>
                </a:solidFill>
                <a:latin typeface="Aharoni"/>
                <a:ea typeface="Aharoni"/>
              </a:rPr>
              <a:t>How the Rainbow Came to Be</a:t>
            </a:r>
            <a:r>
              <a:rPr b="0" lang="en-US" sz="2000" spc="-1" strike="noStrike">
                <a:solidFill>
                  <a:srgbClr val="0070c0"/>
                </a:solidFill>
                <a:latin typeface="Aharoni"/>
                <a:ea typeface="Aharon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haroni"/>
                <a:ea typeface="Aharoni"/>
              </a:rPr>
              <a:t>The colors worked together to make the Earth pret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olorearth.jpg"/>
          <p:cNvPicPr/>
          <p:nvPr/>
        </p:nvPicPr>
        <p:blipFill>
          <a:blip r:embed="rId1"/>
          <a:stretch/>
        </p:blipFill>
        <p:spPr>
          <a:xfrm>
            <a:off x="3581280" y="4038480"/>
            <a:ext cx="242280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3880" y="83808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u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688000" y="1676520"/>
            <a:ext cx="1730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uc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438280" y="60948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219320" y="914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553080" y="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mprove comprehension by re-reading and looking for the main id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371600" y="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219320" y="350532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4197600" y="16765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19"/>
          <p:cNvSpPr/>
          <p:nvPr/>
        </p:nvSpPr>
        <p:spPr>
          <a:xfrm>
            <a:off x="2438280" y="1676520"/>
            <a:ext cx="63972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21"/>
          <p:cNvSpPr/>
          <p:nvPr/>
        </p:nvSpPr>
        <p:spPr>
          <a:xfrm flipH="1">
            <a:off x="6400800" y="1676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noti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hink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are in agreement with others, you all think the same 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1" descr="MCj03983910000[1]"/>
          <p:cNvPicPr/>
          <p:nvPr/>
        </p:nvPicPr>
        <p:blipFill>
          <a:blip r:embed="rId1"/>
          <a:stretch/>
        </p:blipFill>
        <p:spPr>
          <a:xfrm>
            <a:off x="685800" y="1447920"/>
            <a:ext cx="39038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09480" y="609120"/>
            <a:ext cx="822960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haroni"/>
                <a:ea typeface="Aharoni"/>
              </a:rPr>
              <a:t>If Mrs. Clark wanted to cancel P.E. forever, would you be in </a:t>
            </a: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greement</a:t>
            </a:r>
            <a:r>
              <a:rPr b="0" lang="en-US" sz="4400" spc="-1" strike="noStrike">
                <a:solidFill>
                  <a:srgbClr val="00b050"/>
                </a:solidFill>
                <a:latin typeface="Aharoni"/>
                <a:ea typeface="Aharoni"/>
              </a:rPr>
              <a:t>?  Why or why not?  On my signal turn and talk to your partner about th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5990040" y="228600"/>
            <a:ext cx="31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notic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638680" y="17524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go unnoticed, no one sees you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MCj04325660000[1]"/>
          <p:cNvPicPr/>
          <p:nvPr/>
        </p:nvPicPr>
        <p:blipFill>
          <a:blip r:embed="rId1"/>
          <a:stretch/>
        </p:blipFill>
        <p:spPr>
          <a:xfrm>
            <a:off x="685800" y="5181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MCj04399430000[1]"/>
          <p:cNvPicPr/>
          <p:nvPr/>
        </p:nvPicPr>
        <p:blipFill>
          <a:blip r:embed="rId2"/>
          <a:stretch/>
        </p:blipFill>
        <p:spPr>
          <a:xfrm>
            <a:off x="1828800" y="1600200"/>
            <a:ext cx="3367080" cy="4413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9"/>
          <p:cNvSpPr/>
          <p:nvPr/>
        </p:nvSpPr>
        <p:spPr>
          <a:xfrm>
            <a:off x="1676520" y="518148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money on the ground went unnoticed by the wo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666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Comic Sans MS"/>
              </a:rPr>
              <a:t>Which animal would go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unnoticed</a:t>
            </a:r>
            <a:r>
              <a:rPr b="0" lang="en-US" sz="4800" spc="-1" strike="noStrike">
                <a:solidFill>
                  <a:srgbClr val="00b050"/>
                </a:solidFill>
                <a:latin typeface="Comic Sans MS"/>
              </a:rPr>
              <a:t> at the beach, a polar bear or a seagu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828800" y="380988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Comic Sans MS"/>
              </a:rPr>
              <a:t>If you vote “polar bear” touch the top of your 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Comic Sans MS"/>
              </a:rPr>
              <a:t>If you vote “seagull” touch your n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5788440" y="0"/>
            <a:ext cx="31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380520"/>
            <a:ext cx="4953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Bradley Hand ITC"/>
              </a:rPr>
              <a:t>On my signal turn and talk to your partner using this 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Constantia"/>
              </a:rPr>
              <a:t>To have fun, elephants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Constantia"/>
              </a:rPr>
              <a:t>because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Hula%20Monkey-Girls.jpg"/>
          <p:cNvPicPr/>
          <p:nvPr/>
        </p:nvPicPr>
        <p:blipFill>
          <a:blip r:embed="rId1"/>
          <a:stretch/>
        </p:blipFill>
        <p:spPr>
          <a:xfrm>
            <a:off x="0" y="0"/>
            <a:ext cx="3809880" cy="3191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581280" y="1981080"/>
            <a:ext cx="40388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244e"/>
                </a:solidFill>
                <a:latin typeface="Constantia"/>
              </a:rPr>
              <a:t>What do you think elephants do to have fun?  Tell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678120" y="83808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Question of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4419720" y="1981080"/>
            <a:ext cx="4481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unthinkable event is something you never thought could or would happ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think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MPj02892220000[1]"/>
          <p:cNvPicPr/>
          <p:nvPr/>
        </p:nvPicPr>
        <p:blipFill>
          <a:blip r:embed="rId1"/>
          <a:stretch/>
        </p:blipFill>
        <p:spPr>
          <a:xfrm>
            <a:off x="228600" y="2133720"/>
            <a:ext cx="4114800" cy="32097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22860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long time ago people believed it was unthinkable for us to land on mo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685800" y="129528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575d1"/>
                </a:solidFill>
                <a:latin typeface="Aharoni"/>
                <a:ea typeface="Aharoni"/>
              </a:rPr>
              <a:t>It is </a:t>
            </a:r>
            <a:r>
              <a:rPr b="1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unthinkable</a:t>
            </a:r>
            <a:r>
              <a:rPr b="1" lang="en-US" sz="4000" spc="-1" strike="noStrike">
                <a:solidFill>
                  <a:srgbClr val="7575d1"/>
                </a:solidFill>
                <a:latin typeface="Aharoni"/>
                <a:ea typeface="Aharoni"/>
              </a:rPr>
              <a:t> that chocolate milk will fall from clouds like rain today? (choral answer on sign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6226560" y="152280"/>
            <a:ext cx="2908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1752480" y="3808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ylium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7086600" y="152280"/>
            <a:ext cx="1828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recognize possessive common nou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09480" y="106668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find the words in each sentence that show ownership?  These words are called possessive naming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536400" y="2819520"/>
            <a:ext cx="819036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Mrs. Wagnon went to Mrs. Babcock’s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Miss Mooney borrowed Mrs. Mangham’s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Mr. Sisco’s piano is being repa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Did you meet Mrs. Chatman’s daugh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friendly letter"/>
          <p:cNvPicPr/>
          <p:nvPr/>
        </p:nvPicPr>
        <p:blipFill>
          <a:blip r:embed="rId1"/>
          <a:stretch/>
        </p:blipFill>
        <p:spPr>
          <a:xfrm>
            <a:off x="0" y="157788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7086600" y="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7086600" y="3808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To contribute to the sha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writing of a friendly letter.</a:t>
            </a:r>
            <a:br>
              <a:rPr sz="44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914400" y="114300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nuary 20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ar Second Grade Stude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frien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mley First Grade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MPj04317910000[1]"/>
          <p:cNvPicPr/>
          <p:nvPr/>
        </p:nvPicPr>
        <p:blipFill>
          <a:blip r:embed="rId1"/>
          <a:stretch/>
        </p:blipFill>
        <p:spPr>
          <a:xfrm>
            <a:off x="838080" y="1905120"/>
            <a:ext cx="4419720" cy="3046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 To recognize the pattern of a rhy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257800" y="0"/>
            <a:ext cx="3276720" cy="77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660033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660033"/>
                </a:solidFill>
                <a:latin typeface="Constantia"/>
              </a:rPr>
              <a:t>            “Elephant So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315440" y="121932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3124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bu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c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l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w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l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2972160" y="228600"/>
            <a:ext cx="30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5653800" y="1295280"/>
            <a:ext cx="165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the beginning phoneme in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haroni"/>
                <a:ea typeface="Aharoni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haroni"/>
                <a:ea typeface="Aharoni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MCj04174500000[1]"/>
          <p:cNvPicPr/>
          <p:nvPr/>
        </p:nvPicPr>
        <p:blipFill>
          <a:blip r:embed="rId1"/>
          <a:stretch/>
        </p:blipFill>
        <p:spPr>
          <a:xfrm>
            <a:off x="5052960" y="2579760"/>
            <a:ext cx="3838680" cy="3054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5181480" y="5029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♫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-Hunting We Will Go 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88620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876920" y="12193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449568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3962520" y="22096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35268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5410080" y="1219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4343400" y="2209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4800600" y="22096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35053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388620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4114800" y="3276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5029200" y="3276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350532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38098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0"/>
          <p:cNvSpPr/>
          <p:nvPr/>
        </p:nvSpPr>
        <p:spPr>
          <a:xfrm>
            <a:off x="411480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4343400" y="43434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b6bcf"/>
                </a:solidFill>
                <a:latin typeface="Constantia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Please do not turn the red hand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The little girl put a black wig on her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It is so dark that I cannot see a single 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and still and do not wig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Please raise your hand before you sp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752480" y="13712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i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i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830320" y="30492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181120" y="1447920"/>
            <a:ext cx="1364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815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t’s practice adding ed and ing to the end of some words.  Remember the meaning of the word will not be changed when we add these endin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28600"/>
            <a:ext cx="7162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Comic Sans MS"/>
              </a:rPr>
              <a:t>Objective: To recognize root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Comic Sans MS"/>
              </a:rPr>
              <a:t>To read infelectional forms with –ed and –ing with a double final conso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4191120"/>
            <a:ext cx="5410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shop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Comic Sans MS"/>
              </a:rPr>
              <a:t>sho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Nick Babcock</cp:lastModifiedBy>
  <dcterms:modified xsi:type="dcterms:W3CDTF">2010-01-19T00:53:08Z</dcterms:modified>
  <cp:revision>197</cp:revision>
  <dc:subject/>
  <dc:title>Slide 1</dc:title>
</cp:coreProperties>
</file>