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CCA0-7494-415B-99FA-7FD4F323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239-9AE0-4D33-BAA5-47D2F4E6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3D2-BD38-41BB-BC30-8E0B46CE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FDF-87A2-47DA-869C-0A3F97E0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A8C-A13E-4746-8507-35D1438B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91ED-5E94-4D42-9E62-79235F7A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72C9-09E3-4DD4-9441-49B6B018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9D6F-B2EC-489B-96D9-422F2209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3B4B-A233-4FE7-AF7D-9EFB8FB5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5280-3F65-4E39-96F9-294B238D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FEA-CCCB-42C9-B2C0-C946E1DC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6E79-FF93-453B-A7CB-1D65A77A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5F49-502C-47E1-A4D4-702A9882F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7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0720" y="609480"/>
            <a:ext cx="72388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chool bus sto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g hopped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e planned to sit by he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g saw a new girl sitting in the 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ew girl looked up and grin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g started grinning,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g dropped her b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e flopped down next to the gir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the time they stepped off the bus, they were frie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idea is what the story is mostly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What is the main idea of “Jungle Fun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What is the main idea of “Can Elephants Paint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6862680" y="228600"/>
            <a:ext cx="1966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recognize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n ide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j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a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ord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rejoice, you show that you are very happ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bbe0e3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joic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2201760"/>
            <a:ext cx="4800600" cy="3025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280" y="54100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ildre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jo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jumping up and dow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rej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began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jo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he saw that Lucky could pa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irthday present would make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jo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bbe0e3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redicam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7524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have a predicament, you have a serious or difficult problem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58672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s in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edica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cause his head is stuck between the b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predica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g and Lucky were in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dica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all the trees were cut, and they had no way to make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be in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dica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go to school on time or if you lost your ho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105520" y="1600200"/>
            <a:ext cx="3795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thing extraordinary is something that is very unusual or remarkab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bbe0e3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traordinar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876920" cy="4506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60958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painted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traordi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icture on the wa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extraord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thought that the elephants’ art wa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extraordin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it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xtraordin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see a monkey play a musical instru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62560" y="0"/>
            <a:ext cx="1981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possessive proper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522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ses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990720"/>
            <a:ext cx="891540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That elephant’s trunk can hold a bru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Lucky’s painting is beautiful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ds lik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an take the place of naming words and also show ownershi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His trunk can hold a bru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Her painting is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The painting is hers.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ere would you play with an elepha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would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ould take an elephant to 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We would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es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Luckys trunk picked up the bru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Her trunk is st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The painting is 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The mans job was in the jung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The elephants needed his help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possessive proper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5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r Bil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ent to an art show today.  I saw amazing paintings made by elephants.  Did you know that elephants can pa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frien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s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endly 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752480"/>
            <a:ext cx="761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577880"/>
            <a:ext cx="9144000" cy="3702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086600" y="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 a Mess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nd write about the kind of art you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ook at or ma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letter to a friend about this kin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MPj04317910000[1]"/>
          <p:cNvPicPr/>
          <p:nvPr/>
        </p:nvPicPr>
        <p:blipFill>
          <a:blip r:embed="rId1"/>
          <a:stretch/>
        </p:blipFill>
        <p:spPr>
          <a:xfrm>
            <a:off x="838080" y="1905120"/>
            <a:ext cx="4419720" cy="30463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6629400" y="0"/>
            <a:ext cx="2514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 To recognize the pattern of a rhy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5257800" y="0"/>
            <a:ext cx="3276720" cy="77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660033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660033"/>
                </a:solidFill>
                <a:latin typeface="Constantia"/>
              </a:rPr>
              <a:t>            “Elephant Song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315440" y="121932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mi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3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3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3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3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3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3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3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81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l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886200" y="1219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876920" y="12193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4495680" y="121932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3962520" y="22096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35268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5410080" y="1219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4343400" y="2209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4800600" y="22096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3276720" y="3276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3733920" y="3276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4114800" y="3276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5029200" y="3276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89548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335268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380988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4343400" y="434340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2819520" y="54100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3352680" y="54100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0"/>
          <p:cNvSpPr/>
          <p:nvPr/>
        </p:nvSpPr>
        <p:spPr>
          <a:xfrm>
            <a:off x="3809880" y="54100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1"/>
          <p:cNvSpPr/>
          <p:nvPr/>
        </p:nvSpPr>
        <p:spPr>
          <a:xfrm>
            <a:off x="4343400" y="54100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Content Placeholder 1"/>
          <p:cNvSpPr/>
          <p:nvPr/>
        </p:nvSpPr>
        <p:spPr>
          <a:xfrm>
            <a:off x="1752480" y="13716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i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i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5124600" y="1447920"/>
            <a:ext cx="1364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gi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u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a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a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 To read high-frequency word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3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3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3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3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3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3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Endin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8229600" cy="4944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oot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ouble Consonant, Add 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p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t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ou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nsonant, Add 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p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Nick Babcock</cp:lastModifiedBy>
  <dcterms:modified xsi:type="dcterms:W3CDTF">2010-01-19T01:00:18Z</dcterms:modified>
  <cp:revision>117</cp:revision>
  <dc:subject/>
  <dc:title>Slide 1</dc:title>
</cp:coreProperties>
</file>