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7C4-D343-4B68-A275-12D3F300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E85-6843-4EDE-94E5-566CCF5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83B-3A86-4E89-8473-FCD0D758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9B9-31D5-4607-8E7F-DBB91459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33F-D250-472F-BD59-288C6CF0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A8A-6FC7-47A7-A75F-911FCC1D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620-1012-4498-ACE1-8D97520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292-52CA-4FEB-A834-CAC945FC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9D0-0C50-4D2E-8851-604CC53D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2C9-0962-4A02-8452-0FDEA29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6E1-1CA8-416C-B84F-8F246D9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0E6-47B4-4CE3-87F6-27B7289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CD46-27CB-4366-811A-D22EECB3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anuary 1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17, Da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371600"/>
          <a:ext cx="8229600" cy="5195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he Rainbow Came to B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leph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t?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reflies, Fireflies, Light M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can elephants do with their tru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 is that amaz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phants can use their trunks to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Elepha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y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nflections –ed, -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219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35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20040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228600"/>
          <a:ext cx="7619760" cy="523224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523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oot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Consonant, Add 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b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ou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nsonant, Add 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p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spelling 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95280"/>
            <a:ext cx="3886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1371600"/>
            <a:ext cx="3886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Valued Gateway Client</cp:lastModifiedBy>
  <dcterms:modified xsi:type="dcterms:W3CDTF">2009-01-16T13:45:07Z</dcterms:modified>
  <cp:revision>116</cp:revision>
  <dc:subject/>
  <dc:title>Slide 1</dc:title>
</cp:coreProperties>
</file>