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media/image9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DF59-EC15-4362-8FAA-9FF7B750D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7376-52EC-483A-B438-0725A6E32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4581-8609-45BE-8D69-D0E262235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5D5A-417A-4449-A210-110FA2676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AF1F-78C5-42A1-88CC-0A321F463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1469-9973-43A5-843F-04F2213F2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C85F-AFA7-45FD-BDC6-59F68AF96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29E7-D24A-46C1-8052-1526C7994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E979-1D35-4458-85BE-AD36D6E0A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1906-0493-46A4-9C6B-B0677269B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432C-B318-42D8-BD16-BB27E3312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653A-1F06-4F5B-A320-1762B640D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FDC3-11A8-4D40-ACC7-01D275BD0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35E9-DB1B-45D8-8598-A1AE88214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8A49-2BD1-4025-AA5A-13554E242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569E-AD11-4F5A-96EA-992A83F4E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1A19-42ED-45F3-AAB3-C0CAB1FC4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4108-A9F8-44B5-A196-2E1B94315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78C5-2E7F-4164-B2DB-1A820E221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29ED-69FD-4155-B5FC-6677A99CC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9F4F-5D3D-4AB1-A8A3-1A005F9EB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97FB-6EC5-40CB-A0C7-743D32B2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6A11-1441-4621-8EF4-F21F320C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AB54-E8F2-4BFF-9008-CCD1A8009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2764-576B-4B4B-A5E6-59B94F32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6BEF-5187-4890-8617-22C6FB11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0B36-B317-426D-8665-46E47752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40D2-828A-47DA-A42A-3242D1AF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C829-0A1D-4E49-A721-30F090E3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6CDB-C7C1-4902-8CB1-B65C85FF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BDC6-FB7F-4910-9DE5-DF7B805A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C7DC-1148-406B-BCE6-6A25C92C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8537-FB7A-4585-B4E0-C8BDBDC7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58F9-A5F1-4469-B44B-21C8E03D1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sson 18, Day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nstantia"/>
              </a:rPr>
              <a:t>Shadow follows Jes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nstantia"/>
              </a:rPr>
              <a:t>Shadow spots a black crow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n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9"/>
          <p:cNvSpPr/>
          <p:nvPr/>
        </p:nvSpPr>
        <p:spPr>
          <a:xfrm>
            <a:off x="228600" y="1371600"/>
            <a:ext cx="2819520" cy="487692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876920"/>
              <a:gd name="textAreaBottom" fmla="*/ 4739400 h 4876920"/>
            </a:gdLst>
            <a:ahLst/>
            <a:rect l="textAreaLeft" t="textAreaTop" r="textAreaRight" b="textAreaBottom"/>
            <a:pathLst>
              <a:path w="21600" h="37359">
                <a:moveTo>
                  <a:pt x="3600" y="0"/>
                </a:moveTo>
                <a:arcTo wR="3600" hR="3600" stAng="16200000" swAng="-5400000"/>
                <a:lnTo>
                  <a:pt x="0" y="33759"/>
                </a:lnTo>
                <a:arcTo wR="3600" hR="3600" stAng="10800000" swAng="-5400000"/>
                <a:lnTo>
                  <a:pt x="18000" y="373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380880" y="13716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gin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6172200" y="1295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4"/>
          <p:cNvSpPr/>
          <p:nvPr/>
        </p:nvSpPr>
        <p:spPr>
          <a:xfrm>
            <a:off x="3048120" y="1371600"/>
            <a:ext cx="2819160" cy="4876920"/>
          </a:xfrm>
          <a:custGeom>
            <a:avLst/>
            <a:gdLst>
              <a:gd name="textAreaLeft" fmla="*/ 137520 w 2819160"/>
              <a:gd name="textAreaRight" fmla="*/ 2681640 w 2819160"/>
              <a:gd name="textAreaTop" fmla="*/ 137520 h 4876920"/>
              <a:gd name="textAreaBottom" fmla="*/ 4739400 h 4876920"/>
            </a:gdLst>
            <a:ahLst/>
            <a:rect l="textAreaLeft" t="textAreaTop" r="textAreaRight" b="textAreaBottom"/>
            <a:pathLst>
              <a:path w="21600" h="37364">
                <a:moveTo>
                  <a:pt x="3600" y="0"/>
                </a:moveTo>
                <a:arcTo wR="3600" hR="3600" stAng="16200000" swAng="-5400000"/>
                <a:lnTo>
                  <a:pt x="0" y="33764"/>
                </a:lnTo>
                <a:arcTo wR="3600" hR="3600" stAng="10800000" swAng="-5400000"/>
                <a:lnTo>
                  <a:pt x="18000" y="373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5"/>
          <p:cNvSpPr/>
          <p:nvPr/>
        </p:nvSpPr>
        <p:spPr>
          <a:xfrm>
            <a:off x="5867280" y="1295280"/>
            <a:ext cx="2819520" cy="487692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876920"/>
              <a:gd name="textAreaBottom" fmla="*/ 4739400 h 4876920"/>
            </a:gdLst>
            <a:ahLst/>
            <a:rect l="textAreaLeft" t="textAreaTop" r="textAreaRight" b="textAreaBottom"/>
            <a:pathLst>
              <a:path w="21600" h="37359">
                <a:moveTo>
                  <a:pt x="3600" y="0"/>
                </a:moveTo>
                <a:arcTo wR="3600" hR="3600" stAng="16200000" swAng="-5400000"/>
                <a:lnTo>
                  <a:pt x="0" y="33759"/>
                </a:lnTo>
                <a:arcTo wR="3600" hR="3600" stAng="10800000" swAng="-5400000"/>
                <a:lnTo>
                  <a:pt x="18000" y="373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6"/>
          <p:cNvSpPr/>
          <p:nvPr/>
        </p:nvSpPr>
        <p:spPr>
          <a:xfrm>
            <a:off x="342900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d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n has a go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 name is Jo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an has spots on her fu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an likes to run on the ro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 has on a bow for the sh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h, no, Joan!  Do not eat the box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in a manner that sounds like natural spee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saw read “Shadow in the Snow” with y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.  Try to Increase your reading rate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.  Read the story 3 or 4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in a manner that sounds like natural spee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MPj04394930000[1]"/>
          <p:cNvPicPr/>
          <p:nvPr/>
        </p:nvPicPr>
        <p:blipFill>
          <a:blip r:embed="rId1"/>
          <a:stretch/>
        </p:blipFill>
        <p:spPr>
          <a:xfrm>
            <a:off x="1600200" y="2590920"/>
            <a:ext cx="609588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 To understand characteristics of folk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The Mitt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3" descr="51SPNV1420L"/>
          <p:cNvPicPr/>
          <p:nvPr/>
        </p:nvPicPr>
        <p:blipFill>
          <a:blip r:embed="rId1"/>
          <a:stretch/>
        </p:blipFill>
        <p:spPr>
          <a:xfrm>
            <a:off x="2209680" y="2362320"/>
            <a:ext cx="4762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lg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st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a container bulged, its side stuck out as if it were going to bur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bulg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2" descr="MCj02900780000[1]"/>
          <p:cNvPicPr/>
          <p:nvPr/>
        </p:nvPicPr>
        <p:blipFill>
          <a:blip r:embed="rId1"/>
          <a:stretch/>
        </p:blipFill>
        <p:spPr>
          <a:xfrm>
            <a:off x="838080" y="1905120"/>
            <a:ext cx="316404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bulg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mitten was empty, it was flat, but when the animals crawled inside, i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ulg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uitcas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ulg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I put too much 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r backp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ulg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at was in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jostl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When  you have jostled people, you have bumped them or poked them to make them move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1" descr="universitys-taka-manaka-and-clarences-woolley-jostle-for-ball"/>
          <p:cNvPicPr/>
          <p:nvPr/>
        </p:nvPicPr>
        <p:blipFill>
          <a:blip r:embed="rId1"/>
          <a:stretch/>
        </p:blipFill>
        <p:spPr>
          <a:xfrm>
            <a:off x="685800" y="1676520"/>
            <a:ext cx="3762360" cy="4572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2"/>
          <p:cNvSpPr/>
          <p:nvPr/>
        </p:nvSpPr>
        <p:spPr>
          <a:xfrm>
            <a:off x="685800" y="6248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s jostled for the ba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are some places you might go hi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went ______ on my h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jost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dgeho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jost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mole and rabbit to make room for itself in the mit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ight you need to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jost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eone to make them move over and give you some sp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n you argue with someone, you disagree loudl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rgu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8" descr="MPj02277970000[1]"/>
          <p:cNvPicPr/>
          <p:nvPr/>
        </p:nvPicPr>
        <p:blipFill>
          <a:blip r:embed="rId1"/>
          <a:stretch/>
        </p:blipFill>
        <p:spPr>
          <a:xfrm>
            <a:off x="228600" y="2286000"/>
            <a:ext cx="5029200" cy="3301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ar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imals did no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g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the bear came in because they did not want to make him m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said it was snowing when it was really warm and sunny, your classmates migh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g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lse do peopl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g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 your mouth and make your cheeks bul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your partner how you look when you ar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62560" y="0"/>
            <a:ext cx="1981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homophones and use them correct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152280" y="1523880"/>
            <a:ext cx="89917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knew I would loose my new mitte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you write a letter, spell the words right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9" descr="la35"/>
          <p:cNvPicPr/>
          <p:nvPr/>
        </p:nvPicPr>
        <p:blipFill>
          <a:blip r:embed="rId1"/>
          <a:stretch/>
        </p:blipFill>
        <p:spPr>
          <a:xfrm>
            <a:off x="2006640" y="0"/>
            <a:ext cx="5016600" cy="67057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0"/>
          <p:cNvSpPr/>
          <p:nvPr/>
        </p:nvSpPr>
        <p:spPr>
          <a:xfrm>
            <a:off x="7162920" y="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homophones and use them correct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7620120" y="0"/>
            <a:ext cx="152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a criteria list for writing a thank you no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2" descr="la36"/>
          <p:cNvPicPr/>
          <p:nvPr/>
        </p:nvPicPr>
        <p:blipFill>
          <a:blip r:embed="rId1"/>
          <a:stretch/>
        </p:blipFill>
        <p:spPr>
          <a:xfrm>
            <a:off x="1998720" y="0"/>
            <a:ext cx="514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7620120" y="0"/>
            <a:ext cx="152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a criteria list for writing a thank you no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thank you letter"/>
          <p:cNvPicPr/>
          <p:nvPr/>
        </p:nvPicPr>
        <p:blipFill>
          <a:blip r:embed="rId1"/>
          <a:stretch/>
        </p:blipFill>
        <p:spPr>
          <a:xfrm>
            <a:off x="0" y="1098720"/>
            <a:ext cx="9144000" cy="46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nstantia"/>
              </a:rPr>
              <a:t>Draft a Thank You Let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7086600" y="3808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.</a:t>
            </a:r>
            <a:br>
              <a:rPr sz="4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Saying Thank Yo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picture of a friend giving you a gift or helping you.  Think about what you would say to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listen for a purp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343400" y="457200"/>
            <a:ext cx="4800600" cy="63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We’re Going on a Lion Hun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MPj04033300000[1]"/>
          <p:cNvPicPr/>
          <p:nvPr/>
        </p:nvPicPr>
        <p:blipFill>
          <a:blip r:embed="rId1"/>
          <a:stretch/>
        </p:blipFill>
        <p:spPr>
          <a:xfrm>
            <a:off x="609480" y="1066680"/>
            <a:ext cx="3456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ee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blend phonemes to make new wor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2" descr="MCj04397720000[1]"/>
          <p:cNvPicPr/>
          <p:nvPr/>
        </p:nvPicPr>
        <p:blipFill>
          <a:blip r:embed="rId1"/>
          <a:stretch/>
        </p:blipFill>
        <p:spPr>
          <a:xfrm>
            <a:off x="4267080" y="16002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 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228600"/>
            <a:ext cx="8001000" cy="28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Long vowel /o/ ow, 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5334120" y="1752480"/>
            <a:ext cx="38098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begins with the /o/ sound, make a o with you fingers.  When I say a word that does not have /o/, do noth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o/ sound in the middle, make an /o/ with your fin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2" descr="MPj04365980000[1]"/>
          <p:cNvPicPr/>
          <p:nvPr/>
        </p:nvPicPr>
        <p:blipFill>
          <a:blip r:embed="rId1"/>
          <a:stretch/>
        </p:blipFill>
        <p:spPr>
          <a:xfrm>
            <a:off x="228600" y="213372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52320" y="1371600"/>
            <a:ext cx="838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o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657600" y="1371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3809880" y="2362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724280" y="1371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3124080" y="327672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4572000" y="3276720"/>
            <a:ext cx="76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3657600" y="327672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7"/>
          <p:cNvSpPr/>
          <p:nvPr/>
        </p:nvSpPr>
        <p:spPr>
          <a:xfrm>
            <a:off x="4724280" y="2362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3"/>
          <p:cNvSpPr/>
          <p:nvPr/>
        </p:nvSpPr>
        <p:spPr>
          <a:xfrm>
            <a:off x="3505320" y="42670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3809880" y="426708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8"/>
          <p:cNvSpPr/>
          <p:nvPr/>
        </p:nvSpPr>
        <p:spPr>
          <a:xfrm>
            <a:off x="3200400" y="5334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9"/>
          <p:cNvSpPr/>
          <p:nvPr/>
        </p:nvSpPr>
        <p:spPr>
          <a:xfrm>
            <a:off x="3657600" y="5334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3962520" y="53341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809880" y="1295280"/>
            <a:ext cx="1905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3657600" y="22096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3429000" y="2209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3657600" y="3124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3"/>
          <p:cNvSpPr/>
          <p:nvPr/>
        </p:nvSpPr>
        <p:spPr>
          <a:xfrm>
            <a:off x="4343400" y="31240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4"/>
          <p:cNvSpPr/>
          <p:nvPr/>
        </p:nvSpPr>
        <p:spPr>
          <a:xfrm>
            <a:off x="3809880" y="40384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5"/>
          <p:cNvSpPr/>
          <p:nvPr/>
        </p:nvSpPr>
        <p:spPr>
          <a:xfrm>
            <a:off x="4114800" y="403848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4952880" y="403848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7"/>
          <p:cNvSpPr/>
          <p:nvPr/>
        </p:nvSpPr>
        <p:spPr>
          <a:xfrm>
            <a:off x="3657600" y="48006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8"/>
          <p:cNvSpPr/>
          <p:nvPr/>
        </p:nvSpPr>
        <p:spPr>
          <a:xfrm>
            <a:off x="4038480" y="48006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3962520" y="585144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0"/>
          <p:cNvSpPr/>
          <p:nvPr/>
        </p:nvSpPr>
        <p:spPr>
          <a:xfrm>
            <a:off x="4952880" y="4800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1"/>
          <p:cNvSpPr/>
          <p:nvPr/>
        </p:nvSpPr>
        <p:spPr>
          <a:xfrm>
            <a:off x="4876920" y="5851440"/>
            <a:ext cx="167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2"/>
          <p:cNvSpPr/>
          <p:nvPr/>
        </p:nvSpPr>
        <p:spPr>
          <a:xfrm>
            <a:off x="3429000" y="585144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1-24T23:47:34Z</dcterms:modified>
  <cp:revision>120</cp:revision>
  <dc:subject/>
  <dc:title>Slide 1</dc:title>
</cp:coreProperties>
</file>