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2C1-A4CA-4BAC-A3F6-877EC0F7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AB2-CF9D-44AE-8027-504948F2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767-3573-4726-ACB2-EDCFFEFE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802-D0AE-409F-AC8F-6D887A4E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779-6E8D-4558-A763-58B06889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4F6-3FD2-4FFD-9396-C24FFDEA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018-F050-4E80-8131-6B72BCF2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FB1-061B-4A94-AF93-361EF26F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005-9827-48A2-AFBD-AC60A0B2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936-0307-44F0-A165-A53C4A71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DDA-638E-4B35-9D09-5038BD5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15D-B4FB-4BA5-9775-5FAD5F6F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6D42-02A7-4945-8654-F001717AD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0968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sson 18, Day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Authors write for a reason or a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What is the author’s purpose in “The Mitten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What is the author’s purpose in “The S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Surprise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uthor’s Purpose/Point of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6864120" y="228600"/>
            <a:ext cx="1840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identify th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or’s purpose and poi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view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command someone, you tell him or her what to do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80"/>
              </a:gs>
              <a:gs pos="100000">
                <a:srgbClr val="cc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C:\Documents and Settings\pawley\My Documents\command.jpg"/>
          <p:cNvPicPr/>
          <p:nvPr/>
        </p:nvPicPr>
        <p:blipFill>
          <a:blip r:embed="rId1"/>
          <a:stretch/>
        </p:blipFill>
        <p:spPr>
          <a:xfrm>
            <a:off x="380880" y="2209680"/>
            <a:ext cx="4622760" cy="3097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228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 will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omm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to go over t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can command my dog to sit.Would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and a dog or a goldfish to roll 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*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Times New Roman"/>
              </a:rPr>
              <a:t>Turn and Talk: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Tell your partner something your parents might command you to 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Times New Roman"/>
              </a:rPr>
              <a:t>My parents command me to ___________.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labored, you worked very ha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99cc00"/>
              </a:gs>
              <a:gs pos="100000">
                <a:srgbClr val="008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labored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6" descr="C:\Documents and Settings\pawley\My Documents\labored.jpg"/>
          <p:cNvPicPr/>
          <p:nvPr/>
        </p:nvPicPr>
        <p:blipFill>
          <a:blip r:embed="rId1"/>
          <a:stretch/>
        </p:blipFill>
        <p:spPr>
          <a:xfrm>
            <a:off x="685800" y="22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380880" y="5334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ab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uild a fire with the w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Labo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turday, I labored all day to clean 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.  Would you have labored if you buil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d castle or if you took a nap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</a:t>
            </a:r>
            <a:r>
              <a:rPr b="0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Turn and Talk: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Tell your partner how you would feel if you labored all day clean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After I labored all day, I would feel 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95288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6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cautious and unsure about something that might be dangerous, you are wary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0099cc"/>
              </a:gs>
              <a:gs pos="100000">
                <a:srgbClr val="0033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wary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Documents and Settings\pawley\My Documents\wary.jpg"/>
          <p:cNvPicPr/>
          <p:nvPr/>
        </p:nvPicPr>
        <p:blipFill>
          <a:blip r:embed="rId1"/>
          <a:stretch/>
        </p:blipFill>
        <p:spPr>
          <a:xfrm>
            <a:off x="304920" y="13716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28600" y="5867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ttle boy was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hee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be wary if I heard a strang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side my door.  Would you be more w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going into a dark cave or a bright room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*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Turn and Talk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:  Tell your partner an animal you would be wary 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 would be wary of 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1752480" y="152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ylium"/>
              </a:rPr>
              <a:t>Homoph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7086600" y="1522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underst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the concept of homophones; to identif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homoph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30492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Remember homophones are words that sou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same but are spelled differently and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different mean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28600" y="2209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y/ buy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o/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le/ tail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d/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ew/ knew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ight/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ne/ w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04920" y="3886200"/>
            <a:ext cx="784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y hat is 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e one the g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Max has a knew b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can right my name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7" descr="thank you letter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010280" y="0"/>
            <a:ext cx="213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981080" y="380880"/>
            <a:ext cx="49532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Bradley Hand ITC"/>
              </a:rPr>
              <a:t>On my signal turn and talk to your partner using this 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Constantia"/>
              </a:rPr>
              <a:t>A snowball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Hula%20Monkey-Girls.jpg"/>
          <p:cNvPicPr/>
          <p:nvPr/>
        </p:nvPicPr>
        <p:blipFill>
          <a:blip r:embed="rId1"/>
          <a:stretch/>
        </p:blipFill>
        <p:spPr>
          <a:xfrm>
            <a:off x="60480" y="0"/>
            <a:ext cx="3689280" cy="3191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809880" y="1752480"/>
            <a:ext cx="51055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does a snowball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c244e"/>
                </a:solidFill>
                <a:latin typeface="Constantia"/>
              </a:rPr>
              <a:t>What can you do with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906720" y="91440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Question of the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tober 12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ar Mr. Chapma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k you for getting our ball of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friend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Hill’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ake a list of things you wou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like to thank your parents for.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620120" y="0"/>
            <a:ext cx="152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develop a criteria list for writing a thank you no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086600" y="3808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Objective: To understand the purpose of each part of the thank-you let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To contribute to the shar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riting of a thank-you letter.</a:t>
            </a:r>
            <a:br>
              <a:rPr sz="44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914400" y="114300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anuary 22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r ____________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MPj04317910000[1]"/>
          <p:cNvPicPr/>
          <p:nvPr/>
        </p:nvPicPr>
        <p:blipFill>
          <a:blip r:embed="rId1"/>
          <a:stretch/>
        </p:blipFill>
        <p:spPr>
          <a:xfrm>
            <a:off x="2209680" y="1600200"/>
            <a:ext cx="4989600" cy="4102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629400" y="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: To listen for a purpose. To recognize the pattern of a rhy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991960" y="571500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Big Book of Rhymes and Po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585440" y="1066680"/>
            <a:ext cx="656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haroni"/>
                <a:ea typeface="Aharoni"/>
              </a:rPr>
              <a:t>Read Aloud:  “A Sound Ridd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371600" y="1219320"/>
            <a:ext cx="3124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972160" y="228600"/>
            <a:ext cx="30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903280" y="1295280"/>
            <a:ext cx="1398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8660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bjective: To blend phonemes to make new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447920"/>
            <a:ext cx="5181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len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27672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/o/ and other known letter-sou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1143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733920" y="1981080"/>
            <a:ext cx="1447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3276720" y="19810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267080" y="1143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114800" y="28195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2895480" y="28195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886200" y="28195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276720" y="28195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048120" y="3733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88620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9548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35268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657600" y="46483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58128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4495680" y="3733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6019920" y="1143000"/>
            <a:ext cx="83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6400800" y="1143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7010280" y="11430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095880" y="2286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6553080" y="2286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7467480" y="2286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6095880" y="3352680"/>
            <a:ext cx="838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6477120" y="33526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9"/>
          <p:cNvSpPr/>
          <p:nvPr/>
        </p:nvSpPr>
        <p:spPr>
          <a:xfrm>
            <a:off x="7086600" y="33526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6019920" y="45720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6629400" y="4572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2"/>
          <p:cNvSpPr/>
          <p:nvPr/>
        </p:nvSpPr>
        <p:spPr>
          <a:xfrm>
            <a:off x="7010280" y="4572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l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n has a go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r name is Jo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an has spots on her f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an likes to run on the ro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e has on a bow for the sh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h, no, Joan!  Do not eat the box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bjective: To read fluently in a manner that sounds like natural speech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ontent Placeholder 1"/>
          <p:cNvSpPr/>
          <p:nvPr/>
        </p:nvSpPr>
        <p:spPr>
          <a:xfrm>
            <a:off x="1752480" y="13716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g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30320" y="304920"/>
            <a:ext cx="32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94440" y="1447920"/>
            <a:ext cx="16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ca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568480" y="5410080"/>
            <a:ext cx="3231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:  To use /ow/ and /oa/ and other know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ter sounds to spell words; to spell known high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quency word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t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4120" y="152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Objective-To read high-frequency wor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08:04Z</dcterms:created>
  <dc:creator>Federated Group</dc:creator>
  <dc:description/>
  <dc:language>en-US</dc:language>
  <cp:lastModifiedBy>mworsham</cp:lastModifiedBy>
  <dcterms:modified xsi:type="dcterms:W3CDTF">2010-01-24T23:52:30Z</dcterms:modified>
  <cp:revision>4</cp:revision>
  <dc:subject/>
  <dc:title>PowerPoint Presentation</dc:title>
</cp:coreProperties>
</file>