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F43-C165-4041-A544-B06735C30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02ED-BEF9-48B9-A001-8A2F69A38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3FF-F51F-4DDA-AFA0-76BA33D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2AE-C61D-4C54-88D8-3DB7CB1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2C0-D95B-4BD9-9B33-E824CD8A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F3B-927F-48CE-8F92-BB9947BD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D88-2EEB-44CF-81CC-300DC184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FE4-F611-4835-896A-F175760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A93-F1A5-41CB-9F49-46070610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690-2F07-4CCA-BB77-83182A1A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D59-4A2C-4F09-8636-6F26342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774-A437-41F3-8667-F8469DAA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1CF-D688-4462-97F7-4377B173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724-E283-497B-A1AF-87695A1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D5A-2EA4-4A8C-BB59-430FF0101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Lesson 18, Day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8600" y="0"/>
            <a:ext cx="8534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Objective: To use /o/ ow, oa and other known letter-sounds to spell and write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Calibri"/>
              </a:rPr>
              <a:t>To spell and write known high frequency wo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457200" y="7621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514600" y="1447920"/>
            <a:ext cx="3733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g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ca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0" y="0"/>
            <a:ext cx="9144000" cy="77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teacher who gave you a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comman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wary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of a growling bear?  Why or why no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If you stuff three pairs of socks in your pocket, would your pocke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? Would it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bulg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if you put three pennies in it?  Why or why not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be tired if you had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labored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all day doing yard work?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 you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argue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 with someone who </a:t>
            </a:r>
            <a:r>
              <a:rPr b="1" lang="en-US" sz="2000" spc="-1" strike="noStrike">
                <a:solidFill>
                  <a:srgbClr val="00ff00"/>
                </a:solidFill>
                <a:latin typeface="Calibri"/>
              </a:rPr>
              <a:t>jostled 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you while you were waiting in line?  Why or why no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 about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Your partner is your pet dog.  Command him or her to do a tr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alibri"/>
              </a:rPr>
              <a:t>You and your partner are at the doorway of a dark room.  Show how you would look if you were wary of going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alibri"/>
              </a:rPr>
              <a:t>Pretend to argue with your partner about who should get to play with a favorite to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alibri"/>
              </a:rPr>
              <a:t>Pretend that you and your partner are in a tight space, such as an elevator, with several other people. Show how you might get jost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685800" y="1752480"/>
            <a:ext cx="7848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14800" y="228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jective: To listen attentively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80880" y="6858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Calibri"/>
              </a:rPr>
              <a:t>What things have you done just because you like to do them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280" y="3733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 my signal, turn and talk with your partner.  Complete the following 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" y="51055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One time I _____________just because I liked t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alibri"/>
              </a:rPr>
              <a:t>My 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didn’t bark at anything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ird, a piece of string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siren or a silly toad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pickup truck along the roa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fe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bon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a chewed up shoe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He barked because he wanted 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52480" y="838080"/>
            <a:ext cx="5410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surpr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wo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e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762120" y="380880"/>
            <a:ext cx="8229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752480" y="838080"/>
            <a:ext cx="4800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Calibri"/>
              </a:rPr>
              <a:t>Objective: To blend phonemes into recognizabl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457200" y="1371600"/>
            <a:ext cx="4419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6" descr="MCj04397720000[1]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0"/>
            <a:ext cx="861048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bjective: To discriminate between words with different patt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o use common vowel spelling patterns to read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honograms – words that end with the same sounds.  Words that have the same endings are also rhyming wor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1905120"/>
          <a:ext cx="8001000" cy="50054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50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gr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sh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low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-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t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as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52280" y="152280"/>
            <a:ext cx="883944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am at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fl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on the wat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go when you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Som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are fast, and some ar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l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I like all the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s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When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gr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up, I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kn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 want to have a </a:t>
            </a:r>
            <a:r>
              <a:rPr b="1" lang="en-US" sz="4000" spc="-1" strike="noStrike">
                <a:solidFill>
                  <a:srgbClr val="3366ff"/>
                </a:solidFill>
                <a:latin typeface="Calibri"/>
              </a:rPr>
              <a:t>boat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 in the </a:t>
            </a:r>
            <a:r>
              <a:rPr b="1" lang="en-US" sz="4000" spc="-1" strike="noStrike">
                <a:solidFill>
                  <a:srgbClr val="00ff00"/>
                </a:solidFill>
                <a:latin typeface="Calibri"/>
              </a:rPr>
              <a:t>show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3:53:57Z</dcterms:created>
  <dc:creator>mworsham</dc:creator>
  <dc:description/>
  <dc:language>en-US</dc:language>
  <cp:lastModifiedBy>mworsham</cp:lastModifiedBy>
  <dcterms:modified xsi:type="dcterms:W3CDTF">2010-01-25T00:11:52Z</dcterms:modified>
  <cp:revision>1</cp:revision>
  <dc:subject/>
  <dc:title>Slide 1</dc:title>
</cp:coreProperties>
</file>