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D23-B62F-4D2B-AFF2-DA391D1B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A3F4-AD80-4B59-8C15-9BC069E6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4050-CF5E-482A-8FE7-9308DCCA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248-8A92-4202-972C-0DD42757E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4E7-E980-4813-967D-01DD6371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EF3-0906-4393-8EEB-1F04B085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2054-495C-468C-A5E2-A6F21936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B2D-862C-4552-852F-23AF8F88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0A2F-5B37-46D6-B367-40E48AFA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E3DF-457E-492C-BCC7-1A3E3BCE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BED-7756-46EE-84D0-4A087D0D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516-7667-443C-9101-E73A5875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B01B-9A8A-4680-BB10-45B366D0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01F2-3C6A-4B03-BA04-D28027CD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224-345E-4696-B8B0-05269254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055-3B81-4000-91A8-677EFEB3C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67B-4504-49CF-BC63-F22DCC9D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503B-4084-4EE4-ADA9-31420E8C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3071-51A4-4098-9BB0-5C54735C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F6B8-8BEA-42A5-A8D9-19DBE99A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AEE2-1133-4DBD-9A74-4DA2CB0A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F34-C211-4CA6-8A3E-67D10656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79E-38C1-4356-9C56-33928E34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E1C-F260-4298-8F87-E64BBADC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FF5-B185-4429-80FE-7C00C045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018-83BB-4B90-A40F-B891BC84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F4B-61A6-461A-9D11-E9A36F1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087-09A1-4CFF-8D31-B2F9AADF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B17-D2CC-4E35-84B7-F50827DF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3B1-577E-4CED-BB9C-750422E2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79B-5610-46F7-A059-6996AC0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17A-197A-4649-99BB-27167E1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A57-02B4-4CFE-B321-C049D89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34BD-D2A6-498C-9722-8A600937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Beaver dreams of a green feas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He asks his pals for 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green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hrases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</a:rPr>
              <a:t>Chicken Lit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4" descr="MCj03379100000[1]"/>
          <p:cNvPicPr/>
          <p:nvPr/>
        </p:nvPicPr>
        <p:blipFill>
          <a:blip r:embed="rId1"/>
          <a:stretch/>
        </p:blipFill>
        <p:spPr>
          <a:xfrm>
            <a:off x="1523880" y="2209680"/>
            <a:ext cx="61722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walke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a fire drill, we should leave our classroom safely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y mom calls me to help her, should I move slowly o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apid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ve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he was planning to gobble up the bi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got you to do my work by pretending it was fun, would that be kind 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nk about your favorite foo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If you were very hungry, what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ould you ask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eat _______ because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y Loxy was pretending to be nice so he spoke in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us at lu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think it would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urte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sk the new girl to sit with you at lunch, or to tell the new girl there is no room at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describe  something devious that Foxy Loxy migh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say something courteous to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52280" y="1523880"/>
            <a:ext cx="8991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cken Little has yellow feather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small bea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has a round ey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1" descr="la37"/>
          <p:cNvPicPr/>
          <p:nvPr/>
        </p:nvPicPr>
        <p:blipFill>
          <a:blip r:embed="rId1"/>
          <a:stretch/>
        </p:blipFill>
        <p:spPr>
          <a:xfrm>
            <a:off x="1371600" y="0"/>
            <a:ext cx="58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38880" y="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914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 words that describe color, shape, and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676520"/>
          <a:ext cx="8610480" cy="46479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 About A 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ok at my big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A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63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Bear Wants Mo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762120" y="190512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e/ ee, 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e/ sound, make an e with you fingers.  When I say a word that does not have /e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e/ sound in the middle, make an /e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4" descr="MPj04070910000[1]"/>
          <p:cNvPicPr/>
          <p:nvPr/>
        </p:nvPicPr>
        <p:blipFill>
          <a:blip r:embed="rId1"/>
          <a:stretch/>
        </p:blipFill>
        <p:spPr>
          <a:xfrm>
            <a:off x="228600" y="2209680"/>
            <a:ext cx="48769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809880" y="58514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4038480" y="5851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952880" y="585144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4:40Z</dcterms:modified>
  <cp:revision>127</cp:revision>
  <dc:subject/>
  <dc:title>Slide 1</dc:title>
</cp:coreProperties>
</file>