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6.jpeg" ContentType="image/jpeg"/>
  <Override PartName="/ppt/media/image7.jpeg" ContentType="image/jpeg"/>
  <Override PartName="/ppt/media/image11.png" ContentType="image/png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E9EB-A291-4058-B76F-4BE569010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2F46-FD6C-4546-BA9E-CDA09784F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3BC8-0F6E-48A4-8ED6-576E90D2E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6DFD-8019-4B0F-BC98-21912E169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57B5-8EA4-4F38-9E41-23394D4A1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34F7-9ECF-4D62-A722-08135B30D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F21C-5BED-4284-B3B5-1FD388AB7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A508-9279-4349-AC82-5FC6D36F6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FA19-0660-4CDF-8D37-ECA6DED71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F3DC-E242-4BD8-A52D-6A9BA504F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9706-2421-44CF-801A-415941EC2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B66A-3ABD-4492-A856-6FFDF435B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5356-832E-4574-B8DD-614982816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C101-F6C2-48B0-82AD-676C22FB7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E60F-B572-4347-AE59-B323AC0C2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2E26-65BB-49A5-BEF0-B8BFFDB12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D69D-8BDD-4DC3-847C-78C1BEB56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7019-71DE-448E-ACD0-EE00A2E3E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CA03-12FA-4006-ACA1-43CD68263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E9C1-BCEB-431A-BBDB-2E9866355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5C62-B08A-45BC-9E0C-F262311F3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674A-2F5E-4FF2-84C5-D19B3280E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B91E-C676-4B88-B0C5-1F7E73A4A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A5B3-774E-4B93-A883-6441416CA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9C98-4570-4FC9-AAFC-B1435F1B5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FE68-D46C-4F1E-807F-834BFC71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3C9-FD75-41B4-8619-28BB22E7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D4BA-9089-459E-AB4A-441E7B8D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7CC-CE66-447A-BBF0-5A778048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BC95-E74C-4CD2-ACAA-D9D179CF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F5B0-212D-40EC-806B-76D8ED78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A355-C6B4-4DCE-83D5-F96FDE89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DED1-C7CC-4032-8E22-C813C094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6170-C451-4829-B062-36B24C7C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887-A17B-4AE0-9C4F-656131D3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FCA0-74BA-4911-9C75-2124EDDE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48E7-97AB-42BE-8009-E99AC5E8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41DE-AC98-4EA5-97CB-DA5EFA002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19, Day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-360"/>
            <a:ext cx="3429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s to K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Frequenc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t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hu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729320" y="152280"/>
            <a:ext cx="19774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s to K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g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lov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ta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hoo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9"/>
          <p:cNvSpPr/>
          <p:nvPr/>
        </p:nvSpPr>
        <p:spPr>
          <a:xfrm>
            <a:off x="228600" y="1371600"/>
            <a:ext cx="2819520" cy="48769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59">
                <a:moveTo>
                  <a:pt x="3600" y="0"/>
                </a:moveTo>
                <a:arcTo wR="3600" hR="3600" stAng="16200000" swAng="-5400000"/>
                <a:lnTo>
                  <a:pt x="0" y="33759"/>
                </a:lnTo>
                <a:arcTo wR="3600" hR="3600" stAng="10800000" swAng="-5400000"/>
                <a:lnTo>
                  <a:pt x="18000" y="37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380880" y="1371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gi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6172200" y="1295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4"/>
          <p:cNvSpPr/>
          <p:nvPr/>
        </p:nvSpPr>
        <p:spPr>
          <a:xfrm>
            <a:off x="3048120" y="1371600"/>
            <a:ext cx="2819160" cy="4876920"/>
          </a:xfrm>
          <a:custGeom>
            <a:avLst/>
            <a:gdLst>
              <a:gd name="textAreaLeft" fmla="*/ 137520 w 2819160"/>
              <a:gd name="textAreaRight" fmla="*/ 2681640 w 281916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64">
                <a:moveTo>
                  <a:pt x="3600" y="0"/>
                </a:moveTo>
                <a:arcTo wR="3600" hR="3600" stAng="16200000" swAng="-5400000"/>
                <a:lnTo>
                  <a:pt x="0" y="33764"/>
                </a:lnTo>
                <a:arcTo wR="3600" hR="3600" stAng="10800000" swAng="-5400000"/>
                <a:lnTo>
                  <a:pt x="18000" y="373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5"/>
          <p:cNvSpPr/>
          <p:nvPr/>
        </p:nvSpPr>
        <p:spPr>
          <a:xfrm>
            <a:off x="5867280" y="1295280"/>
            <a:ext cx="2819520" cy="487692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76920"/>
              <a:gd name="textAreaBottom" fmla="*/ 4739400 h 4876920"/>
            </a:gdLst>
            <a:ahLst/>
            <a:rect l="textAreaLeft" t="textAreaTop" r="textAreaRight" b="textAreaBottom"/>
            <a:pathLst>
              <a:path w="21600" h="37359">
                <a:moveTo>
                  <a:pt x="3600" y="0"/>
                </a:moveTo>
                <a:arcTo wR="3600" hR="3600" stAng="16200000" swAng="-5400000"/>
                <a:lnTo>
                  <a:pt x="0" y="33759"/>
                </a:lnTo>
                <a:arcTo wR="3600" hR="3600" stAng="10800000" swAng="-5400000"/>
                <a:lnTo>
                  <a:pt x="18000" y="373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342900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d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o find cause and effect, ask two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at happened? 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Little Rabbit  thinks the sky is f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y did it happen?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An apple hit him on the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is the apple hitting him on the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effect 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s that he thinks the sky is f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Content Placeholder 5" descr="windy day.bmp"/>
          <p:cNvPicPr/>
          <p:nvPr/>
        </p:nvPicPr>
        <p:blipFill>
          <a:blip r:embed="rId1"/>
          <a:stretch/>
        </p:blipFill>
        <p:spPr>
          <a:xfrm>
            <a:off x="533520" y="1787400"/>
            <a:ext cx="4038480" cy="30546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151920" y="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cogn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-and-effect in a 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can bow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are on a te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ould you like to come to see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It’s just down the ro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You can come wi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Can Dan meet with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Our coach can teach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with appropriate phras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te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are walking rapidly, you are walking very fa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apid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MPj04308960000[1]"/>
          <p:cNvPicPr/>
          <p:nvPr/>
        </p:nvPicPr>
        <p:blipFill>
          <a:blip r:embed="rId1"/>
          <a:stretch/>
        </p:blipFill>
        <p:spPr>
          <a:xfrm>
            <a:off x="380880" y="2286000"/>
            <a:ext cx="4496040" cy="32972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4"/>
          <p:cNvSpPr/>
          <p:nvPr/>
        </p:nvSpPr>
        <p:spPr>
          <a:xfrm>
            <a:off x="457200" y="5791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s are walk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apid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5943600" y="0"/>
            <a:ext cx="289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613080" y="1752480"/>
            <a:ext cx="849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On my signal, turn and talk with y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partner to name some animals that m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rapidly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deviou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 devious person is not being truthful and might try to trick you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228600" y="6019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ha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vi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ok on his 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3" descr="MCPE06908_0000[1]"/>
          <p:cNvPicPr/>
          <p:nvPr/>
        </p:nvPicPr>
        <p:blipFill>
          <a:blip r:embed="rId1"/>
          <a:stretch/>
        </p:blipFill>
        <p:spPr>
          <a:xfrm>
            <a:off x="609480" y="2057400"/>
            <a:ext cx="4038840" cy="3716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727200" y="762120"/>
            <a:ext cx="783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On my signal, answer this question in one 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with “yes” or “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Bobby pretended not to see the mess because he h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someone else would clean it up.  Was Bobb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vious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950400" y="3581280"/>
            <a:ext cx="670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On my signal, answer this question in one vo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with “yes” or “n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Sally brought a snack to share with everyo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Was Sall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vious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5"/>
          <p:cNvSpPr/>
          <p:nvPr/>
        </p:nvSpPr>
        <p:spPr>
          <a:xfrm>
            <a:off x="990720" y="3200400"/>
            <a:ext cx="72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one who is courteous is very pol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ourteou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0" descr="home-health-care"/>
          <p:cNvPicPr/>
          <p:nvPr/>
        </p:nvPicPr>
        <p:blipFill>
          <a:blip r:embed="rId1"/>
          <a:stretch/>
        </p:blipFill>
        <p:spPr>
          <a:xfrm>
            <a:off x="762120" y="1676520"/>
            <a:ext cx="4249440" cy="4419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1"/>
          <p:cNvSpPr/>
          <p:nvPr/>
        </p:nvSpPr>
        <p:spPr>
          <a:xfrm>
            <a:off x="762120" y="6248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rse is be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urte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la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ome animals hop.  Some sw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How do you like to m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can _______ like a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5943600" y="0"/>
            <a:ext cx="289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977040" y="1523880"/>
            <a:ext cx="7454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n my signal, turn and talk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complete this ste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If I wanted to be </a:t>
            </a:r>
            <a:r>
              <a:rPr b="0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courteous</a:t>
            </a: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 to m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teacher, I could 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1323360" y="685800"/>
            <a:ext cx="61426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ing words often tell us the color, shape, and siz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describing words in these senten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Mrs. Johnson has a little blue c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Mrs. Babcock’s ski boat is long and sil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Mrs. Sherum has a tiny brown pet sn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Mrs. Mangham’s green tree frog has red ey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1401480" y="4876920"/>
            <a:ext cx="62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NUS!  Can you guess which sentences are fiction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4"/>
          <p:cNvSpPr/>
          <p:nvPr/>
        </p:nvSpPr>
        <p:spPr>
          <a:xfrm>
            <a:off x="1447920" y="4419720"/>
            <a:ext cx="5790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6248520" y="0"/>
            <a:ext cx="2590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b6bcf"/>
                </a:solidFill>
                <a:latin typeface="Arial"/>
              </a:rPr>
              <a:t>Objective:  To identify descrip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b6bcf"/>
                </a:solidFill>
                <a:latin typeface="Arial"/>
              </a:rPr>
              <a:t>words in a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4" descr="la38"/>
          <p:cNvPicPr/>
          <p:nvPr/>
        </p:nvPicPr>
        <p:blipFill>
          <a:blip r:embed="rId1"/>
          <a:stretch/>
        </p:blipFill>
        <p:spPr>
          <a:xfrm>
            <a:off x="1143000" y="0"/>
            <a:ext cx="663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describe"/>
          <p:cNvPicPr/>
          <p:nvPr/>
        </p:nvPicPr>
        <p:blipFill>
          <a:blip r:embed="rId1"/>
          <a:stretch/>
        </p:blipFill>
        <p:spPr>
          <a:xfrm rot="21379800">
            <a:off x="1295280" y="980640"/>
            <a:ext cx="6705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Your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eb you made yesterday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your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ing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3048120" y="2971800"/>
            <a:ext cx="327636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638680" y="48006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 flipV="1">
            <a:off x="6019920" y="29718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9"/>
          <p:cNvSpPr/>
          <p:nvPr/>
        </p:nvSpPr>
        <p:spPr>
          <a:xfrm flipH="1">
            <a:off x="2437920" y="46483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 flipH="1" flipV="1">
            <a:off x="2209320" y="32004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38080" y="548640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1066680" y="2438280"/>
            <a:ext cx="17528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6629400" y="2133720"/>
            <a:ext cx="18288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5867280" y="548640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 To do a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choral reading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f a po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343400" y="457200"/>
            <a:ext cx="48006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Can You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MCj00884440000[1]"/>
          <p:cNvPicPr/>
          <p:nvPr/>
        </p:nvPicPr>
        <p:blipFill>
          <a:blip r:embed="rId1"/>
          <a:stretch/>
        </p:blipFill>
        <p:spPr>
          <a:xfrm>
            <a:off x="922320" y="1905120"/>
            <a:ext cx="3260880" cy="3533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553320" y="533520"/>
            <a:ext cx="35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533520"/>
            <a:ext cx="822960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phonemes to make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8380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5" descr="C:\Users\Janice\AppData\Local\Microsoft\Windows\Temporary Internet Files\Content.IE5\N13ABA2C\MCj04298090000[1].wmf"/>
          <p:cNvPicPr/>
          <p:nvPr/>
        </p:nvPicPr>
        <p:blipFill>
          <a:blip r:embed="rId1"/>
          <a:stretch/>
        </p:blipFill>
        <p:spPr>
          <a:xfrm>
            <a:off x="457200" y="228600"/>
            <a:ext cx="18637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C:\Users\Janice\AppData\Local\Microsoft\Windows\Temporary Internet Files\Content.IE5\N13ABA2C\MCj04298090000[1].wmf"/>
          <p:cNvPicPr/>
          <p:nvPr/>
        </p:nvPicPr>
        <p:blipFill>
          <a:blip r:embed="rId2"/>
          <a:stretch/>
        </p:blipFill>
        <p:spPr>
          <a:xfrm>
            <a:off x="6095880" y="2057400"/>
            <a:ext cx="1863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e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472428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4419720" y="3276720"/>
            <a:ext cx="761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3505320" y="32767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4572000" y="2362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3733920" y="4267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4114800" y="42670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ee, ea, 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809880" y="129528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657600" y="22096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65760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38862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4191120" y="31240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5105520" y="3124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3886200" y="4038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4267080" y="40384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7"/>
          <p:cNvSpPr/>
          <p:nvPr/>
        </p:nvSpPr>
        <p:spPr>
          <a:xfrm>
            <a:off x="51055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3733920" y="4800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3809880" y="5486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0"/>
          <p:cNvSpPr/>
          <p:nvPr/>
        </p:nvSpPr>
        <p:spPr>
          <a:xfrm>
            <a:off x="4343400" y="4800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1"/>
          <p:cNvSpPr/>
          <p:nvPr/>
        </p:nvSpPr>
        <p:spPr>
          <a:xfrm>
            <a:off x="4038480" y="5486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51814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3"/>
          <p:cNvSpPr/>
          <p:nvPr/>
        </p:nvSpPr>
        <p:spPr>
          <a:xfrm>
            <a:off x="4952880" y="54864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0"/>
          <p:cNvSpPr/>
          <p:nvPr/>
        </p:nvSpPr>
        <p:spPr>
          <a:xfrm>
            <a:off x="5033160" y="12952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1"/>
          <p:cNvSpPr/>
          <p:nvPr/>
        </p:nvSpPr>
        <p:spPr>
          <a:xfrm>
            <a:off x="4286520" y="2209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haroni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o find cause and effect, ask two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at happened? 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Chicken Little thinks the sky is f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y did it happen?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An acorn hit her on the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is the acorn hitting her on the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effect 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s that she thinks the sky is f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ontent Placeholder 5" descr="windy day.bmp"/>
          <p:cNvPicPr/>
          <p:nvPr/>
        </p:nvPicPr>
        <p:blipFill>
          <a:blip r:embed="rId1"/>
          <a:stretch/>
        </p:blipFill>
        <p:spPr>
          <a:xfrm>
            <a:off x="533520" y="1863720"/>
            <a:ext cx="4038480" cy="290196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151920" y="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cogn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-and-effect in a 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632520" y="762120"/>
            <a:ext cx="40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happen in a story for a rea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 is called 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Why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ppens is called </a:t>
            </a:r>
            <a:r>
              <a:rPr b="0" i="1" lang="en-US" sz="1800" spc="-1" strike="noStrike">
                <a:solidFill>
                  <a:srgbClr val="c00000"/>
                </a:solidFill>
                <a:latin typeface="Arial"/>
              </a:rPr>
              <a:t>ca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To find cause and effect, ask two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at happened? 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The woman’s hair got all messed up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haron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Why did it happen? </a:t>
            </a:r>
            <a:r>
              <a:rPr b="0" lang="en-US" sz="2400" spc="-1" strike="noStrike">
                <a:solidFill>
                  <a:srgbClr val="c00000"/>
                </a:solidFill>
                <a:latin typeface="Aharoni"/>
                <a:ea typeface="Aharoni"/>
              </a:rPr>
              <a:t>The wind messed up her 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cause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is the w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he </a:t>
            </a:r>
            <a:r>
              <a:rPr b="0" lang="en-US" sz="3200" spc="-1" strike="noStrike">
                <a:solidFill>
                  <a:srgbClr val="c00000"/>
                </a:solidFill>
                <a:latin typeface="Aharoni"/>
                <a:ea typeface="Aharoni"/>
              </a:rPr>
              <a:t>effect 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is that her hair is a me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Content Placeholder 5" descr="windy day.bmp"/>
          <p:cNvPicPr/>
          <p:nvPr/>
        </p:nvPicPr>
        <p:blipFill>
          <a:blip r:embed="rId1"/>
          <a:stretch/>
        </p:blipFill>
        <p:spPr>
          <a:xfrm>
            <a:off x="533520" y="137160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51920" y="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cogn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-and-effect in a 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07T20:38:59Z</dcterms:modified>
  <cp:revision>171</cp:revision>
  <dc:subject/>
  <dc:title>Slide 1</dc:title>
</cp:coreProperties>
</file>