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8A20-5692-4564-9D98-E57A0B2E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9479-0A38-454C-B77B-1A92D7EE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DF04-4D1E-4967-94CC-C3D2C358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B2C5-598F-4AA8-8419-D325F49B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E1B-FD7F-4CB5-9354-29BAFB2F5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1C5D-4695-4EC9-BD4E-6BDABF25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D81-B7A8-4885-991C-5D8431AB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3E3-45BF-47FE-9BD4-A260D6485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E0A8-CE78-495A-ACC9-E9920C106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666-01C2-4CE4-81D0-CF0478B2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96C1-0346-4A9A-B677-EF96B5EB1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DBA-E654-496C-AF7A-D39A5B89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E05-D348-4B69-990D-74676882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C48-9A29-4715-8073-B84A6FB9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0B39-3AEC-4EFA-972A-2895412F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6534-2B80-4C01-B3D9-2F0E4D88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41D-0351-450C-A3F6-2069A8E3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5DE-F5DD-47B0-AB39-4EF09D81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BE57-157D-4B68-847B-C7EC6AFB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64C-8F62-4B33-A9DA-7BE8E5CB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1C6-BF26-4056-8605-47F16F75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F7D-ECFE-4C82-917E-50B29A62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A15-CC6C-476C-8BDC-C0113D03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CA1-5FBE-4EDA-BE14-E9C8A742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A91-48CA-4F90-8169-0E23D17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6EF-4D9A-4432-A943-482F59EB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EA5-54E5-4EA7-B05D-A8403821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612-85E7-4CCF-8577-F78DF7F3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C78-7E60-4BC2-A4AA-B73BCEF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BB1-20CF-437F-AE21-4E1ED44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04C-FD2E-4E94-BD3A-6487CEE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2BC-094B-43A0-ADBB-DADF4CE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A971-1A04-4931-BF66-09BE320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A92-3DC5-4FF2-AAB0-53ECD9AD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sson 19, Day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334120" y="1522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/ Rabbit sleeps under a big/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ttle Rabbit sleeps/ under a big appl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ittle Rabbit hops in the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door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tell my friend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19920" y="0"/>
            <a:ext cx="3124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- To read with fluency in a manner that sounds like natural speech. To group words into meaningful phrases when readi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the apple tree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seed is pla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does planting an apple seed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 apple tree grow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51920" y="0"/>
            <a:ext cx="22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:  To recogn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-and-effect in a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080" y="76212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readers try to figure out what happens and why it happens when they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nd read stories.  What happens is called the effect and why it happen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C:\Documents and Settings\pawley\My Documents\appletree.jpg"/>
          <p:cNvPicPr/>
          <p:nvPr/>
        </p:nvPicPr>
        <p:blipFill>
          <a:blip r:embed="rId1"/>
          <a:stretch/>
        </p:blipFill>
        <p:spPr>
          <a:xfrm>
            <a:off x="304920" y="1828800"/>
            <a:ext cx="37526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C:\Documents and Settings\pawley\My Documents\kids_talking_on_porch.jpg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09480" y="137160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 my signal turn and talk with your partner to 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f I believed _______, I would be very gulli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C:\Documents and Settings\pawley\My Documents\soccer.jpg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6019920" y="0"/>
            <a:ext cx="3124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609480" y="685800"/>
            <a:ext cx="7925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On my signal turn and talk with your partner to complete this st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 always walk </a:t>
            </a:r>
            <a:r>
              <a:rPr b="0" i="1" lang="en-US" sz="4000" spc="-1" strike="noStrike">
                <a:solidFill>
                  <a:srgbClr val="a62a80"/>
                </a:solidFill>
                <a:latin typeface="Arial"/>
              </a:rPr>
              <a:t>hastily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when I go _____________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C:\Documents and Settings\pawley\My Documents\dogbone.jpg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5943600" y="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80880" y="1523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On my signal, turn and talk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complete this st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It would be very </a:t>
            </a:r>
            <a:r>
              <a:rPr b="0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unreasonable</a:t>
            </a:r>
            <a:r>
              <a:rPr b="0" lang="en-US" sz="3600" spc="-1" strike="noStrike">
                <a:solidFill>
                  <a:srgbClr val="000000"/>
                </a:solidFill>
                <a:latin typeface="Aharoni"/>
                <a:ea typeface="Aharoni"/>
              </a:rPr>
              <a:t> if I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Rabbits hop. Frogs leap. Name some other animals. How do they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An animal that can ________ is a 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143000" y="838080"/>
            <a:ext cx="61992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ing words often tell us the color, shape, and siz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escribing words could we add to these sent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is is a 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ook at the 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he kitten pla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I have a tr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248520" y="0"/>
            <a:ext cx="259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b6bcf"/>
                </a:solidFill>
                <a:latin typeface="Arial"/>
              </a:rPr>
              <a:t>Objective:  To expand a sentence by adding words that describ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228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Describing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When springtime com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in his warm winter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a bear wakes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9399"/>
                </a:solidFill>
                <a:latin typeface="Arial"/>
              </a:rPr>
              <a:t>very hungry and thi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2a80"/>
                </a:solidFill>
                <a:latin typeface="Arial"/>
              </a:rPr>
              <a:t>*What describes bear’s 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escription of a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I have a new blue bike. It has lo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red tassels on the handlebars.  It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a little, square basket. My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parkles in the sun! People stop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look at it when I ride b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8001000" y="0"/>
            <a:ext cx="114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You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 you made yesterda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your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scri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048120" y="2971800"/>
            <a:ext cx="327636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5638680" y="48006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019920" y="2971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2437920" y="46483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8380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5867280" y="54864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 To do a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choral reading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f a po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343400" y="457200"/>
            <a:ext cx="4800600" cy="56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Can You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MCj00884440000[1]"/>
          <p:cNvPicPr/>
          <p:nvPr/>
        </p:nvPicPr>
        <p:blipFill>
          <a:blip r:embed="rId1"/>
          <a:stretch/>
        </p:blipFill>
        <p:spPr>
          <a:xfrm>
            <a:off x="922320" y="1905120"/>
            <a:ext cx="3260880" cy="3533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6"/>
          <p:cNvSpPr/>
          <p:nvPr/>
        </p:nvSpPr>
        <p:spPr>
          <a:xfrm>
            <a:off x="553320" y="53352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ok of Rhymes and Poe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r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cognize individual phonemes in word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5181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C:\Documents and Settings\pawley\My Documents\plant.jpg"/>
          <p:cNvPicPr/>
          <p:nvPr/>
        </p:nvPicPr>
        <p:blipFill>
          <a:blip r:embed="rId1"/>
          <a:stretch/>
        </p:blipFill>
        <p:spPr>
          <a:xfrm>
            <a:off x="5562720" y="1447920"/>
            <a:ext cx="31287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809880" y="1295280"/>
            <a:ext cx="53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3733920" y="3124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5105520" y="3124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5105520" y="4038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733920" y="5105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962520" y="5105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4876920" y="51055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4343400" y="1295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426888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5257800" y="1295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181480" y="2209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477120" y="0"/>
            <a:ext cx="2666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- To use /e/ e, ee, ea and other known letter sounds to decode word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07T20:40:20Z</dcterms:modified>
  <cp:revision>173</cp:revision>
  <dc:subject/>
  <dc:title>Slide 1</dc:title>
</cp:coreProperties>
</file>