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033C-D747-4B5B-923E-3C3817B3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4C88-6540-436F-BE1D-ABDAAA6CA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D69-1374-47A2-982E-6FDAC97DA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AE7F-9F88-48CE-BFA1-D8A5692CC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B46-39D3-408E-9BCC-3CEC6957D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B1F4-52A8-401A-B7ED-2180DB29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D754-DF55-4FDC-8D06-355C6CB2D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0F3B-1264-4B69-AE8D-F9C3103F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D3ED-DC00-4CC9-9757-B2D377FDC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DF0A-9CF6-4841-9670-B44FA8EB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B982-1799-4683-A42F-E3A2373C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1933-0139-4620-95FE-D44CD458B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FE61-D432-4694-A315-BD010241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E079-F6A4-4BED-A90E-867A8576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B694-A7BC-4D3F-B2D1-23EC32288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A1E8-F2EA-44EA-A839-E0C5F2D62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B5AE-D089-4841-B564-2773AB372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2CBF-12CF-432E-A181-B8C0F0E44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D90-B549-4973-8424-E6D6F3F1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3CC-DFB6-491B-8AD1-77C6266D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1E5-C9D1-461A-ACA3-6568CF26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955-01D2-4276-B348-E584077D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D2D-2B87-42D9-9CBB-043D8F88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E53-F020-4E68-A9D6-CC069A7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3175-E012-4C8A-AD80-55DE1DE4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7A3-BABD-4876-BA12-0DDCB62F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ABE-5A71-44E1-A0F8-9DAEC61F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601-A2F8-4F7C-B3A7-3B57FE5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B24-38A5-44BA-845D-B5E130A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CCC-2BBE-425A-99F6-7E23B2DA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FE1D-F42E-40E1-BFE4-C9624D720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533520" y="5335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urs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9, Day 4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28600" y="0"/>
            <a:ext cx="815328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contractions are a shorter way to say two words.  The apostrophe in a contraction stands for the missing letters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2590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343400" y="259092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52280" y="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are the contractions in the following sentences and what do they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’ve sung this song bef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We’re going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52280" y="0"/>
            <a:ext cx="861084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e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on the green tea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a new soccer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the ball!  Kick it to 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kicking the ball we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3049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use /e/ e, ee, ea and other known letter-sounds to spell and 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762120" y="1676520"/>
            <a:ext cx="79246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80880" y="0"/>
            <a:ext cx="83059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9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t’s read the sentences with our spelling words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with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 c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t your shoes on y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e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m sat down in he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does this word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a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ea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won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turtle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low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s travel on the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o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to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u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g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v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5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3809880" y="5486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403848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4952880" y="54864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503316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428652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533520" y="380880"/>
            <a:ext cx="830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066680" y="669960"/>
            <a:ext cx="2667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705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5486400" y="914400"/>
            <a:ext cx="2286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9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4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4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4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4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4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4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3049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bjective: To express personal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457200" y="1447920"/>
            <a:ext cx="8153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37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cognize cause and effect while listening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685800" y="1447920"/>
            <a:ext cx="8001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28600" y="457200"/>
            <a:ext cx="8686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t’s reread a story we are familiar with.  We will read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ear Wants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 we read let’s see if we can find the cause and effect of this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Remember that what happens in a story is the effect and why it happens is the ca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What happens again and again in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What is the setting of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was the effect of the story (what happened in the story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cause the bear to get stu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9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9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4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4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l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09720" y="1523880"/>
            <a:ext cx="3429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believe everything you hear, even very silly things, you are gulli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ccffff"/>
              </a:gs>
              <a:gs pos="100000">
                <a:srgbClr val="3f939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ull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6858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ull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lieved the boy could f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kids_talking_on_porch"/>
          <p:cNvPicPr/>
          <p:nvPr/>
        </p:nvPicPr>
        <p:blipFill>
          <a:blip r:embed="rId1"/>
          <a:stretch/>
        </p:blipFill>
        <p:spPr>
          <a:xfrm>
            <a:off x="380880" y="1657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7"/>
          <p:cNvSpPr/>
          <p:nvPr/>
        </p:nvSpPr>
        <p:spPr>
          <a:xfrm>
            <a:off x="3962520" y="1447920"/>
            <a:ext cx="1523880" cy="1066680"/>
          </a:xfrm>
          <a:prstGeom prst="wedgeEllipseCallout">
            <a:avLst>
              <a:gd name="adj1" fmla="val -44476"/>
              <a:gd name="adj2" fmla="val 6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" y="1752480"/>
            <a:ext cx="1523880" cy="1067040"/>
          </a:xfrm>
          <a:prstGeom prst="wedgeEllipseCallout">
            <a:avLst>
              <a:gd name="adj1" fmla="val 70731"/>
              <a:gd name="adj2" fmla="val 29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f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91440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you think that you are very gullible to believe something I say, then point to me and say, “You’re so gullibl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sun i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uncle has a pet dinosa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t might rain tomor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grandma’s cat can t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5c97b"/>
              </a:gs>
              <a:gs pos="100000">
                <a:srgbClr val="66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ast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 things hastily, you are doing them in a big hurry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572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r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st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et the soccer ball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soccer"/>
          <p:cNvPicPr/>
          <p:nvPr/>
        </p:nvPicPr>
        <p:blipFill>
          <a:blip r:embed="rId1"/>
          <a:stretch/>
        </p:blipFill>
        <p:spPr>
          <a:xfrm>
            <a:off x="228600" y="200664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0" y="0"/>
            <a:ext cx="914400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will describe some situations.  If it is a situation in which you should move hastily then you should run in place and say, “Move hastily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dog is chasing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am picking some flo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’m outside and it’s starting to pour down 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ome one yells, “Fire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5486400" y="1981080"/>
            <a:ext cx="34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unreasonable, you would do things that don’t make s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894d2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ason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6094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be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so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b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dogbone"/>
          <p:cNvPicPr/>
          <p:nvPr/>
        </p:nvPicPr>
        <p:blipFill>
          <a:blip r:embed="rId1"/>
          <a:stretch/>
        </p:blipFill>
        <p:spPr>
          <a:xfrm>
            <a:off x="762120" y="2133720"/>
            <a:ext cx="4343400" cy="29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28600" y="304920"/>
            <a:ext cx="87631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will say some things.  If you think that they are unreasonable, then you should shake your head and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t’s so unreasonabl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ild a house all by my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do my homework when I ge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’m going to take my dog for a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y every toy in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533520"/>
            <a:ext cx="891540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What fruits grow on tre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ich are your favo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n my signal, turn and talk to your partner to complete this 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______________grow on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My favorite fruit is a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identify and use describing words that tell about color, size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762120" y="1447920"/>
            <a:ext cx="7848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scrib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04920" y="4724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describing words tell about a thing.  They could tell about the shape, size, and color of a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228600" y="0"/>
            <a:ext cx="84582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t’s see if we can pick out the describing words in the following sentences.  Some of them may not have any describing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iny brown bird sits in it’s little brown n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ot is a big black 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ring me the red b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us the tallest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cat jumped on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tiny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5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5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52280" y="0"/>
            <a:ext cx="8839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Objective: To select a focu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descriptive word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sensory details i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304920" y="1523880"/>
            <a:ext cx="8610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riting a descriptiv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ry about a th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Diagram 5"/>
          <p:cNvGrpSpPr/>
          <p:nvPr/>
        </p:nvGrpSpPr>
        <p:grpSpPr>
          <a:xfrm>
            <a:off x="1030680" y="780480"/>
            <a:ext cx="7311240" cy="4993920"/>
            <a:chOff x="1030680" y="780480"/>
            <a:chExt cx="7311240" cy="4993920"/>
          </a:xfrm>
        </p:grpSpPr>
        <p:sp>
          <p:nvSpPr>
            <p:cNvPr id="155" name="_s1028"/>
            <p:cNvSpPr/>
            <p:nvPr/>
          </p:nvSpPr>
          <p:spPr>
            <a:xfrm flipH="1">
              <a:off x="28584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29"/>
            <p:cNvSpPr/>
            <p:nvPr/>
          </p:nvSpPr>
          <p:spPr>
            <a:xfrm>
              <a:off x="10306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0"/>
            <p:cNvSpPr/>
            <p:nvPr/>
          </p:nvSpPr>
          <p:spPr>
            <a:xfrm>
              <a:off x="4686120" y="390132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31"/>
            <p:cNvSpPr/>
            <p:nvPr/>
          </p:nvSpPr>
          <p:spPr>
            <a:xfrm>
              <a:off x="3772080" y="4525560"/>
              <a:ext cx="1827360" cy="124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ack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oo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2"/>
            <p:cNvSpPr/>
            <p:nvPr/>
          </p:nvSpPr>
          <p:spPr>
            <a:xfrm>
              <a:off x="55998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3"/>
            <p:cNvSpPr/>
            <p:nvPr/>
          </p:nvSpPr>
          <p:spPr>
            <a:xfrm>
              <a:off x="6513840" y="2652840"/>
              <a:ext cx="182808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quar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4"/>
            <p:cNvSpPr/>
            <p:nvPr/>
          </p:nvSpPr>
          <p:spPr>
            <a:xfrm flipV="1">
              <a:off x="4686120" y="202824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5"/>
            <p:cNvSpPr/>
            <p:nvPr/>
          </p:nvSpPr>
          <p:spPr>
            <a:xfrm>
              <a:off x="3772080" y="78048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d brick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6"/>
            <p:cNvSpPr/>
            <p:nvPr/>
          </p:nvSpPr>
          <p:spPr>
            <a:xfrm>
              <a:off x="37720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tall bri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0" y="3049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saw a red brick building downtown.  It has big black doors in the front.  It has lots of little square windows.  Many windows have flower boxes with lots of red flowers. I really like the huge flagpole out fr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8600" y="304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respond to a poem through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914400"/>
            <a:ext cx="8305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 are going to read a poem today call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wo Little Apples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I want you to listen as I read it once.  Then you will read it along with me and do what the poem says.  On the third time we read it, I would like for you to turn to your partner and act out the poem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04920" y="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hanging on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smiling a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hook that tree as hard as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wn came the apples. Mm! Mm!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Do these motions with the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1 – hold your arms out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2 – Form smiles with your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3 – Pretend to shake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4 – Fall to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304920" y="380880"/>
            <a:ext cx="8686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808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 – To read 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8600" y="914400"/>
            <a:ext cx="38862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r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495680" y="1371600"/>
            <a:ext cx="3886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04920" y="457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286000" y="14479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Phone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Substit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838080"/>
            <a:ext cx="186372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7315200" y="3962520"/>
            <a:ext cx="1676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65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ubstitute phonemes to say new w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6" descr="C:\Users\Janice\AppData\Local\Microsoft\Windows\Temporary Internet Files\Content.IE5\2HQSZRSD\MCj04281070000[1].wmf"/>
          <p:cNvPicPr/>
          <p:nvPr/>
        </p:nvPicPr>
        <p:blipFill>
          <a:blip r:embed="rId1"/>
          <a:stretch/>
        </p:blipFill>
        <p:spPr>
          <a:xfrm>
            <a:off x="0" y="152280"/>
            <a:ext cx="2200320" cy="1959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2590920" y="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0" y="23623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parrot squawked out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changed the /b/ into an /f/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808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cognize and read contractions ‘ve and ‘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48:33Z</dcterms:created>
  <dc:creator>Valued Gateway Client</dc:creator>
  <dc:description/>
  <dc:language>en-US</dc:language>
  <cp:lastModifiedBy>mworsham</cp:lastModifiedBy>
  <dcterms:modified xsi:type="dcterms:W3CDTF">2010-02-07T20:55:22Z</dcterms:modified>
  <cp:revision>10</cp:revision>
  <dc:subject/>
  <dc:title>Slide 1</dc:title>
</cp:coreProperties>
</file>