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6A46-BDCC-4E64-B21E-04AA38315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9F6B-BC60-4A28-B6F8-DC50F460D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EE31-0FE0-4ABB-BE57-D2ACF5432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9C35-CFFE-46DF-817D-9A3DE0499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499A-1B7F-4F8B-9B75-682B4D3C7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D021-134F-4A44-B9CC-703F661D2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E0F0-CB1E-4465-9458-02F487214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6C71-40A9-45BB-BBDA-78E76F534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0C7A-0330-483F-A290-175B32BA8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70E1-A921-48CD-A6E2-3041330F3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E8E-2081-4BCF-A213-87963C02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114-979F-4762-8FBC-C31D07E3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837-FD00-414C-9716-724CE2C8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86F-092B-4EC0-8625-2137D4B1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1E1-D591-478B-B54B-4633E7C2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E26-1441-4E4E-9AA4-776496A5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BE9-CFA8-4BAF-B14D-F532634B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7FD-68E4-400A-896C-A5D6C3BD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6C6-457F-459F-AAAB-73705755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39E-D42F-4BFF-9FB9-D34165D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E414-9E0B-4A15-9FE0-2E39E8C3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71F-A66D-4C2C-9AFA-CBC8DFF2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48EF-4DE6-44FC-8680-9F3A8425D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5335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ri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anuary 30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9 Day 4 and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905200" y="22860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286000"/>
            <a:ext cx="83818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parrot squawked out m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changed the /m/ into an /ch/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228600"/>
            <a:ext cx="1863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3808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cognize and read contractions ‘ve and ‘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44792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trac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0"/>
            <a:ext cx="815328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contractions are a shorter way to say two words.  The apostrophe in a contraction stands for the missing letters. 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590920"/>
            <a:ext cx="297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e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y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590920"/>
            <a:ext cx="2895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are the contractions in the following sentences and what do they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’ve sung this song bef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We’re going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0"/>
            <a:ext cx="861084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We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on the green tea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I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a new soccer 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v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got the ball!  Kick it to 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You’re</a:t>
            </a: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 kicking the ball we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492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use /e/ e, ee, ea and other known letter-sounds to spell and 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62120" y="1676520"/>
            <a:ext cx="79246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0"/>
            <a:ext cx="83059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7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t’s read the sentences with our spelling words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with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you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 c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t your shoes on y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fe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im sat down in he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a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at does this word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a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ea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won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turtle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low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s travel on the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oa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 to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u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g is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ov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276720"/>
            <a:ext cx="76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362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42670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ee, ea, 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809880" y="1295280"/>
            <a:ext cx="1905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657600" y="2209680"/>
            <a:ext cx="2209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65760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8862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4191120" y="31240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105520" y="3124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3886200" y="4038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4267080" y="40384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105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3733920" y="4800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809880" y="54864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4343400" y="4800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4038480" y="5486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51814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4952880" y="54864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503316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4286520" y="2209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haroni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049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bjective: To express personal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47920"/>
            <a:ext cx="81532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e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657600" y="12952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9880" y="236232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191120" y="327672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3505320" y="3276720"/>
            <a:ext cx="1447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733920" y="4267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4191120" y="426708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75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75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75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can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e are on a t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Would you like to come to see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It’s just down the ro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You can come with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Can Dan meet with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haroni"/>
                <a:ea typeface="Aharoni"/>
              </a:rPr>
              <a:t>Our coach can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0880"/>
            <a:ext cx="830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669960"/>
            <a:ext cx="26672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h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m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t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914400"/>
            <a:ext cx="228600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72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cognize cause and effect while listening to a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447920"/>
            <a:ext cx="8001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use and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457200"/>
            <a:ext cx="86868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Let’s reread a story we are familiar with.  We will read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Bear Wants 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 we read let’s see if we can find the cause and effect of this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Remember that what happens in a story is the effect and why it happens is the ca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What happens again and again in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What is the setting of this sto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hat was the effect of the story (what happened in the story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at cause the bear to get stu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8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80"/>
                </a:solidFill>
                <a:latin typeface="Arial"/>
              </a:rPr>
              <a:t>Cause and Effe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T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ffect – wha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Cause – why it happen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hicken Li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corn hit Chicken Litt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ttle Rabbit’s T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 apple hit Little Rabbi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 thought the sky was fall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r Wants M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ar ate too much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ear got stuc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l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t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reason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09720" y="1523880"/>
            <a:ext cx="3429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believe everything you hear, even very silly things, you are gulli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ccffff"/>
              </a:gs>
              <a:gs pos="100000">
                <a:srgbClr val="3f939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ulli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685800" y="5638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ull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elieved the boy could f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165744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62520" y="1447920"/>
            <a:ext cx="1523880" cy="1066680"/>
          </a:xfrm>
          <a:prstGeom prst="wedgeEllipseCallout">
            <a:avLst>
              <a:gd name="adj1" fmla="val -44476"/>
              <a:gd name="adj2" fmla="val 64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w! Real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752480"/>
            <a:ext cx="1523880" cy="1067040"/>
          </a:xfrm>
          <a:prstGeom prst="wedgeEllipseCallout">
            <a:avLst>
              <a:gd name="adj1" fmla="val 70731"/>
              <a:gd name="adj2" fmla="val 29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fl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f you think that you are very gullible to believe something I say, then point to me and say, “You’re so gullible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sun is in the sk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uncle has a pet dinosau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t might rain tomorr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y grandma’s cat can tal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891540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What fruits grow on tre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hich are your favori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On my signal, turn and talk to your partner to complete this 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______________grow on tr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My favorite fruit is a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5c97b"/>
              </a:gs>
              <a:gs pos="100000">
                <a:srgbClr val="66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hastily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do things hastily, you are doing them in a big hurry.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5720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r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st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et the soccer ball fir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2006640"/>
            <a:ext cx="5334120" cy="3554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 will describe some situations.  If it is a situation in which you should move hastily then you should run in place and say, “Move hastily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dog is chasing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am picking some flow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’m outside and it’s starting to pour down r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ome one yells, “Fire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5486400" y="1981080"/>
            <a:ext cx="34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unreasonable, you would do things that don’t make sen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3894d2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reason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609480" y="5257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was be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reason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his b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4343400" cy="2985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04920"/>
            <a:ext cx="876312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will say some things.  If you think that they are unreasonable, then you should shake your head and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at’s so unreasonabl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ild a house all by my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do my homework when I ge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’m going to take my dog for a w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going to buy every toy in the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Which request is courte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y I please watch something e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op being unreasonab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Which person does something devio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Mike gives his little sister a hu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Amy hides in back of the couch to scare her 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4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4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9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9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5228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Arial"/>
              </a:rPr>
              <a:t>What moves rapidly or hasti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soap bubbles float to the grou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blue race car is in the le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Which person is more gull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ary thinks the moon is made of chee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John thinks that water helps plants gr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identify and use describing words that tell about color, size and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62120" y="1447920"/>
            <a:ext cx="78483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escrib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724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Remember that describing words tell about a thing.  They could tell about the shape, size, and color of a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0"/>
            <a:ext cx="84582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Let’s see if we can pick out the describing words in the following sentences.  Some of them may not have any describing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tiny brown bird sits in it’s little brown n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ot is a big black 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Bring me the red b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ow us the tallest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cat jumped on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I see a tiny bee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94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08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0"/>
            <a:ext cx="8839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Objective: To select a focu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descriptive words whe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To use sensory details in wri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523880"/>
            <a:ext cx="8610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riting a descriptiv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ry about a th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for color, size, a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describe"/>
          <p:cNvPicPr/>
          <p:nvPr/>
        </p:nvPicPr>
        <p:blipFill>
          <a:blip r:embed="rId1"/>
          <a:stretch/>
        </p:blipFill>
        <p:spPr>
          <a:xfrm rot="21379800">
            <a:off x="1295280" y="98064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8600"/>
            <a:ext cx="800100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les come in different colors – red, green, and yellow.  Which kind is your favori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On my signal, turn and talk to your partner and fill in this 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 like _______________apples the best because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030680" y="780480"/>
            <a:ext cx="7311240" cy="4993920"/>
            <a:chOff x="1030680" y="780480"/>
            <a:chExt cx="7311240" cy="4993920"/>
          </a:xfrm>
        </p:grpSpPr>
        <p:sp>
          <p:nvSpPr>
            <p:cNvPr id="173" name="_s64526"/>
            <p:cNvSpPr/>
            <p:nvPr/>
          </p:nvSpPr>
          <p:spPr>
            <a:xfrm flipH="1">
              <a:off x="28584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4525"/>
            <p:cNvSpPr/>
            <p:nvPr/>
          </p:nvSpPr>
          <p:spPr>
            <a:xfrm>
              <a:off x="10306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64524"/>
            <p:cNvSpPr/>
            <p:nvPr/>
          </p:nvSpPr>
          <p:spPr>
            <a:xfrm>
              <a:off x="4686120" y="390132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64523"/>
            <p:cNvSpPr/>
            <p:nvPr/>
          </p:nvSpPr>
          <p:spPr>
            <a:xfrm>
              <a:off x="3772080" y="4525560"/>
              <a:ext cx="1827360" cy="124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lack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doo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4522"/>
            <p:cNvSpPr/>
            <p:nvPr/>
          </p:nvSpPr>
          <p:spPr>
            <a:xfrm>
              <a:off x="5599800" y="3277080"/>
              <a:ext cx="91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4521"/>
            <p:cNvSpPr/>
            <p:nvPr/>
          </p:nvSpPr>
          <p:spPr>
            <a:xfrm>
              <a:off x="6513840" y="2652840"/>
              <a:ext cx="182808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quar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64520"/>
            <p:cNvSpPr/>
            <p:nvPr/>
          </p:nvSpPr>
          <p:spPr>
            <a:xfrm flipV="1">
              <a:off x="4686120" y="2028240"/>
              <a:ext cx="0" cy="6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4519"/>
            <p:cNvSpPr/>
            <p:nvPr/>
          </p:nvSpPr>
          <p:spPr>
            <a:xfrm>
              <a:off x="3772080" y="78048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d brick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4518"/>
            <p:cNvSpPr/>
            <p:nvPr/>
          </p:nvSpPr>
          <p:spPr>
            <a:xfrm>
              <a:off x="3772080" y="2652840"/>
              <a:ext cx="1827360" cy="124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tall bri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saw a red brick building downtown.  It has big black doors in the front.  It has lots of little square windows.  Many windows have flower boxes with lots of red flowers. I really like the huge flagpole out fr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: To respond to a poem through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914400"/>
            <a:ext cx="83055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e are going to read a poem today called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wo Little Apples.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I want you to listen as I read it once.  Then you will read it along with me and do what the poem says.  On the third time we read it, I would like for you to turn to your partner and act out the poem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0"/>
            <a:ext cx="85341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hanging on a t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little apples smiling at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hook that tree as hard as I c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wn came the apples. Mm! Mm! Go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Do these motions with the p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1 – hold your arms out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2 – Form smiles with your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3 – Pretend to shake a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Line 4 – Fall to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04920" y="380880"/>
            <a:ext cx="8686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Objective – To read high-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914400"/>
            <a:ext cx="86868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r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ubstitute phonemes to say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144792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b010b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Phone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0b0"/>
                </a:solidFill>
                <a:latin typeface="Arial"/>
              </a:rPr>
              <a:t>Substit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C:\Users\Janice\AppData\Local\Microsoft\Windows\Temporary Internet Files\Content.IE5\N13ABA2C\MCj04298090000[1].wmf"/>
          <p:cNvPicPr/>
          <p:nvPr/>
        </p:nvPicPr>
        <p:blipFill>
          <a:blip r:embed="rId1"/>
          <a:stretch/>
        </p:blipFill>
        <p:spPr>
          <a:xfrm>
            <a:off x="457200" y="838080"/>
            <a:ext cx="1863720" cy="266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C:\Users\Janice\AppData\Local\Microsoft\Windows\Temporary Internet Files\Content.IE5\N13ABA2C\MCj04298090000[1].wmf"/>
          <p:cNvPicPr/>
          <p:nvPr/>
        </p:nvPicPr>
        <p:blipFill>
          <a:blip r:embed="rId2"/>
          <a:stretch/>
        </p:blipFill>
        <p:spPr>
          <a:xfrm>
            <a:off x="7315200" y="3962520"/>
            <a:ext cx="1676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ubstitute phonemes to say new w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6" descr="C:\Users\Janice\AppData\Local\Microsoft\Windows\Temporary Internet Files\Content.IE5\2HQSZRSD\MCj04281070000[1].wmf"/>
          <p:cNvPicPr/>
          <p:nvPr/>
        </p:nvPicPr>
        <p:blipFill>
          <a:blip r:embed="rId1"/>
          <a:stretch/>
        </p:blipFill>
        <p:spPr>
          <a:xfrm>
            <a:off x="0" y="152280"/>
            <a:ext cx="2200320" cy="19591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2590920" y="0"/>
            <a:ext cx="33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une:  The Farmer in the 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0" y="23623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parrot squawked out 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Oh, what a noisy bi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changed the /b/ into an /f/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this is what he heard: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7:48:33Z</dcterms:created>
  <dc:creator>Valued Gateway Client</dc:creator>
  <dc:description/>
  <dc:language>en-US</dc:language>
  <cp:lastModifiedBy> </cp:lastModifiedBy>
  <dcterms:modified xsi:type="dcterms:W3CDTF">2009-01-30T04:05:48Z</dcterms:modified>
  <cp:revision>8</cp:revision>
  <dc:subject/>
  <dc:title>Slide 1</dc:title>
</cp:coreProperties>
</file>