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5FF9-C1FB-4667-B468-A37906430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D8BD-46F8-47F1-BAC9-CC3D560E8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337E-C6E7-469D-8397-394CBE940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E374-DE7F-4048-A71E-421563C6E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3CC1-E1A2-4083-8D67-B2A72AABB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E67-4734-44E9-8821-538761F4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051-8F64-426A-98A4-B08CA5CA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42D8-C937-420A-9C29-801C54A3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2D0-7A20-44DF-A8B2-49766B40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7180-7A54-41A4-A3BA-5A15D2B2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BE0C-9711-4F32-80D6-BDE0C906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203C-382F-41D0-8276-4D616779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F457-7AF9-4ACE-AA66-441D70B3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EC8E-DD6B-4DBC-948F-9F8CBE3E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32A2-C42C-4A09-826C-13E70AED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9900-CB06-4584-A04C-A81EF626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825-B02A-4286-B037-6A459624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B4F8-52B1-47F7-A389-64831130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83CC-719D-4EEB-9FEE-25B18C7E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36AD-667B-45F7-8CB9-0CEA3F8A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1DD9-08CC-499E-8BA4-28AA7D73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C57B-AF5C-4CCF-8A37-3C4C8306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98C-AA0B-4BE7-A3E9-A3E774E7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084-A824-4F54-846D-37FCF8AD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B15-DEAF-49E9-B09C-F9A72AA5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F96-6A85-4AC5-BD3F-21E53ED8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E82-6787-4BDE-B707-74BF3A51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A35-AC98-41AC-BCD5-7728AED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A2B-DF33-420F-AD0B-B9C79B09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CD99-B685-40FA-929D-0AC72DF36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0DB8-5BDB-46C3-9E30-1237C587E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533520" y="5335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ri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9, Day 5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3049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use /e/ e, ee, ea and other known letter-sounds to spell and write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762120" y="1371600"/>
            <a:ext cx="78483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4057560"/>
            <a:ext cx="9372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ime for our spelling test.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9000" y="1371600"/>
            <a:ext cx="838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657600" y="12952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80988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3733920" y="327672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124080" y="327672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3581280" y="42670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3962520" y="4267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75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75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75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533520" y="380880"/>
            <a:ext cx="830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066680" y="669960"/>
            <a:ext cx="2667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705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486400" y="914400"/>
            <a:ext cx="2286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wh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0" y="372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Objective: To recognize cause and effect while listening to a 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685800" y="1447920"/>
            <a:ext cx="8001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80"/>
                </a:solidFill>
                <a:latin typeface="Calibri"/>
              </a:rPr>
              <a:t>Cause and Effec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ffect – wha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ause – why i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hicken Li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corn hit Chicken Litt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ttle Rabbit’s T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pple hit Little Rabb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r Wants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ar ate too muc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ear got stuc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libri"/>
              </a:rPr>
              <a:t>Which request is courte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May I please watch something el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top being unreasonabl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Calibri"/>
              </a:rPr>
              <a:t>Which person does something deviou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alibri"/>
              </a:rPr>
              <a:t>Mike gives his little sister a hu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alibri"/>
              </a:rPr>
              <a:t>Amy hides in back of the couch to scare her da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0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0" y="15228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Calibri"/>
              </a:rPr>
              <a:t>What moves rapidly or hastil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he soap bubbles float to the groun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he blue race car is in the lea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Calibri"/>
              </a:rPr>
              <a:t>Which person is more gullib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Mary thinks the moon is made of chees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John thinks that water helps plants gro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8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80880" y="228600"/>
            <a:ext cx="800100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pples come in different colors – red, green, and yellow.  Which kind is your favori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libri"/>
              </a:rPr>
              <a:t>On my signal, turn and talk to your partner and fill in this st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alibri"/>
              </a:rPr>
              <a:t>I like _______________apples the best because _____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04920" y="0"/>
            <a:ext cx="8534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wo Little Ap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wo little apples hanging on a tre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wo little apples smiling at 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 shook that tree as hard as I cou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own came the apples. Mm! Mm! Goo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Do these motions with the po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1 – hold your arms out stra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2 – Form smiles with your h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3 – Pretend to shake a 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Line 4 – Fall to the 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304920" y="380880"/>
            <a:ext cx="8686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808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alibri"/>
              </a:rPr>
              <a:t>Objective – To read high-frequency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914400"/>
            <a:ext cx="38862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ur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495680" y="1371600"/>
            <a:ext cx="3886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k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a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04920" y="457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286000" y="14479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Calibr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Calibr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Calibri"/>
              </a:rPr>
              <a:t>Phone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Calibri"/>
              </a:rPr>
              <a:t>Substitu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838080"/>
            <a:ext cx="186372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5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7315200" y="3962520"/>
            <a:ext cx="1676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4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905200" y="22860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2286000"/>
            <a:ext cx="83818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The parrot squawked out ma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He changed the /m/ into an /ch/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80880" y="3808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alibri"/>
              </a:rPr>
              <a:t>Objective: To recognize and read contractions ‘ve and ‘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685800" y="14479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ac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28600" y="0"/>
            <a:ext cx="815328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Remember that contractions are a shorter way to say two words.  The apostrophe in a contraction stands for the missing letters. 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57200" y="259092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’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ou’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343400" y="2590920"/>
            <a:ext cx="2895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You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You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ey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52280" y="0"/>
            <a:ext cx="861084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We’r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on the green team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I’v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got a new soccer ba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You’v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got the ball!  Kick it to m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You’re</a:t>
            </a:r>
            <a:r>
              <a:rPr b="1" lang="en-US" sz="5400" spc="-1" strike="noStrike">
                <a:solidFill>
                  <a:srgbClr val="33cc33"/>
                </a:solidFill>
                <a:latin typeface="Calibri"/>
              </a:rPr>
              <a:t> kicking the ball well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20:41:09Z</dcterms:created>
  <dc:creator>mworsham</dc:creator>
  <dc:description/>
  <dc:language>en-US</dc:language>
  <cp:lastModifiedBy>mworsham</cp:lastModifiedBy>
  <dcterms:modified xsi:type="dcterms:W3CDTF">2010-02-07T20:55:15Z</dcterms:modified>
  <cp:revision>1</cp:revision>
  <dc:subject/>
  <dc:title>Slide 1</dc:title>
</cp:coreProperties>
</file>