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95D-B19D-43C2-8585-F842006A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ABF-BA6A-4433-A208-1D96BF23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61F-F53F-49B1-B648-5400C05D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1FD-5794-4815-A13D-15522465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3D7-476D-43F9-BDC8-C9D1688D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39A-A59B-44EB-B557-F8675DF4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A56-C14B-45F8-87E4-827D1C3D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8492-12D2-4A83-87C4-0CAFD2A9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C6A-9FD7-4480-8454-D573B867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0F3-D135-4726-BAD1-A5C181D8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CA1-8E4A-4C48-AE21-4F6E5DFC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E02-E03C-4181-83A7-9F1BC0EC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1651-9B41-481C-BEBD-6F40C5B86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380880"/>
            <a:ext cx="838224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ptember 2, 200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 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bjective: To use /a/ a and other known letter-sounds to read words; to read words with double consonants and final consonants blends; to recognize spelling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1295280"/>
            <a:ext cx="8763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Build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20574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2057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666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2666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3352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33526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3962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396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3962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0"/>
            <a:ext cx="8458200" cy="75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My cats like to n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A cat naps in a ba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Cats nap in my cap and in my h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Look what I have in my h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Tap, tap, t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The cats ran fa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Objective: To recognize spelling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880" y="457200"/>
            <a:ext cx="8458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143000"/>
            <a:ext cx="80773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5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0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5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3049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76212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igh Frequency Word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81080"/>
            <a:ext cx="80773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4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4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bjective: To use prior knowledge and selection information to make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1066680"/>
            <a:ext cx="8001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redi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96252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Remember when we make predictions we try to determine what comes next in a story. We can look at the title, words and illustrations to help us with making our predictions.  You can also make predictions about a story by using what you know from re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3049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Objective: To develop robust vocabulary to describ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83808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600200"/>
            <a:ext cx="80769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c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533520"/>
            <a:ext cx="838188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cr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When you cram many things into something, you fill it with too much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80880"/>
            <a:ext cx="9144000" cy="9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Arial"/>
              </a:rPr>
              <a:t>(Choral Response) –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Arial"/>
              </a:rPr>
              <a:t>What might happen if you cram things into a backpack – will it be too heavy or too nois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533520"/>
            <a:ext cx="853416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Arial"/>
              </a:rPr>
              <a:t>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If you have a solution to a problem, you know how to fix it.  You have an answ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28600"/>
            <a:ext cx="822960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(Choral response)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What would be a good solution if you forgot your pencil – to go home to get it or to borrow one from a frien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049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participate in a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838080"/>
            <a:ext cx="8229600" cy="563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es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f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457200"/>
            <a:ext cx="84582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strate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Arial"/>
              </a:rPr>
              <a:t>If you have a strategy for something, you have a pla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457200"/>
            <a:ext cx="883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304920"/>
            <a:ext cx="861084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Arial"/>
              </a:rPr>
              <a:t>(Choral Response) –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Arial"/>
              </a:rPr>
              <a:t>What strategy will keep you healthy – eating good food or not sleeping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304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bjective: To identify and use correct word order; to use knowledge of the basic rules of capitalization and punc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990720"/>
            <a:ext cx="8458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Remember that for a sentence to make sense the words have to be in the correct order.  Let’s see if we can put the following sentences in the right order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152280"/>
            <a:ext cx="87631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the Grand Canyon visited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I visited the Grand Cany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went to the zoo w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We went to the z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panda bears saw w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We saw panda b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the beach to I w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I went to the b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saw fish aquarium at the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I saw fish at the aqua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4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0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9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0"/>
            <a:ext cx="853416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How are people and animals a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On my signal, you will turn and talk with your partner to complete the following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n _________ like a 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286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2286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bjective: To participate in a rhyme; to innovate on a 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85800"/>
            <a:ext cx="8458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33"/>
                </a:solidFill>
                <a:latin typeface="Arial"/>
              </a:rPr>
              <a:t>Today we are going to look at the poem </a:t>
            </a:r>
            <a:r>
              <a:rPr b="1" lang="en-US" sz="5400" spc="-1" strike="noStrike" u="sng">
                <a:solidFill>
                  <a:srgbClr val="66ff33"/>
                </a:solidFill>
                <a:uFillTx/>
                <a:latin typeface="Arial"/>
              </a:rPr>
              <a:t>Can You?.</a:t>
            </a:r>
            <a:r>
              <a:rPr b="1" lang="en-US" sz="5400" spc="-1" strike="noStrike">
                <a:solidFill>
                  <a:srgbClr val="66ff33"/>
                </a:solidFill>
                <a:latin typeface="Arial"/>
              </a:rPr>
              <a:t> We will read the poem one time with the questions.  We will read the poem again and answer the question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2280"/>
            <a:ext cx="861048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hop like a rabb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leap like a fr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swim like a 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run like a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fly like a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climb like a c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sit still as a m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s still as t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84582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hop like a rabb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leap like a fr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swim like a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run like a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fly like a b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climb like a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sit still as a m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Just like th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380880"/>
            <a:ext cx="8763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990720"/>
            <a:ext cx="76197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bjective: To blend onsets and rimes to form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06668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Arial"/>
              </a:rPr>
              <a:t>Today you are going to help me say some words.  I will sound out the word first.  You will help me sound out the word on the second time and then you will tell me the w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0"/>
            <a:ext cx="84582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…ug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…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bu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w…i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…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win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m…i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…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mi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h…op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f…a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h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f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…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s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…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2" dur="2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3:11:43Z</dcterms:created>
  <dc:creator>Valued Gateway Client</dc:creator>
  <dc:description/>
  <dc:language>en-US</dc:language>
  <cp:lastModifiedBy>Valued Gateway Client</cp:lastModifiedBy>
  <dcterms:modified xsi:type="dcterms:W3CDTF">2009-08-29T16:50:30Z</dcterms:modified>
  <cp:revision>2</cp:revision>
  <dc:subject/>
  <dc:title>Slide 1</dc:title>
</cp:coreProperties>
</file>