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DD70-05D3-46B6-97BB-5F40FEC9E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65E7-F8AC-41D4-9EE8-7BE5CB3E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DEE0-6614-4E8A-8F46-3119C673A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48BD-EA18-4BD0-B903-7929456E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6E9B-5B75-4F4C-BB09-A9A7A7166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2719-032B-4119-8F86-356E91252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00A6-66C4-46DB-B73B-942884ED3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0CB5-5C9D-44BB-9A27-C2075F7E7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8A62-E89D-4509-A60A-64A2013D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0BC8-E0D5-460B-9622-C9789F60B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2CE-742A-44F9-9FD2-7256703B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E195-2242-4B08-A1D6-5E5FDD05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5C5C-693B-448F-81A9-71B1CFECD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2AF-F93A-4411-99C7-D8939714A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5952-9057-4D39-A589-D1B13B43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A3D4-DC8D-41E5-A515-81D05754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CCDF-D040-4C24-871A-FFFF4C719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4975-3105-4EB3-9D60-713919A0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61F1-38A7-486B-AD0F-E83628C38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03F1-A642-4D3C-9534-44CADCFFF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F0EA-03F2-43CF-8051-9E900370A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CA6-B56C-4488-89A4-AADD0F26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C3D-590F-4D30-9EB2-C697D7F2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E81-66A8-4774-A714-6F405D82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8D5-5431-4A83-B819-5C8065E2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3D8-DD53-4EDE-A0D9-382CE242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8CD-A420-40CF-AB9F-E9417DA3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6D4-6216-4E2F-9682-41123342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E98-4738-42C2-B8F1-97245FD3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617-2312-4D64-B4B3-6BBD417F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C25-7324-4FB8-BC99-B3B6CB8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00D-C89E-45B6-AA5D-500E026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47B-7D66-42B7-9999-7CE306BA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11D5-811D-4CE5-A417-940E22187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20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Kids play all da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Kids in Spain play ta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mmariz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Gam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quipm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- A phrase is a group of two or more words that can be read together in a sentenc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fluently with appropriate phras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MPj04394930000[1]"/>
          <p:cNvPicPr/>
          <p:nvPr/>
        </p:nvPicPr>
        <p:blipFill>
          <a:blip r:embed="rId1"/>
          <a:stretch/>
        </p:blipFill>
        <p:spPr>
          <a:xfrm>
            <a:off x="1600200" y="2590920"/>
            <a:ext cx="6095880" cy="4070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685800" y="1752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“Kids Play”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620120" y="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 To understand characteristics of folkt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The Parts of the House Ar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6" descr="house_off"/>
          <p:cNvPicPr/>
          <p:nvPr/>
        </p:nvPicPr>
        <p:blipFill>
          <a:blip r:embed="rId1"/>
          <a:stretch/>
        </p:blipFill>
        <p:spPr>
          <a:xfrm>
            <a:off x="2362320" y="2209680"/>
            <a:ext cx="4362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grumbling, you are complaining or letting others know you are unhappy about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grumbling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457200" y="5791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s we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umblin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6" descr="DSC00688"/>
          <p:cNvPicPr/>
          <p:nvPr/>
        </p:nvPicPr>
        <p:blipFill>
          <a:blip r:embed="rId1"/>
          <a:stretch/>
        </p:blipFill>
        <p:spPr>
          <a:xfrm>
            <a:off x="1066680" y="1523880"/>
            <a:ext cx="3191040" cy="4257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grum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les of the house starte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umbl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ring the argu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start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grumbl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it starts raining just as I’m going to go outsi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uld you star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grumbl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f you were given a rock for your birthday or if you were given a to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chid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I chided you, I corrected you.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228600" y="6019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not wearing a helmet while skateboar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5" descr="istockphoto_741346-sad-little-boy-sitting-on-his-skateboard"/>
          <p:cNvPicPr/>
          <p:nvPr/>
        </p:nvPicPr>
        <p:blipFill>
          <a:blip r:embed="rId1"/>
          <a:stretch/>
        </p:blipFill>
        <p:spPr>
          <a:xfrm>
            <a:off x="1066680" y="1752480"/>
            <a:ext cx="322272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chi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chid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ther parts of the house for saying they were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friend for burning the cook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being on time or for being 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ere do you shop for f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do you buy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My family shops at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We buy ________  at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5867280" y="1981080"/>
            <a:ext cx="3033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realized something, you suddenly understo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 knew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realiz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7621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iz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my shoes were on backw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3" descr="shoes_on_backwards"/>
          <p:cNvPicPr/>
          <p:nvPr/>
        </p:nvPicPr>
        <p:blipFill>
          <a:blip r:embed="rId1"/>
          <a:stretch/>
        </p:blipFill>
        <p:spPr>
          <a:xfrm>
            <a:off x="152280" y="1962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s of the house stopped arguing when the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hey were all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had left my lunch at home when I couldn’t find my lunch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more likely that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had brown hair or that you could whist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tell them what you say if you were grumbling about the we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tell them what you would say if chided your dog for ba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signal, turn to your partner and tell them what you have realized about being in first 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152280" y="1523880"/>
            <a:ext cx="89917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orning, every member of the large family was sitting around the tab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ouse heard all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u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guing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0"/>
          <p:cNvSpPr/>
          <p:nvPr/>
        </p:nvSpPr>
        <p:spPr>
          <a:xfrm>
            <a:off x="7238880" y="0"/>
            <a:ext cx="1905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and use describing words that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2" descr="la39"/>
          <p:cNvPicPr/>
          <p:nvPr/>
        </p:nvPicPr>
        <p:blipFill>
          <a:blip r:embed="rId1"/>
          <a:stretch/>
        </p:blipFill>
        <p:spPr>
          <a:xfrm>
            <a:off x="1676520" y="0"/>
            <a:ext cx="55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8001000" y="0"/>
            <a:ext cx="1143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5" descr="la40"/>
          <p:cNvPicPr/>
          <p:nvPr/>
        </p:nvPicPr>
        <p:blipFill>
          <a:blip r:embed="rId1"/>
          <a:stretch/>
        </p:blipFill>
        <p:spPr>
          <a:xfrm>
            <a:off x="1862280" y="0"/>
            <a:ext cx="54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7620120" y="0"/>
            <a:ext cx="1523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28600" y="304920"/>
            <a:ext cx="807732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scription of a 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names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ells what you can see, taste, smell, hear, and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elps readers feel ad if they are in th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Dictate a Describing Sent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ur classroom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g and sun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86600" y="22860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th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web of something that you would like to describ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85800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rite using describing words can tell about taste, smell, sound, and fee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2895480" y="3429000"/>
            <a:ext cx="327672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5791320" y="50292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 flipV="1">
            <a:off x="6019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 flipH="1">
            <a:off x="205704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 flipH="1" flipV="1">
            <a:off x="2209320" y="32004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457200" y="586728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1066680" y="2438280"/>
            <a:ext cx="175284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6629400" y="2133720"/>
            <a:ext cx="18288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867280" y="5715000"/>
            <a:ext cx="18288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228600"/>
            <a:ext cx="48006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Constantia"/>
              </a:rPr>
              <a:t>Market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FarmersMarketVeggies"/>
          <p:cNvPicPr/>
          <p:nvPr/>
        </p:nvPicPr>
        <p:blipFill>
          <a:blip r:embed="rId1"/>
          <a:stretch/>
        </p:blipFill>
        <p:spPr>
          <a:xfrm>
            <a:off x="990720" y="167652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ld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ubstitute phonemes to say new wo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MPj04228180000[1]"/>
          <p:cNvPicPr/>
          <p:nvPr/>
        </p:nvPicPr>
        <p:blipFill>
          <a:blip r:embed="rId1"/>
          <a:stretch/>
        </p:blipFill>
        <p:spPr>
          <a:xfrm>
            <a:off x="4724280" y="990720"/>
            <a:ext cx="374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28600"/>
            <a:ext cx="8001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Long vowel /a/ ai, 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334120" y="1752480"/>
            <a:ext cx="3809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begins with the /a/ sound, make an a with you fingers.  When I say a word that does not have /a/, do not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a/ sound in the middle, make an /a/ with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5"/>
          <p:cNvSpPr txBox="1"/>
          <p:nvPr/>
        </p:nvSpPr>
        <p:spPr>
          <a:xfrm>
            <a:off x="533520" y="1600200"/>
            <a:ext cx="40384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52320" y="1371600"/>
            <a:ext cx="838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657600" y="1371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3809880" y="2362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352680" y="2362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572000" y="1371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3657600" y="32767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352680" y="3276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4419720" y="2362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495680" y="3276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3505320" y="4267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3962520" y="4267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a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8098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657600" y="220968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4267080" y="1295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419112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3657600" y="3124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4114800" y="3124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4343400" y="3124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35053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3962520" y="4038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8"/>
          <p:cNvSpPr/>
          <p:nvPr/>
        </p:nvSpPr>
        <p:spPr>
          <a:xfrm>
            <a:off x="4191120" y="4038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40384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876920" y="4038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4648320" y="4800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3809880" y="4800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3657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419112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800600" y="5638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2-15T05:27:51Z</dcterms:modified>
  <cp:revision>134</cp:revision>
  <dc:subject/>
  <dc:title>Slide 1</dc:title>
</cp:coreProperties>
</file>