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E565-9D1A-4B3F-A7F8-0ECE540E7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3219-FEAC-4A9E-9440-8B616C869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CDE0-96AE-4FA9-A2E3-99D5C474D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780D-EF39-4570-BC65-995E28244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BC6F-B9EE-4128-8E5A-51D879E0D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FD97-E7FF-40C5-8D0B-11DED1316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87FC-015B-41C0-A649-4C58BBD29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2471-2EBB-4F90-8CA6-666B2CA2A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41B4-ADE0-457D-9828-7413BCF5B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93BB-3EFE-4028-B54E-856798A5F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5231-7635-4AAA-8787-7295418B3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4741-BCAE-4A07-B638-2E4619125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12F4-E9D6-4EEA-B81F-27B4A3740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2BF6-E92C-43C6-8036-008596EE7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2C3E-9492-4938-83C8-667136DBD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EB1B-BD15-41E0-BB25-6C4E67B0D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E523-6916-4E91-A40B-F9712A539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B30D-0D5E-4F9C-982A-70790CA39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57D6-6FD6-42B7-B2A7-BDEC56761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9C48-A9C6-4E45-8353-8937124FE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1C5C-A504-4672-9921-ACDEA3EC9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5FC0-2B79-4267-9439-DA5A5A5B4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576D-94DA-41B2-988C-AF795934A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3362-85C3-4348-88E2-98DB02453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A361-D304-4467-A2C1-A12FB5A2C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0289-9F18-4389-9C68-E44E00ED1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3E93-3239-4DC0-BD4C-4ABF4883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B4DB-B897-42B4-8227-F07DB7791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4990-4FD2-48F6-800F-C4C5BE735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6B60-EC5D-4FAB-A5B9-A6EC0532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601B-A291-448F-A084-5731F043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E74C-E9C9-4B22-831E-222947F5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8716-5761-45C0-95F9-D90D00DE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4D85-59F1-4E1B-B132-B71E2C9A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789B-D668-4C22-B040-604410D3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C8BD-80E7-4FE5-BA26-447C1E04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084B-067D-4C90-8973-055C1EF9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B295-F73E-48A1-8D22-2E339F8DE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20, Day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Cause and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2520" y="685800"/>
            <a:ext cx="40388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o find cause and effect, ask two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What happened? 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The boy is cry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Why did it happen?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The boy dropped his ice cream on the ro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he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cause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is the boy dropping his ice cr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he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effect 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is that he is cry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Content Placeholder 5" descr="windy day.bmp"/>
          <p:cNvPicPr/>
          <p:nvPr/>
        </p:nvPicPr>
        <p:blipFill>
          <a:blip r:embed="rId1"/>
          <a:stretch/>
        </p:blipFill>
        <p:spPr>
          <a:xfrm>
            <a:off x="2819520" y="3200400"/>
            <a:ext cx="2176200" cy="29019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151920" y="0"/>
            <a:ext cx="225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To recogn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e-and-effect in a t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632520" y="609480"/>
            <a:ext cx="40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gs happen in a story for a rea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ppens is called </a:t>
            </a: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eff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Why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ppens is called </a:t>
            </a: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cau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cry.jpg"/>
          <p:cNvPicPr/>
          <p:nvPr/>
        </p:nvPicPr>
        <p:blipFill>
          <a:blip r:embed="rId2"/>
          <a:stretch/>
        </p:blipFill>
        <p:spPr>
          <a:xfrm>
            <a:off x="533520" y="1523880"/>
            <a:ext cx="329220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133720"/>
            <a:ext cx="5257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haroni"/>
                <a:ea typeface="Aharoni"/>
              </a:rPr>
              <a:t>Cause and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o find cause and effect, ask two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What happened? 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Little Rabbit  thinks the sky is fa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Why did it happen?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An apple hit him on the h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he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cause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is the apple hitting him on the h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he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effect 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is that he thinks the sky is fa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Content Placeholder 5" descr="windy day.bmp"/>
          <p:cNvPicPr/>
          <p:nvPr/>
        </p:nvPicPr>
        <p:blipFill>
          <a:blip r:embed="rId1"/>
          <a:stretch/>
        </p:blipFill>
        <p:spPr>
          <a:xfrm>
            <a:off x="609480" y="2971800"/>
            <a:ext cx="4038840" cy="305424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151920" y="0"/>
            <a:ext cx="225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To recogn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e-and-effect in a t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551520" y="762120"/>
            <a:ext cx="42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we notice cause and effec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ory it helps us understand the s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.  Do you remember the caus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 for Little Rabbit’s Ta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6840" y="-360"/>
            <a:ext cx="3429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s to Kn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Frequenc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c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w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h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f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739400" y="152280"/>
            <a:ext cx="257508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s to Kn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clot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cam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Arc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snowsh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97a0"/>
                </a:solidFill>
                <a:latin typeface="Andalus"/>
                <a:ea typeface="Andalus"/>
              </a:rPr>
              <a:t>Nonfiction selections tell facts about real things in the world.  They often have photos of real people and pl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2362320"/>
          <a:ext cx="8229600" cy="3927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haroni"/>
                          <a:ea typeface="Aharoni"/>
                        </a:rPr>
                        <a:t>Cloth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haroni"/>
                          <a:ea typeface="Aharoni"/>
                        </a:rPr>
                        <a:t>Climat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haroni"/>
                          <a:ea typeface="Aharoni"/>
                        </a:rPr>
                        <a:t>Hom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2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18" name="TextBox 4"/>
          <p:cNvSpPr/>
          <p:nvPr/>
        </p:nvSpPr>
        <p:spPr>
          <a:xfrm>
            <a:off x="2890080" y="1219320"/>
            <a:ext cx="36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0a0"/>
                </a:solidFill>
                <a:latin typeface="Aharoni"/>
                <a:ea typeface="Aharoni"/>
              </a:rPr>
              <a:t>Ways People L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haroni"/>
                <a:ea typeface="Aharoni"/>
              </a:rPr>
              <a:t>by Emily N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Straight Arrow Connector 8"/>
          <p:cNvCxnSpPr/>
          <p:nvPr/>
        </p:nvCxnSpPr>
        <p:spPr>
          <a:xfrm>
            <a:off x="5486400" y="2666520"/>
            <a:ext cx="381600" cy="252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120" name="Straight Arrow Connector 6"/>
          <p:cNvCxnSpPr/>
          <p:nvPr/>
        </p:nvCxnSpPr>
        <p:spPr>
          <a:xfrm flipH="1" flipV="1">
            <a:off x="3292200" y="2667960"/>
            <a:ext cx="365760" cy="1080"/>
          </a:xfrm>
          <a:prstGeom prst="straightConnector1">
            <a:avLst/>
          </a:prstGeom>
          <a:ln w="31680">
            <a:solidFill>
              <a:srgbClr val="0e1e2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umb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iz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252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are grumbling, you are complaining or letting others know you are unhappy about someth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grumbling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457200" y="57913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irls we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umbling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6" descr="DSC00688"/>
          <p:cNvPicPr/>
          <p:nvPr/>
        </p:nvPicPr>
        <p:blipFill>
          <a:blip r:embed="rId1"/>
          <a:stretch/>
        </p:blipFill>
        <p:spPr>
          <a:xfrm>
            <a:off x="1066680" y="1523880"/>
            <a:ext cx="3191040" cy="4257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6019920" y="0"/>
            <a:ext cx="3124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705600" y="762120"/>
            <a:ext cx="68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On my signal, answer this question in one vo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with “yes” or “n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You just won a prize. Would you start grumbl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952200" y="3581280"/>
            <a:ext cx="728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On my signal, answer this question in one vo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with “loudly” or “softly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If you are grumbling about something, do you spe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loudly or soft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5"/>
          <p:cNvSpPr/>
          <p:nvPr/>
        </p:nvSpPr>
        <p:spPr>
          <a:xfrm>
            <a:off x="990720" y="3200400"/>
            <a:ext cx="722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hid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I chided you, I corrected you.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2"/>
          <p:cNvSpPr/>
          <p:nvPr/>
        </p:nvSpPr>
        <p:spPr>
          <a:xfrm>
            <a:off x="228600" y="60199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ild w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i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not wearing a helmet while skateboar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5" descr="istockphoto_741346-sad-little-boy-sitting-on-his-skateboard"/>
          <p:cNvPicPr/>
          <p:nvPr/>
        </p:nvPicPr>
        <p:blipFill>
          <a:blip r:embed="rId1"/>
          <a:stretch/>
        </p:blipFill>
        <p:spPr>
          <a:xfrm>
            <a:off x="1066680" y="1752480"/>
            <a:ext cx="322272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6019920" y="0"/>
            <a:ext cx="3124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720360" y="762120"/>
            <a:ext cx="8127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If you would chide someone who did these things, sh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your finger.  If you would </a:t>
            </a:r>
            <a:r>
              <a:rPr b="0" lang="en-US" sz="2400" spc="-1" strike="noStrike" u="sng">
                <a:solidFill>
                  <a:srgbClr val="7030a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 chide someone who did th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things, do </a:t>
            </a:r>
            <a:r>
              <a:rPr b="0" lang="en-US" sz="2400" spc="-1" strike="noStrike" u="sng">
                <a:solidFill>
                  <a:srgbClr val="7030a0"/>
                </a:solidFill>
                <a:uFillTx/>
                <a:latin typeface="Arial"/>
              </a:rPr>
              <a:t>nothing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eat your snack without per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say mean things to your fri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pour all your crayons on the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buy you an ice c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help you become a better r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fingerwag.jpg"/>
          <p:cNvPicPr/>
          <p:nvPr/>
        </p:nvPicPr>
        <p:blipFill>
          <a:blip r:embed="rId1"/>
          <a:stretch/>
        </p:blipFill>
        <p:spPr>
          <a:xfrm>
            <a:off x="6172200" y="2514600"/>
            <a:ext cx="2413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5867280" y="1981080"/>
            <a:ext cx="3033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realized something, you suddenly understo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r knew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realiz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762120" y="624852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liz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my shoes were on backw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3" descr="shoes_on_backwards"/>
          <p:cNvPicPr/>
          <p:nvPr/>
        </p:nvPicPr>
        <p:blipFill>
          <a:blip r:embed="rId1"/>
          <a:stretch/>
        </p:blipFill>
        <p:spPr>
          <a:xfrm>
            <a:off x="152280" y="196200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things do children like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like to ________ because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6019920" y="0"/>
            <a:ext cx="3124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724320" y="762120"/>
            <a:ext cx="849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haroni"/>
                <a:ea typeface="Aharoni"/>
              </a:rPr>
              <a:t>On my signal, turn and talk to your partner to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haroni"/>
                <a:ea typeface="Aharoni"/>
              </a:rPr>
              <a:t>something you realized after reading “Ways People Live.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haroni"/>
                <a:ea typeface="Aharoni"/>
              </a:rPr>
              <a:t>Be prepared to complete this 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haroni"/>
                <a:ea typeface="Aharoni"/>
              </a:rPr>
              <a:t>When I read “Ways People Live,” I realized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haroni"/>
                <a:ea typeface="Aharoni"/>
              </a:rPr>
              <a:t>___________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and use describing words that tell about taste, smell, sound, and fe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152280" y="1523880"/>
            <a:ext cx="8991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haroni"/>
                <a:ea typeface="Aharoni"/>
              </a:rPr>
              <a:t>Safe at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haroni"/>
                <a:ea typeface="Aharoni"/>
              </a:rPr>
              <a:t>There’s a growling noise outside like a b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haroni"/>
                <a:ea typeface="Aharoni"/>
              </a:rPr>
              <a:t>There’s a musty smell like wet leaves in the 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haroni"/>
                <a:ea typeface="Aharoni"/>
              </a:rPr>
              <a:t>But inside my house, I feel cozy and wa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haroni"/>
                <a:ea typeface="Aharoni"/>
              </a:rPr>
              <a:t>I’m safe and I’m dry here away from the st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066680" y="8380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6bcf"/>
                </a:solidFill>
                <a:latin typeface="Aharoni"/>
                <a:ea typeface="Aharoni"/>
              </a:rPr>
              <a:t>Can you find the describing words in this po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7620120" y="0"/>
            <a:ext cx="1523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write using describing words can tell about taste, smell, sound, and fe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228600" y="304920"/>
            <a:ext cx="8077320" cy="54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scription of a P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names th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ells what you can see, taste, smell, hear, and fe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elps readers feel as if they are in th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Which sentence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makes you feel like you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were ther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he birds flew over our bo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216d"/>
                </a:solidFill>
                <a:latin typeface="Arial"/>
              </a:rPr>
              <a:t>Our little sailboat rocked with excitement wh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216d"/>
                </a:solidFill>
                <a:latin typeface="Arial"/>
              </a:rPr>
              <a:t>the large screeching eagles swooped low over 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216d"/>
                </a:solidFill>
                <a:latin typeface="Arial"/>
              </a:rPr>
              <a:t>head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7086600" y="22860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can tell about taste, smell, sound, and fee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1219320" y="541008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haroni"/>
                <a:ea typeface="Aharoni"/>
              </a:rPr>
              <a:t>You can use descriptive words to make your writing more interesting to a rea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ve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new descriptive web or use yesterday’s web to work on your sentence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858000" y="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can tell about taste, smell, sound, and fee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6"/>
          <p:cNvSpPr/>
          <p:nvPr/>
        </p:nvSpPr>
        <p:spPr>
          <a:xfrm>
            <a:off x="2895480" y="3429000"/>
            <a:ext cx="3276720" cy="19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5791320" y="502920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 flipV="1">
            <a:off x="6019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9"/>
          <p:cNvSpPr/>
          <p:nvPr/>
        </p:nvSpPr>
        <p:spPr>
          <a:xfrm flipH="1">
            <a:off x="2057040" y="502920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0"/>
          <p:cNvSpPr/>
          <p:nvPr/>
        </p:nvSpPr>
        <p:spPr>
          <a:xfrm flipH="1" flipV="1">
            <a:off x="2209320" y="320040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1"/>
          <p:cNvSpPr/>
          <p:nvPr/>
        </p:nvSpPr>
        <p:spPr>
          <a:xfrm>
            <a:off x="457200" y="5867280"/>
            <a:ext cx="18288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"/>
          <p:cNvSpPr/>
          <p:nvPr/>
        </p:nvSpPr>
        <p:spPr>
          <a:xfrm>
            <a:off x="1066680" y="2438280"/>
            <a:ext cx="175284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3"/>
          <p:cNvSpPr/>
          <p:nvPr/>
        </p:nvSpPr>
        <p:spPr>
          <a:xfrm>
            <a:off x="6629400" y="2133720"/>
            <a:ext cx="182880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4"/>
          <p:cNvSpPr/>
          <p:nvPr/>
        </p:nvSpPr>
        <p:spPr>
          <a:xfrm>
            <a:off x="5867280" y="5715000"/>
            <a:ext cx="18288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7" descr="FarmersMarketVeggies"/>
          <p:cNvPicPr/>
          <p:nvPr/>
        </p:nvPicPr>
        <p:blipFill>
          <a:blip r:embed="rId1"/>
          <a:stretch/>
        </p:blipFill>
        <p:spPr>
          <a:xfrm>
            <a:off x="2209680" y="1523880"/>
            <a:ext cx="5000760" cy="5000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listen for a purpo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209680" y="228600"/>
            <a:ext cx="480060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Read Alou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So Many Children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248400" y="5867280"/>
            <a:ext cx="35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ok of Rhymes and Poem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 3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haroni"/>
                <a:ea typeface="Aharoni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hu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d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told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ould</a:t>
            </a:r>
            <a:r>
              <a:rPr b="1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o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ca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10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lete phonemes to make new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240" y="8380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5" descr="C:\Users\Janice\AppData\Local\Microsoft\Windows\Temporary Internet Files\Content.IE5\N13ABA2C\MCj04298090000[1].wmf"/>
          <p:cNvPicPr/>
          <p:nvPr/>
        </p:nvPicPr>
        <p:blipFill>
          <a:blip r:embed="rId1"/>
          <a:stretch/>
        </p:blipFill>
        <p:spPr>
          <a:xfrm>
            <a:off x="457200" y="228600"/>
            <a:ext cx="18637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6" descr="C:\Users\Janice\AppData\Local\Microsoft\Windows\Temporary Internet Files\Content.IE5\N13ABA2C\MCj04298090000[1].wmf"/>
          <p:cNvPicPr/>
          <p:nvPr/>
        </p:nvPicPr>
        <p:blipFill>
          <a:blip r:embed="rId2"/>
          <a:stretch/>
        </p:blipFill>
        <p:spPr>
          <a:xfrm>
            <a:off x="6095880" y="2057400"/>
            <a:ext cx="186372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352320" y="1371600"/>
            <a:ext cx="838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a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657600" y="1371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3809880" y="2362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3352680" y="2362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4572000" y="1371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3657600" y="327672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6"/>
          <p:cNvSpPr/>
          <p:nvPr/>
        </p:nvSpPr>
        <p:spPr>
          <a:xfrm>
            <a:off x="3352680" y="327672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7"/>
          <p:cNvSpPr/>
          <p:nvPr/>
        </p:nvSpPr>
        <p:spPr>
          <a:xfrm>
            <a:off x="4419720" y="2362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3"/>
          <p:cNvSpPr/>
          <p:nvPr/>
        </p:nvSpPr>
        <p:spPr>
          <a:xfrm>
            <a:off x="4495680" y="32767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7"/>
          <p:cNvSpPr/>
          <p:nvPr/>
        </p:nvSpPr>
        <p:spPr>
          <a:xfrm>
            <a:off x="3505320" y="4267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1"/>
          <p:cNvSpPr/>
          <p:nvPr/>
        </p:nvSpPr>
        <p:spPr>
          <a:xfrm>
            <a:off x="3962520" y="42670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a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809880" y="12952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3657600" y="2209680"/>
            <a:ext cx="914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4267080" y="1295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2"/>
          <p:cNvSpPr/>
          <p:nvPr/>
        </p:nvSpPr>
        <p:spPr>
          <a:xfrm>
            <a:off x="4191120" y="2209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3"/>
          <p:cNvSpPr/>
          <p:nvPr/>
        </p:nvSpPr>
        <p:spPr>
          <a:xfrm>
            <a:off x="3657600" y="3124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4"/>
          <p:cNvSpPr/>
          <p:nvPr/>
        </p:nvSpPr>
        <p:spPr>
          <a:xfrm>
            <a:off x="4114800" y="31240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5"/>
          <p:cNvSpPr/>
          <p:nvPr/>
        </p:nvSpPr>
        <p:spPr>
          <a:xfrm>
            <a:off x="4343400" y="3124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6"/>
          <p:cNvSpPr/>
          <p:nvPr/>
        </p:nvSpPr>
        <p:spPr>
          <a:xfrm>
            <a:off x="3505320" y="4038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7"/>
          <p:cNvSpPr/>
          <p:nvPr/>
        </p:nvSpPr>
        <p:spPr>
          <a:xfrm>
            <a:off x="3962520" y="4038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8"/>
          <p:cNvSpPr/>
          <p:nvPr/>
        </p:nvSpPr>
        <p:spPr>
          <a:xfrm>
            <a:off x="4191120" y="4038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9"/>
          <p:cNvSpPr/>
          <p:nvPr/>
        </p:nvSpPr>
        <p:spPr>
          <a:xfrm>
            <a:off x="4038480" y="48006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0"/>
          <p:cNvSpPr/>
          <p:nvPr/>
        </p:nvSpPr>
        <p:spPr>
          <a:xfrm>
            <a:off x="4876920" y="40384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1"/>
          <p:cNvSpPr/>
          <p:nvPr/>
        </p:nvSpPr>
        <p:spPr>
          <a:xfrm>
            <a:off x="4648320" y="48006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2"/>
          <p:cNvSpPr/>
          <p:nvPr/>
        </p:nvSpPr>
        <p:spPr>
          <a:xfrm>
            <a:off x="3809880" y="48006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3"/>
          <p:cNvSpPr/>
          <p:nvPr/>
        </p:nvSpPr>
        <p:spPr>
          <a:xfrm>
            <a:off x="3657600" y="56386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4"/>
          <p:cNvSpPr/>
          <p:nvPr/>
        </p:nvSpPr>
        <p:spPr>
          <a:xfrm>
            <a:off x="4191120" y="56386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5"/>
          <p:cNvSpPr/>
          <p:nvPr/>
        </p:nvSpPr>
        <p:spPr>
          <a:xfrm>
            <a:off x="4800600" y="56386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38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haroni"/>
                <a:ea typeface="Aharoni"/>
              </a:rPr>
              <a:t>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haroni"/>
                <a:ea typeface="Aharoni"/>
              </a:rPr>
              <a:t>s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haroni"/>
                <a:ea typeface="Aharoni"/>
              </a:rPr>
              <a:t>pl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haroni"/>
                <a:ea typeface="Aharoni"/>
              </a:rPr>
              <a:t>pla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haroni"/>
                <a:ea typeface="Aharoni"/>
              </a:rPr>
              <a:t>ra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5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5886360" y="1752480"/>
            <a:ext cx="15447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haroni"/>
                <a:ea typeface="Aharoni"/>
              </a:rPr>
              <a:t>wa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haroni"/>
                <a:ea typeface="Aharoni"/>
              </a:rPr>
              <a:t>fe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haroni"/>
                <a:ea typeface="Aharoni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haroni"/>
                <a:ea typeface="Aharoni"/>
              </a:rPr>
              <a:t>do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haroni"/>
                <a:ea typeface="Aharoni"/>
              </a:rPr>
              <a:t>t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Read Words in Con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onstantia"/>
              </a:rPr>
              <a:t>We must wait for the rain to sto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We may have to play in the house all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onstantia"/>
              </a:rPr>
              <a:t>Did you say someth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onstantia"/>
              </a:rPr>
              <a:t>Dad told me to stay 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575"/>
                </a:solidFill>
                <a:latin typeface="Constantia"/>
              </a:rPr>
              <a:t>It is plain that the shoes are too bi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2-15T05:29:38Z</dcterms:modified>
  <cp:revision>164</cp:revision>
  <dc:subject/>
  <dc:title>Slide 1</dc:title>
</cp:coreProperties>
</file>