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ED97-833D-493C-A43E-6763265AA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DD21-A99C-44AC-AAB9-29A7B85F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3067-2734-4294-A814-F25F30EAA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A477-BC16-433F-B03A-B702585A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7A6F-F35C-47E6-A109-37FC1B65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01F5-2399-4D51-870E-D2BB7F183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797C-E605-430E-AA2E-CCB19FA60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F7AA-E9ED-4E98-A0BB-0368BB8DC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2987-0689-4790-A8CF-3A651CD17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715D-BD14-4F2C-AC7B-CF99F622E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29C5-9012-43AC-A3FD-C38133DC8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6E5B-21A9-4374-880B-CC9DAC4B1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F804-D1F2-4A18-BD01-D7826C2C7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DFA3-87F5-4561-8D65-558759F4E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5915-41D4-41D8-B332-2F7B5C0CE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6902-913B-435F-A5AC-607EF4D89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F6CF-4DC6-4FEA-BE69-33322095F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1276-C361-418F-B952-6EA68CE1C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F820-574C-4E22-8903-1D9E249B1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1555-D857-49E0-B9EF-5AC3C5CF4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BB4F-ED8B-479F-A0B0-95E57D12A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CC16-9DDD-4E1E-98F4-3BC98E338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12E7-4048-4510-BFDD-C7AF7EB80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1AE1-2D78-4D40-AE0E-FECAEA7D1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1F6-E012-4B50-891D-04A6DE02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303-B754-49DF-8783-0432DFE5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C4C-807B-4000-9B53-0DEFAE90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B0D-F493-4EA2-876B-940B3F00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DBA-80DB-4FC9-AC3F-FB868297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CFB-3994-4582-B0F1-3141F704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FF3-BDEE-4F94-8EAA-007E6869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017-F2D2-4C86-96CD-588A257B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4405-CDF1-448D-B480-40493FD3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0BB-803B-4B08-9ECC-D319CE49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758-2DAC-4A5B-BF1E-EEAF640F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97B-7EA2-4809-AE43-5F926C43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5A7B-6A6D-4AD7-831C-3792116BE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20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04920" y="2286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3520" y="914400"/>
            <a:ext cx="18288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y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971800" y="990720"/>
            <a:ext cx="56386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*What word has three letters and rhymes with t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*What word has four letters and rhymes with p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*What word has four letters and rhymes with p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*What word has five letters and rhymes with 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3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3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3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3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3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3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Flu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nstantia"/>
              </a:rPr>
              <a:t>In the desert, / the air is very d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Rain will not fall / for many wee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The air is hot / in the daytime / but 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at nigh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20120" y="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ith appropriate phrasing in a manner that sounds like natural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32520" y="609480"/>
            <a:ext cx="40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happen in a story for a rea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Wh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c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57200" y="1523880"/>
            <a:ext cx="7848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e Parts of a House Argu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ame something that happened. Tell what caused it to ha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80880" y="4038480"/>
            <a:ext cx="83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Ways People L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Describe a type of weather from the selection. Tell how the weather affects the way people l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11"/>
          <p:cNvSpPr txBox="1"/>
          <p:nvPr/>
        </p:nvSpPr>
        <p:spPr>
          <a:xfrm>
            <a:off x="2133720" y="22860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Houses</a:t>
            </a:r>
            <a:endParaRPr b="1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7620120" y="0"/>
            <a:ext cx="15238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attentively and responsively to a poem. To review characteristics of poetr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295280" y="1143000"/>
            <a:ext cx="57150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u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aven’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und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i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ts in the ai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i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cks in the 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os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y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he mou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suitable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 porch—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ches begin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jus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lik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ust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ding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C:\Documents and Settings\pawley\My Documents\houseface.JPG"/>
          <p:cNvPicPr/>
          <p:nvPr/>
        </p:nvPicPr>
        <p:blipFill>
          <a:blip r:embed="rId1"/>
          <a:stretch/>
        </p:blipFill>
        <p:spPr>
          <a:xfrm>
            <a:off x="152280" y="1600200"/>
            <a:ext cx="2100240" cy="320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C:\Documents and Settings\pawley\My Documents\open_face_house2_jul_04.jpg"/>
          <p:cNvPicPr/>
          <p:nvPr/>
        </p:nvPicPr>
        <p:blipFill>
          <a:blip r:embed="rId2"/>
          <a:stretch/>
        </p:blipFill>
        <p:spPr>
          <a:xfrm>
            <a:off x="6095880" y="2362320"/>
            <a:ext cx="2887920" cy="2305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"/>
          <p:cNvSpPr/>
          <p:nvPr/>
        </p:nvSpPr>
        <p:spPr>
          <a:xfrm>
            <a:off x="0" y="228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You read the words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tter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w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u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place that is bitterly cold is very, very col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itter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228600" y="55627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mperature in the Arctic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itter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C:\Documents and Settings\pawley\My Documents\bitterly cold.JPG"/>
          <p:cNvPicPr/>
          <p:nvPr/>
        </p:nvPicPr>
        <p:blipFill>
          <a:blip r:embed="rId1"/>
          <a:stretch/>
        </p:blipFill>
        <p:spPr>
          <a:xfrm>
            <a:off x="304920" y="1828800"/>
            <a:ext cx="4724280" cy="3548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5335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457200" y="38088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91fb1"/>
                </a:solidFill>
                <a:latin typeface="Arial"/>
              </a:rPr>
              <a:t>On my signal, answer these questions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91fb1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fb1"/>
                </a:solidFill>
                <a:latin typeface="Arial"/>
              </a:rPr>
              <a:t>*If it were bitterly cold outside, would you want to wear a co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1fb1"/>
                </a:solidFill>
                <a:latin typeface="Arial"/>
              </a:rPr>
              <a:t>*If it were bitterly cold outside, would you want to wear a bathing s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33520" y="41148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Tell what you would wear in a bitterly cold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Arial"/>
              </a:rPr>
              <a:t>On my signal, you will turn and talk with your partner using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I would wear 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wel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 dwelling is a place where people live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228600" y="571500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ain forest, people might live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we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ilt on stilts because there is so much water on the gr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C:\Documents and Settings\pawley\My Documents\dwelling.jpg"/>
          <p:cNvPicPr/>
          <p:nvPr/>
        </p:nvPicPr>
        <p:blipFill>
          <a:blip r:embed="rId1"/>
          <a:stretch/>
        </p:blipFill>
        <p:spPr>
          <a:xfrm>
            <a:off x="457200" y="205740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457200" y="380880"/>
            <a:ext cx="853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n my signal, answer these questions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In your dwelling, do you eat dinner with your fami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*In your dwelling, do you take classes from your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33520" y="35053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scribe a dwelling you have seen or visi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n my signal, you will turn and talk with your partner using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dwelling was _______________.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do something for amusement, you do it for fu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d4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muse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838080" y="5486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ain forest, children swim and play under the waterfall fo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museme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C:\Documents and Settings\pawley\My Documents\waterfall.jpg"/>
          <p:cNvPicPr/>
          <p:nvPr/>
        </p:nvPicPr>
        <p:blipFill>
          <a:blip r:embed="rId1"/>
          <a:stretch/>
        </p:blipFill>
        <p:spPr>
          <a:xfrm>
            <a:off x="914400" y="2209680"/>
            <a:ext cx="4495680" cy="314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Constantia"/>
              </a:rPr>
              <a:t>What would you say to a new frie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I would tell a new friend _________.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457200" y="3808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4592"/>
                </a:solidFill>
                <a:latin typeface="Arial"/>
              </a:rPr>
              <a:t>On my signal, answer these questions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4592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4592"/>
                </a:solidFill>
                <a:latin typeface="Arial"/>
              </a:rPr>
              <a:t>*Would you go to the movies for amus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4592"/>
                </a:solidFill>
                <a:latin typeface="Arial"/>
              </a:rPr>
              <a:t>*Would you clean your room for amus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457200" y="35053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Name something you do during the summer for amus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n my signal, you will turn and talk with your partner using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uring the summer, I ________________.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152280" y="762120"/>
            <a:ext cx="899172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80"/>
                </a:solidFill>
                <a:uFillTx/>
                <a:latin typeface="Aharoni"/>
                <a:ea typeface="Aharoni"/>
              </a:rPr>
              <a:t>The Best Cake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yesterday, we baked a delicious cake.  It had s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a smell as it was baking. The cherry frosting tasted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sweet.  Our hands felt sticky after 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made the frosting.  there was a qu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sound while everyone ate the c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We all decided it was the best ca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haroni"/>
                <a:ea typeface="Aharoni"/>
              </a:rPr>
              <a:t>in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80880" y="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te, Smell, Sound, and F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escription of a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desert, the air is very dry.  Rain will not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ny weeks.  The air is hot in the daytime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 at n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457200" y="4114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What makes this a good description of a pl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457200" y="304920"/>
            <a:ext cx="8305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like to visit the bakery.  The air smells so sweet there.  The rolls have a nice buttery taste.  The big front window lets lots of sunlight in.  The bakery is the most cheerful place I’ve ever be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934320" y="6095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Documents and Settings\pawley\My Documents\bakery.jpg"/>
          <p:cNvPicPr/>
          <p:nvPr/>
        </p:nvPicPr>
        <p:blipFill>
          <a:blip r:embed="rId1"/>
          <a:stretch/>
        </p:blipFill>
        <p:spPr>
          <a:xfrm>
            <a:off x="990720" y="2819520"/>
            <a:ext cx="5562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readers feel as if they are in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ve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new descriptive web or use yesterday’s web to work on your sentenc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85800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6019920" y="34290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2743200" y="50292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 flipH="1" flipV="1">
            <a:off x="4267080" y="28954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1"/>
          <p:cNvSpPr/>
          <p:nvPr/>
        </p:nvSpPr>
        <p:spPr>
          <a:xfrm>
            <a:off x="838080" y="5257800"/>
            <a:ext cx="26672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"/>
          <p:cNvSpPr/>
          <p:nvPr/>
        </p:nvSpPr>
        <p:spPr>
          <a:xfrm>
            <a:off x="2895480" y="1981080"/>
            <a:ext cx="28958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3"/>
          <p:cNvSpPr/>
          <p:nvPr/>
        </p:nvSpPr>
        <p:spPr>
          <a:xfrm>
            <a:off x="6324480" y="2666880"/>
            <a:ext cx="266724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5867280" y="5105520"/>
            <a:ext cx="29718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"/>
          <p:cNvSpPr/>
          <p:nvPr/>
        </p:nvSpPr>
        <p:spPr>
          <a:xfrm flipH="1" flipV="1">
            <a:off x="2361960" y="411444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304920" y="2819520"/>
            <a:ext cx="2438280" cy="167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3429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1371600" y="533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38088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6781680" y="2743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5053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4771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4" descr="C:\Documents and Settings\pawley\My Documents\ear.jpg"/>
          <p:cNvPicPr/>
          <p:nvPr/>
        </p:nvPicPr>
        <p:blipFill>
          <a:blip r:embed="rId1"/>
          <a:stretch/>
        </p:blipFill>
        <p:spPr>
          <a:xfrm>
            <a:off x="1371600" y="3200400"/>
            <a:ext cx="1066680" cy="909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" descr="C:\Documents and Settings\pawley\My Documents\nose.jpg"/>
          <p:cNvPicPr/>
          <p:nvPr/>
        </p:nvPicPr>
        <p:blipFill>
          <a:blip r:embed="rId2"/>
          <a:stretch/>
        </p:blipFill>
        <p:spPr>
          <a:xfrm>
            <a:off x="1600200" y="5715000"/>
            <a:ext cx="939960" cy="75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7" descr="C:\Documents and Settings\pawley\My Documents\eys.jpg"/>
          <p:cNvPicPr/>
          <p:nvPr/>
        </p:nvPicPr>
        <p:blipFill>
          <a:blip r:embed="rId3"/>
          <a:stretch/>
        </p:blipFill>
        <p:spPr>
          <a:xfrm>
            <a:off x="3809880" y="2362320"/>
            <a:ext cx="1067040" cy="52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8" descr="C:\Documents and Settings\pawley\My Documents\taste.jpg"/>
          <p:cNvPicPr/>
          <p:nvPr/>
        </p:nvPicPr>
        <p:blipFill>
          <a:blip r:embed="rId4"/>
          <a:stretch/>
        </p:blipFill>
        <p:spPr>
          <a:xfrm>
            <a:off x="7238880" y="3124080"/>
            <a:ext cx="922320" cy="998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9" descr="C:\Documents and Settings\pawley\My Documents\feel.jpg"/>
          <p:cNvPicPr/>
          <p:nvPr/>
        </p:nvPicPr>
        <p:blipFill>
          <a:blip r:embed="rId5"/>
          <a:stretch/>
        </p:blipFill>
        <p:spPr>
          <a:xfrm>
            <a:off x="6705720" y="5616720"/>
            <a:ext cx="1295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FarmersMarketVeggies"/>
          <p:cNvPicPr/>
          <p:nvPr/>
        </p:nvPicPr>
        <p:blipFill>
          <a:blip r:embed="rId1"/>
          <a:stretch/>
        </p:blipFill>
        <p:spPr>
          <a:xfrm>
            <a:off x="2209680" y="1523880"/>
            <a:ext cx="5000760" cy="5000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09680" y="228600"/>
            <a:ext cx="48006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o Many Children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248400" y="586728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holes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   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move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w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haroni"/>
                <a:ea typeface="Aharoni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Documents and Settings\pawley\My Documents\Sailboat.jpg"/>
          <p:cNvPicPr/>
          <p:nvPr/>
        </p:nvPicPr>
        <p:blipFill>
          <a:blip r:embed="rId1"/>
          <a:stretch/>
        </p:blipFill>
        <p:spPr>
          <a:xfrm>
            <a:off x="5743440" y="1295280"/>
            <a:ext cx="29782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1447920"/>
            <a:ext cx="838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5812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572000" y="1371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45720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3962520" y="327672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3657600" y="3276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44197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800600" y="3276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3886200" y="4267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4267080" y="4267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5181480" y="2362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42900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3657600" y="22096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426708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419112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65760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4114800" y="3124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4724280" y="3124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35053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41911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4876920" y="4038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2"/>
          <p:cNvSpPr/>
          <p:nvPr/>
        </p:nvSpPr>
        <p:spPr>
          <a:xfrm>
            <a:off x="3657600" y="4800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ng Vowel /a/ ai, 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c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r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y pup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“Sit!” 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ants t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ags h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i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sit,” 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ts. Will 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its an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y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or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for my pup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s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pl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haroni"/>
                <a:ea typeface="Aharoni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wa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1371600" y="304920"/>
            <a:ext cx="6324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257800" y="1752480"/>
            <a:ext cx="1406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fe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do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haroni"/>
                <a:ea typeface="Aharoni"/>
              </a:rPr>
              <a:t>t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3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3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3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3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3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3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15T05:33:19Z</dcterms:modified>
  <cp:revision>165</cp:revision>
  <dc:subject/>
  <dc:title>Slide 1</dc:title>
</cp:coreProperties>
</file>