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6C82-8217-42BA-AB69-54DE2B71F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41B4-4D49-421C-9400-C04BEDB6F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9511-DFD2-4CE7-B8B7-BC5ED4532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649F-46E0-4E1E-AEC1-42E8B37CD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B87B-EB89-4055-8B33-4B04549AB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6BEA-1BFB-4249-A065-EEF41DB7F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8BD4-BC43-40C0-A500-C055BA1AC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9E9B-88DF-402D-8902-29737DE48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EC85-68FA-453E-BFF5-4DEF4575F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BBE2-30AC-4C84-84E0-243F4B2E8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A743-3E4F-42D0-B465-E294FEABD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22D8-570D-4797-B07C-2B76FB7A9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5320-826E-44D4-B69A-89ED0C10A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B7FD-D1C6-4D2F-A594-D3B7505A1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65C3-06FE-443C-9C49-5827C41FD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ED05-0042-439C-8FE7-86EDC51BC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322A-D495-4ADD-B77E-595166040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E67F-A3D8-4E51-AD06-F7F7DA2E9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3738-7D09-40AD-A2AC-5C89CE714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A7B-EFBE-48DC-945E-769ED85C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198-C7E3-442C-9D53-FCD4487B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D318-49F7-47EE-84CE-F09B62C5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AFC-6CAE-4475-85E0-B0A588F2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D332-ADD3-4904-846A-2259EA1B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E652-4267-4CE4-A52F-E599C84F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BDCA-16C0-4920-B4E7-1808ABC7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292D-F8DB-48EB-A8DA-51A48131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9CC9-3969-40A3-83AB-E84A14D3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5F6C-8655-4BA4-AE7F-8C100C42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5A91-0C98-4D45-9B26-34E66D1A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AC3-B114-4809-A5DF-AA797724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19BF-04FA-44E8-B37E-F596ECCE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1197-0D36-4B7D-9743-91D6AA6F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F257-C684-4E25-9F0B-6049A799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2094-3505-4867-B117-EB3DA68C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375E-4012-4B37-BC8C-D16F41A1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060-85ED-4CE7-85A4-51D0C913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0A4-5FA6-4958-BCB2-EB724134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0809-C45E-4F70-8BB4-6434637D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5B20-AF6B-40F2-B99B-B29B911F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D94-4E6A-4709-B261-F46C902F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C5C-E11C-460F-9086-CE30F38C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738-6E08-443B-B780-20645E3A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87DA-7148-40A8-9B3B-E8AF18D1F13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A216-3BA9-485D-B49B-07F7828F201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609480" y="685800"/>
            <a:ext cx="76964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20 Day 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0" y="380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ords ending in -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1219320" y="1523880"/>
            <a:ext cx="68580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ra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a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523880" y="1397160"/>
          <a:ext cx="6096240" cy="46148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0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703dff"/>
                          </a:solidFill>
                          <a:uFillTx/>
                          <a:latin typeface="Comic Sans MS"/>
                        </a:rPr>
                        <a:t>Let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t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Comic Sans MS"/>
                        </a:rPr>
                        <a:t>Phonog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ff00"/>
                          </a:solidFill>
                          <a:uFillTx/>
                          <a:latin typeface="Comic Sans MS"/>
                        </a:rPr>
                        <a:t>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t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t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s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p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80880" y="380880"/>
            <a:ext cx="74678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What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ray d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!” sai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We c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 in an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We could make things with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There is no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ain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 yet,” sai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R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We don’t have to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 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Let’s go out to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da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sa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plai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rai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5798160" y="1752480"/>
            <a:ext cx="1544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wai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fee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m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doo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tol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609480" y="152280"/>
            <a:ext cx="685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dff"/>
                </a:solidFill>
                <a:latin typeface="Comic Sans MS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457200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3657600" y="327672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3352680" y="32767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4419720" y="2362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4495680" y="3276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3505320" y="4267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31"/>
          <p:cNvSpPr/>
          <p:nvPr/>
        </p:nvSpPr>
        <p:spPr>
          <a:xfrm>
            <a:off x="3962520" y="4267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098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657600" y="22096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426708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419112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365760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4114800" y="31240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3434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35053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27"/>
          <p:cNvSpPr/>
          <p:nvPr/>
        </p:nvSpPr>
        <p:spPr>
          <a:xfrm>
            <a:off x="3962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28"/>
          <p:cNvSpPr/>
          <p:nvPr/>
        </p:nvSpPr>
        <p:spPr>
          <a:xfrm>
            <a:off x="4191120" y="4038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29"/>
          <p:cNvSpPr/>
          <p:nvPr/>
        </p:nvSpPr>
        <p:spPr>
          <a:xfrm>
            <a:off x="4038480" y="48006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30"/>
          <p:cNvSpPr/>
          <p:nvPr/>
        </p:nvSpPr>
        <p:spPr>
          <a:xfrm>
            <a:off x="4876920" y="4038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31"/>
          <p:cNvSpPr/>
          <p:nvPr/>
        </p:nvSpPr>
        <p:spPr>
          <a:xfrm>
            <a:off x="4648320" y="48006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32"/>
          <p:cNvSpPr/>
          <p:nvPr/>
        </p:nvSpPr>
        <p:spPr>
          <a:xfrm>
            <a:off x="38098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33"/>
          <p:cNvSpPr/>
          <p:nvPr/>
        </p:nvSpPr>
        <p:spPr>
          <a:xfrm>
            <a:off x="365760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34"/>
          <p:cNvSpPr/>
          <p:nvPr/>
        </p:nvSpPr>
        <p:spPr>
          <a:xfrm>
            <a:off x="419112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35"/>
          <p:cNvSpPr/>
          <p:nvPr/>
        </p:nvSpPr>
        <p:spPr>
          <a:xfrm>
            <a:off x="480060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914400" y="990720"/>
            <a:ext cx="7010280" cy="27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 and Eff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52280" y="304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identify causes and effe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457200" y="4267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member that the effect is what happened in the story and the cause is why it happen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228600" y="380880"/>
            <a:ext cx="746748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e will read the story of The Little Red Hen.  As we read the story I want you to listen and see if you can find the cause and effect of this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at happened when the bread was all bak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y did this happe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523880" y="1397160"/>
          <a:ext cx="6553440" cy="4063680"/>
        </p:xfrm>
        <a:graphic>
          <a:graphicData uri="http://schemas.openxmlformats.org/drawingml/2006/table">
            <a:tbl>
              <a:tblPr/>
              <a:tblGrid>
                <a:gridCol w="3124440"/>
                <a:gridCol w="3429000"/>
              </a:tblGrid>
              <a:tr h="40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hat happen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he Little Red Hen did all the work all by hersel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hy did it happe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a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at, Dog, and Duck would not hel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itter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wel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mus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4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457200" y="1219320"/>
            <a:ext cx="78487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80880" y="304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listen attentively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place that is bitterly cold is very, very cold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itterly</a:t>
            </a:r>
            <a:endParaRPr b="0" lang="en-US" sz="5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228600" y="55627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mperature in the Arctic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itter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Picture 6" descr="bitterly cold"/>
          <p:cNvPicPr/>
          <p:nvPr/>
        </p:nvPicPr>
        <p:blipFill>
          <a:blip r:embed="rId1"/>
          <a:stretch/>
        </p:blipFill>
        <p:spPr>
          <a:xfrm>
            <a:off x="304920" y="1828800"/>
            <a:ext cx="4724280" cy="35481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7"/>
          <p:cNvSpPr/>
          <p:nvPr/>
        </p:nvSpPr>
        <p:spPr>
          <a:xfrm>
            <a:off x="533520" y="2057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ct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380880" y="0"/>
            <a:ext cx="754380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 will say some things. If you think what I say could be bitterly cold then I want you to pretend to shiver, if not do noth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the Arct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oiling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a freez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a glass of mil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a winter ice sto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a flower gar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5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50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900" fill="hold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welling</a:t>
            </a:r>
            <a:endParaRPr b="0" lang="en-US" sz="5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 dwelling is a place where people live. 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228600" y="571500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rain forest, people might live i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we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ilt on stilts because there is so much water on the ground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6" descr="dwelling"/>
          <p:cNvPicPr/>
          <p:nvPr/>
        </p:nvPicPr>
        <p:blipFill>
          <a:blip r:embed="rId1"/>
          <a:stretch/>
        </p:blipFill>
        <p:spPr>
          <a:xfrm>
            <a:off x="457200" y="205740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533520" y="0"/>
            <a:ext cx="7315200" cy="73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f you think the things that I say are dwellings then you should use your hands and arms to make a house.  If not do not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glo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be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cast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ri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obile h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des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apart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77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9" dur="77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1" dur="77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3" dur="77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1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do something for amusement, you do it for fun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d4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musement</a:t>
            </a:r>
            <a:endParaRPr b="0" lang="en-US" sz="5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838080" y="54864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rain forest, children swim and play under the waterfall fo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museme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6" descr="waterfall"/>
          <p:cNvPicPr/>
          <p:nvPr/>
        </p:nvPicPr>
        <p:blipFill>
          <a:blip r:embed="rId1"/>
          <a:stretch/>
        </p:blipFill>
        <p:spPr>
          <a:xfrm>
            <a:off x="914400" y="2209680"/>
            <a:ext cx="4495680" cy="314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457200" y="0"/>
            <a:ext cx="731520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 will say some things.  If you would do these things for amusement, then you should smile and clap your hands.  If not do not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lay video ga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o home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wash dish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ide a bik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lean your ro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ly a k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go to the pa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wim in a po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77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7" dur="77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9" dur="77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7620120" y="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write using describing words can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228600" y="304920"/>
            <a:ext cx="807732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Description of a Pla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 names the pla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 tells what you can see, taste, smell, hear, and fee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 helps readers feel as if they are in the pla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5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5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Wri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a new descriptive web or use yesterday’s web to work on your sentence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685800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2895480" y="3429000"/>
            <a:ext cx="3276720" cy="1981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5791320" y="50292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8"/>
          <p:cNvSpPr/>
          <p:nvPr/>
        </p:nvSpPr>
        <p:spPr>
          <a:xfrm flipV="1">
            <a:off x="6019920" y="34290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9"/>
          <p:cNvSpPr/>
          <p:nvPr/>
        </p:nvSpPr>
        <p:spPr>
          <a:xfrm flipH="1">
            <a:off x="2743200" y="50292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10"/>
          <p:cNvSpPr/>
          <p:nvPr/>
        </p:nvSpPr>
        <p:spPr>
          <a:xfrm flipH="1" flipV="1">
            <a:off x="4267080" y="28954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838080" y="5257800"/>
            <a:ext cx="2667240" cy="1295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2895480" y="1981080"/>
            <a:ext cx="2895840" cy="10670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6324480" y="2666880"/>
            <a:ext cx="2667240" cy="16002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5867280" y="5105520"/>
            <a:ext cx="2971800" cy="15238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Line 9"/>
          <p:cNvSpPr/>
          <p:nvPr/>
        </p:nvSpPr>
        <p:spPr>
          <a:xfrm flipH="1" flipV="1">
            <a:off x="2361960" y="411444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11"/>
          <p:cNvSpPr/>
          <p:nvPr/>
        </p:nvSpPr>
        <p:spPr>
          <a:xfrm>
            <a:off x="304920" y="2819520"/>
            <a:ext cx="2438280" cy="1676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3429000" y="4191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1371600" y="533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e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380880" y="3505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6781680" y="2743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3505320" y="1981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64771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Picture 22" descr="ear"/>
          <p:cNvPicPr/>
          <p:nvPr/>
        </p:nvPicPr>
        <p:blipFill>
          <a:blip r:embed="rId1"/>
          <a:stretch/>
        </p:blipFill>
        <p:spPr>
          <a:xfrm>
            <a:off x="1371600" y="3200400"/>
            <a:ext cx="1066680" cy="909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" descr="nose"/>
          <p:cNvPicPr/>
          <p:nvPr/>
        </p:nvPicPr>
        <p:blipFill>
          <a:blip r:embed="rId2"/>
          <a:stretch/>
        </p:blipFill>
        <p:spPr>
          <a:xfrm>
            <a:off x="1600200" y="5715000"/>
            <a:ext cx="939960" cy="750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4" descr="eys"/>
          <p:cNvPicPr/>
          <p:nvPr/>
        </p:nvPicPr>
        <p:blipFill>
          <a:blip r:embed="rId3"/>
          <a:stretch/>
        </p:blipFill>
        <p:spPr>
          <a:xfrm>
            <a:off x="3809880" y="2362320"/>
            <a:ext cx="1067040" cy="5270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5" descr="taste"/>
          <p:cNvPicPr/>
          <p:nvPr/>
        </p:nvPicPr>
        <p:blipFill>
          <a:blip r:embed="rId4"/>
          <a:stretch/>
        </p:blipFill>
        <p:spPr>
          <a:xfrm>
            <a:off x="7238880" y="3124080"/>
            <a:ext cx="922320" cy="998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6" descr="feel"/>
          <p:cNvPicPr/>
          <p:nvPr/>
        </p:nvPicPr>
        <p:blipFill>
          <a:blip r:embed="rId5"/>
          <a:stretch/>
        </p:blipFill>
        <p:spPr>
          <a:xfrm>
            <a:off x="6705720" y="5616720"/>
            <a:ext cx="12952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Diagram 5"/>
          <p:cNvGrpSpPr/>
          <p:nvPr/>
        </p:nvGrpSpPr>
        <p:grpSpPr>
          <a:xfrm>
            <a:off x="897120" y="276840"/>
            <a:ext cx="7958160" cy="5850000"/>
            <a:chOff x="897120" y="276840"/>
            <a:chExt cx="7958160" cy="5850000"/>
          </a:xfrm>
        </p:grpSpPr>
        <p:sp>
          <p:nvSpPr>
            <p:cNvPr id="271" name="_s1028"/>
            <p:cNvSpPr/>
            <p:nvPr/>
          </p:nvSpPr>
          <p:spPr>
            <a:xfrm flipH="1" flipV="1">
              <a:off x="2915280" y="2942640"/>
              <a:ext cx="978840" cy="24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_s1029"/>
            <p:cNvSpPr/>
            <p:nvPr/>
          </p:nvSpPr>
          <p:spPr>
            <a:xfrm>
              <a:off x="897120" y="1908000"/>
              <a:ext cx="2066760" cy="1575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TASTE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salty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peanuts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_s1030"/>
            <p:cNvSpPr/>
            <p:nvPr/>
          </p:nvSpPr>
          <p:spPr>
            <a:xfrm flipH="1">
              <a:off x="3665160" y="4064760"/>
              <a:ext cx="604080" cy="63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_s1031"/>
            <p:cNvSpPr/>
            <p:nvPr/>
          </p:nvSpPr>
          <p:spPr>
            <a:xfrm>
              <a:off x="2021400" y="4551120"/>
              <a:ext cx="2066040" cy="1575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SMELL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_s1032"/>
            <p:cNvSpPr/>
            <p:nvPr/>
          </p:nvSpPr>
          <p:spPr>
            <a:xfrm>
              <a:off x="5483520" y="4064760"/>
              <a:ext cx="607680" cy="63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_s1033"/>
            <p:cNvSpPr/>
            <p:nvPr/>
          </p:nvSpPr>
          <p:spPr>
            <a:xfrm>
              <a:off x="5664960" y="4551120"/>
              <a:ext cx="2066040" cy="1575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HEAR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loud honking horns,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people talking,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noisy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_s1034"/>
            <p:cNvSpPr/>
            <p:nvPr/>
          </p:nvSpPr>
          <p:spPr>
            <a:xfrm flipV="1">
              <a:off x="5858280" y="2939760"/>
              <a:ext cx="98172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_s1035"/>
            <p:cNvSpPr/>
            <p:nvPr/>
          </p:nvSpPr>
          <p:spPr>
            <a:xfrm>
              <a:off x="6788520" y="1908000"/>
              <a:ext cx="2066760" cy="1575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FEEL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Hard sidewalks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_s1036"/>
            <p:cNvSpPr/>
            <p:nvPr/>
          </p:nvSpPr>
          <p:spPr>
            <a:xfrm flipV="1">
              <a:off x="4876560" y="1852920"/>
              <a:ext cx="0" cy="78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_s1037"/>
            <p:cNvSpPr/>
            <p:nvPr/>
          </p:nvSpPr>
          <p:spPr>
            <a:xfrm>
              <a:off x="3843360" y="276840"/>
              <a:ext cx="2066040" cy="1575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SEE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Tall buildings, taxis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_s1038"/>
            <p:cNvSpPr/>
            <p:nvPr/>
          </p:nvSpPr>
          <p:spPr>
            <a:xfrm>
              <a:off x="3843360" y="2640600"/>
              <a:ext cx="2066040" cy="157572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Comic Sans MS"/>
                </a:rPr>
                <a:t>City</a:t>
              </a:r>
              <a:endParaRPr b="0" lang="en-US" sz="3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228600" y="0"/>
            <a:ext cx="7848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ow would you describe a city in the morning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dff"/>
                </a:solidFill>
                <a:latin typeface="Comic Sans MS"/>
              </a:rPr>
              <a:t>On my signal, turn and talk with your partner to complete the following 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I might see ____________in a city in the mor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I might hear ___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52280" y="304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Objective: To appreciate the rhythm and rhyme of a po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28600" y="76212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We are going to read a poem today calle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City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.  As we read the poem I want for you to look for two things.  First,  I want you to listen for things that describe a city.  Next, I want you to see if you hear any musical words in the poem (words like song, and sings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152280" y="380880"/>
            <a:ext cx="75438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C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In the morning the cit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Spreads its w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Making a so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In stone that s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In the evening the c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Goes to b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Hanging ligh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About its hea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457200" y="7621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0" y="2970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124080" y="1600200"/>
            <a:ext cx="29718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o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a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k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ur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304920" y="380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substitute phonemes to say new w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WordArt 5"/>
          <p:cNvSpPr txBox="1"/>
          <p:nvPr/>
        </p:nvSpPr>
        <p:spPr>
          <a:xfrm>
            <a:off x="533520" y="1219320"/>
            <a:ext cx="411480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nem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bstitu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0" name="Picture 6" descr="Sailboat"/>
          <p:cNvPicPr/>
          <p:nvPr/>
        </p:nvPicPr>
        <p:blipFill>
          <a:blip r:embed="rId1"/>
          <a:stretch/>
        </p:blipFill>
        <p:spPr>
          <a:xfrm>
            <a:off x="5029200" y="1295280"/>
            <a:ext cx="28195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4"/>
          <p:cNvSpPr txBox="1"/>
          <p:nvPr/>
        </p:nvSpPr>
        <p:spPr>
          <a:xfrm>
            <a:off x="685800" y="1295280"/>
            <a:ext cx="72388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nogram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04920" y="3808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Objective: To read words with phonograms –ay and -a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04920" y="46483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Phonograms are words that have the same endings and rhy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228600" y="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Words ending in -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447920" y="1143000"/>
            <a:ext cx="58672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l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3:19:57Z</dcterms:created>
  <dc:creator>Valued Gateway Client</dc:creator>
  <dc:description/>
  <dc:language>en-US</dc:language>
  <cp:lastModifiedBy>mworsham</cp:lastModifiedBy>
  <dcterms:modified xsi:type="dcterms:W3CDTF">2010-02-15T05:34:26Z</dcterms:modified>
  <cp:revision>5</cp:revision>
  <dc:subject/>
  <dc:title>Slide 1</dc:title>
</cp:coreProperties>
</file>