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gif" ContentType="image/gi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4792-296D-460E-9C52-BA802ADD5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AE4B-AAC3-4670-9BA2-CDFD13BFC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0570-441E-4694-B358-9706B9F44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4A83-1C98-4D9F-9817-41731690A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B9AA-B05B-4A46-BE31-281DC6C80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29CB-9E44-4FA2-9CA0-A473604BA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D334-ACF0-4910-B2CC-63045D0E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1D34-B64F-42EE-9800-DA3D4579C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D2BA-9C5D-4231-8CD7-4D55701AF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76DE-1453-45C6-AE27-EF80C818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B31-47E5-4BA9-888E-D7651FCD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EBD-3D72-4AEE-B72A-B5E33AC9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422-CE76-47F6-9D68-85344318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F4A-E8CD-4BE6-8954-FA977F77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A9C-40C0-402E-849A-34C93F4A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C97-7220-4D2C-A080-744C4D20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6E2E-4BE0-49C5-A9BA-F0F0B4CB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018-F87F-408C-AA1B-DE198185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EA8-86CE-47FF-8E3E-BD90C70B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CD2-ABF6-427A-B3D8-1F8CA5C5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A4A-5EB0-4A99-8FCF-B9B19D9B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AEB-1D8A-49F7-9845-A51ED87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F6C4-2B23-492D-8465-4FB7A12B6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20, Day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57200" y="1295280"/>
            <a:ext cx="198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362320" y="1295280"/>
            <a:ext cx="2590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105520" y="1143000"/>
            <a:ext cx="36576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s could you use when you talk about wea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s might you use when you talk about more than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s are le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se and Eff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auses and eff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990720"/>
          <a:ext cx="8458200" cy="5769000"/>
        </p:xfrm>
        <a:graphic>
          <a:graphicData uri="http://schemas.openxmlformats.org/drawingml/2006/table">
            <a:tbl>
              <a:tblPr/>
              <a:tblGrid>
                <a:gridCol w="2133720"/>
                <a:gridCol w="3124080"/>
                <a:gridCol w="32004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F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y did it happe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Parts of the House Arg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ys Peo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ttle Re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umbl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f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ing your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one voice answer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 with a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 n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Mj02838950000[1]"/>
          <p:cNvPicPr/>
          <p:nvPr/>
        </p:nvPicPr>
        <p:blipFill>
          <a:blip r:embed="rId1"/>
          <a:stretch/>
        </p:blipFill>
        <p:spPr>
          <a:xfrm>
            <a:off x="5181480" y="2209680"/>
            <a:ext cx="3514680" cy="3514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auses and eff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do if you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wel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tterly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y dwelling was bitterly cold, I would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j0185604"/>
          <p:cNvPicPr/>
          <p:nvPr/>
        </p:nvPicPr>
        <p:blipFill>
          <a:blip r:embed="rId1"/>
          <a:stretch/>
        </p:blipFill>
        <p:spPr>
          <a:xfrm>
            <a:off x="4952880" y="1905120"/>
            <a:ext cx="39657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what you would do if you j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had won $100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 my signal, show my what you would do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buy for you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us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y amuse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buy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HundredDollarBill"/>
          <p:cNvPicPr/>
          <p:nvPr/>
        </p:nvPicPr>
        <p:blipFill>
          <a:blip r:embed="rId1"/>
          <a:stretch/>
        </p:blipFill>
        <p:spPr>
          <a:xfrm>
            <a:off x="6248520" y="1295280"/>
            <a:ext cx="23079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4"/>
          <p:cNvSpPr/>
          <p:nvPr/>
        </p:nvSpPr>
        <p:spPr>
          <a:xfrm>
            <a:off x="2514600" y="2057400"/>
            <a:ext cx="4191120" cy="20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H="1" flipV="1">
            <a:off x="2133720" y="1523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V="1">
            <a:off x="6172200" y="16002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6172200" y="380988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 flipH="1">
            <a:off x="2133360" y="38098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762120" y="495288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6172200" y="609480"/>
            <a:ext cx="23623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6248520" y="502920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609480" y="533520"/>
            <a:ext cx="236232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2895480" y="25909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mus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38080" y="838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6553080" y="5334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990720" y="5257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6400800" y="914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2514600" y="2057400"/>
            <a:ext cx="4191120" cy="2057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H="1" flipV="1">
            <a:off x="2133720" y="1523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 flipV="1">
            <a:off x="6172200" y="16002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6172200" y="380988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2133360" y="38098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762120" y="495288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6172200" y="609480"/>
            <a:ext cx="23623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6248520" y="502920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609480" y="533520"/>
            <a:ext cx="236232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895480" y="25909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wel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838080" y="838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6553080" y="5334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990720" y="5257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6400800" y="914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’s a ho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apple tastes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flower smells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train sounds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s sand feels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readers feel ad if they are in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would you describe a city in the ev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might see ______ in a city in the ev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word pictures in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0"/>
            <a:ext cx="4800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Ci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MPj04384540000[1]"/>
          <p:cNvPicPr/>
          <p:nvPr/>
        </p:nvPicPr>
        <p:blipFill>
          <a:blip r:embed="rId1"/>
          <a:stretch/>
        </p:blipFill>
        <p:spPr>
          <a:xfrm>
            <a:off x="1295280" y="2286000"/>
            <a:ext cx="6400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or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495288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say the wor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/r/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you’ll have a new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us what you’ll say. ____ (g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MCj01863340000[1]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ail, -ai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7620120" y="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phonograms –a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4038480" y="5486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ail, -ai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7620120" y="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phonograms –a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a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r40"/>
          <p:cNvPicPr/>
          <p:nvPr/>
        </p:nvPicPr>
        <p:blipFill>
          <a:blip r:embed="rId1"/>
          <a:stretch/>
        </p:blipFill>
        <p:spPr>
          <a:xfrm>
            <a:off x="1733400" y="0"/>
            <a:ext cx="56772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28600" y="609480"/>
            <a:ext cx="182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ou read the underlined words.  I will read the other word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15T05:34:57Z</dcterms:modified>
  <cp:revision>124</cp:revision>
  <dc:subject/>
  <dc:title>Slide 1</dc:title>
</cp:coreProperties>
</file>